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C41C-844B-4130-BC78-3CDB5B7E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256C-6585-43EA-965C-4C3920953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7548-64C3-4E0E-A9F4-76817F172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9909-AE6D-44B4-9CF2-4A88EE8C9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D27E3-454C-4681-83B9-8BD02FB9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8BC82-6DA5-47C8-B99C-C5512CE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913B-3C06-4A25-9FB8-F9E8B53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C3155-7096-4975-AE81-0126AE0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14253-022D-4FCB-A5A6-A0ADC20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E8B6E-4C39-4F50-B5E0-519ECE01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A28E3-64D8-4C1B-A83B-75845F6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B413-701A-40DC-9B89-8BD61035D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EA6C1-E13F-41FA-9F6C-3B47853D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1E6E1-1C68-48F7-909E-0091F3F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97747-E329-4EB2-A126-EAF5799B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7D881-5DE5-4002-B06F-A6238738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6F2EC-6EAD-46E9-AD9D-794AD3DD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A7F2-4117-49AF-AE19-94799CB30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46E7-B697-4139-ADF1-B5D1BDAF5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B999-3FDE-4E19-8ED3-A251164F7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8BC4-0E6F-4846-A6CB-B553A9682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CD32-5712-459A-A281-FDD9E29A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CF74-52B6-4330-8225-C5F0272ED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4083-BFF7-4760-81ED-A71EAC4EE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6DB-C9EE-430E-9B03-06912CA34868}" type="datetime">
              <a:rPr b="0" lang="en-US" sz="1400" spc="-1" strike="noStrike">
                <a:solidFill>
                  <a:srgbClr val="595841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841"/>
                </a:solidFill>
                <a:latin typeface="Arial"/>
              </a:rPr>
              <a:t>[Project Nam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394-70F6-463A-B093-AF7A9F1E9F37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30AF-C726-4C5E-BBF7-D3B6D1C3CA0F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1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Intel® Cilk</a:t>
            </a:r>
            <a:r>
              <a:rPr b="1" lang="en-US" sz="4400" spc="-1" strike="noStrike" baseline="30000">
                <a:solidFill>
                  <a:srgbClr val="3e3e5c"/>
                </a:solidFill>
                <a:latin typeface="Arial"/>
              </a:rPr>
              <a:t>TM</a:t>
            </a: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 Plus</a:t>
            </a:r>
            <a:br>
              <a:rPr sz="4400"/>
            </a:b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Основная часть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Лекция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4. Элементные функции. Функции прикладного программного интерфейса</a:t>
            </a:r>
            <a:endParaRPr b="1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3" name="Rectangle 1026"/>
          <p:cNvSpPr/>
          <p:nvPr/>
        </p:nvSpPr>
        <p:spPr>
          <a:xfrm>
            <a:off x="1332000" y="519264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841"/>
                </a:solidFill>
                <a:latin typeface="Arial"/>
              </a:rPr>
              <a:t>Немнюгин Серге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9AA4-1B2D-4C22-A2FB-7366A8148E91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50920" y="620640"/>
            <a:ext cx="86439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__declspec(vector(scalar(a),linear(x),linear(y)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axpy(float a, float *x, float *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oo(float *restrict x, float *restrict y, float a, int le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axpy(a, x[0:len], y[0:len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16000" y="2781360"/>
            <a:ext cx="6095880" cy="3068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Courier New"/>
              </a:rPr>
              <a:t>Компилятор сгенерирует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Courier New"/>
              </a:rPr>
              <a:t>вот такой код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axpy_4(float a, float x[4],  float y[4]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[:] += a * x[: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 = 0; i &lt; len-3; i += 4) {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xpy_4(a, &amp;x[i], &amp;y[i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; i &lt; len; i++) {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xpy(a, &amp;x[i], &amp;y[i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24F-21D0-463F-AFC3-28E1DBDFCD7A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5280" y="1052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рименения (по предметным областям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зображений (гамма-коррекция и т.д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2e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преобразование между цветовыми пространств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2e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моделирование методом Монте-Кар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238-D56F-4A24-8FD9-A22F7C68A60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324000" y="1484280"/>
            <a:ext cx="568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араллелизм по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 int i=0; i&lt;n; ++i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[i] = f(b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екторный параллел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[0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: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n] = f(b[i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: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n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#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pragma si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0; i&lt;n; ++i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[i] = f(b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полнительные примеры использования отображения фун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C:\tmp\book\trunk\patterns\fig\chap02-map8t.eps"/>
          <p:cNvPicPr/>
          <p:nvPr/>
        </p:nvPicPr>
        <p:blipFill>
          <a:blip r:embed="rId1"/>
          <a:stretch/>
        </p:blipFill>
        <p:spPr>
          <a:xfrm>
            <a:off x="6300720" y="2414520"/>
            <a:ext cx="1981440" cy="10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2F07-D253-4D50-816E-87A505F6629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324000" y="1484280"/>
            <a:ext cx="633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parallel_for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 0, n, [&amp;]( int i 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[i] = f(b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parallel_for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locked_range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int&gt;(0,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[&amp;](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locked_range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int&gt; r 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r.begin(); i!=r.end(); ++i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[i] = f(b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 использования отображения функций в </a:t>
            </a:r>
            <a:r>
              <a:rPr b="1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Threading Building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C:\tmp\book\trunk\patterns\fig\chap02-map8t.eps"/>
          <p:cNvPicPr/>
          <p:nvPr/>
        </p:nvPicPr>
        <p:blipFill>
          <a:blip r:embed="rId1"/>
          <a:stretch/>
        </p:blipFill>
        <p:spPr>
          <a:xfrm>
            <a:off x="5902200" y="2271600"/>
            <a:ext cx="198288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EF9D-EE30-4C33-A57D-1E98C162B26A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5"/>
          <p:cNvSpPr/>
          <p:nvPr/>
        </p:nvSpPr>
        <p:spPr>
          <a:xfrm>
            <a:off x="971640" y="2484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приведения (редукци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0B6D-D0D6-4FE3-9D61-DE0F7E32C729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93"/>
          <p:cNvGrpSpPr/>
          <p:nvPr/>
        </p:nvGrpSpPr>
        <p:grpSpPr>
          <a:xfrm>
            <a:off x="1908000" y="4292640"/>
            <a:ext cx="4895280" cy="1080720"/>
            <a:chOff x="1908000" y="4292640"/>
            <a:chExt cx="4895280" cy="1080720"/>
          </a:xfrm>
        </p:grpSpPr>
        <p:sp>
          <p:nvSpPr>
            <p:cNvPr id="140" name="Rectangle 94"/>
            <p:cNvSpPr/>
            <p:nvPr/>
          </p:nvSpPr>
          <p:spPr>
            <a:xfrm>
              <a:off x="2164680" y="4292640"/>
              <a:ext cx="4500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5"/>
            <p:cNvSpPr/>
            <p:nvPr/>
          </p:nvSpPr>
          <p:spPr>
            <a:xfrm>
              <a:off x="2761200" y="4292640"/>
              <a:ext cx="4528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96"/>
            <p:cNvSpPr/>
            <p:nvPr/>
          </p:nvSpPr>
          <p:spPr>
            <a:xfrm>
              <a:off x="3361320" y="4292640"/>
              <a:ext cx="4492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7"/>
            <p:cNvSpPr/>
            <p:nvPr/>
          </p:nvSpPr>
          <p:spPr>
            <a:xfrm>
              <a:off x="3957480" y="4292640"/>
              <a:ext cx="4528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98"/>
            <p:cNvSpPr/>
            <p:nvPr/>
          </p:nvSpPr>
          <p:spPr>
            <a:xfrm>
              <a:off x="4557600" y="4292640"/>
              <a:ext cx="4492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99"/>
            <p:cNvSpPr/>
            <p:nvPr/>
          </p:nvSpPr>
          <p:spPr>
            <a:xfrm>
              <a:off x="5157000" y="4292640"/>
              <a:ext cx="4492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00"/>
            <p:cNvSpPr/>
            <p:nvPr/>
          </p:nvSpPr>
          <p:spPr>
            <a:xfrm>
              <a:off x="5753880" y="4292640"/>
              <a:ext cx="44928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01"/>
            <p:cNvSpPr/>
            <p:nvPr/>
          </p:nvSpPr>
          <p:spPr>
            <a:xfrm>
              <a:off x="6353280" y="4292640"/>
              <a:ext cx="4500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02"/>
            <p:cNvSpPr/>
            <p:nvPr/>
          </p:nvSpPr>
          <p:spPr>
            <a:xfrm>
              <a:off x="2164680" y="5214600"/>
              <a:ext cx="45000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03"/>
            <p:cNvSpPr/>
            <p:nvPr/>
          </p:nvSpPr>
          <p:spPr>
            <a:xfrm>
              <a:off x="2761200" y="5214600"/>
              <a:ext cx="4528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04"/>
            <p:cNvSpPr/>
            <p:nvPr/>
          </p:nvSpPr>
          <p:spPr>
            <a:xfrm>
              <a:off x="3361320" y="5214600"/>
              <a:ext cx="4492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05"/>
            <p:cNvSpPr/>
            <p:nvPr/>
          </p:nvSpPr>
          <p:spPr>
            <a:xfrm>
              <a:off x="3957480" y="5214600"/>
              <a:ext cx="4528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06"/>
            <p:cNvSpPr/>
            <p:nvPr/>
          </p:nvSpPr>
          <p:spPr>
            <a:xfrm>
              <a:off x="4557600" y="5214600"/>
              <a:ext cx="4492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5157000" y="5214600"/>
              <a:ext cx="4492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8"/>
            <p:cNvSpPr/>
            <p:nvPr/>
          </p:nvSpPr>
          <p:spPr>
            <a:xfrm>
              <a:off x="5753880" y="5214600"/>
              <a:ext cx="449280" cy="158760"/>
            </a:xfrm>
            <a:prstGeom prst="rect">
              <a:avLst/>
            </a:prstGeom>
            <a:solidFill>
              <a:srgbClr val="33cc33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09"/>
            <p:cNvSpPr/>
            <p:nvPr/>
          </p:nvSpPr>
          <p:spPr>
            <a:xfrm>
              <a:off x="6353280" y="5214600"/>
              <a:ext cx="450000" cy="15876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10"/>
            <p:cNvSpPr/>
            <p:nvPr/>
          </p:nvSpPr>
          <p:spPr>
            <a:xfrm>
              <a:off x="2507400" y="456336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11"/>
            <p:cNvSpPr/>
            <p:nvPr/>
          </p:nvSpPr>
          <p:spPr>
            <a:xfrm>
              <a:off x="3703320" y="4563360"/>
              <a:ext cx="6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4900320" y="456336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096600" y="4563360"/>
              <a:ext cx="63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14"/>
            <p:cNvSpPr/>
            <p:nvPr/>
          </p:nvSpPr>
          <p:spPr>
            <a:xfrm>
              <a:off x="2164680" y="4653720"/>
              <a:ext cx="574920" cy="12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15"/>
            <p:cNvSpPr/>
            <p:nvPr/>
          </p:nvSpPr>
          <p:spPr>
            <a:xfrm>
              <a:off x="3379320" y="4628880"/>
              <a:ext cx="6026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16"/>
            <p:cNvSpPr/>
            <p:nvPr/>
          </p:nvSpPr>
          <p:spPr>
            <a:xfrm>
              <a:off x="4566600" y="4624200"/>
              <a:ext cx="611640" cy="8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7"/>
            <p:cNvSpPr/>
            <p:nvPr/>
          </p:nvSpPr>
          <p:spPr>
            <a:xfrm>
              <a:off x="5771880" y="4632120"/>
              <a:ext cx="602640" cy="8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18"/>
            <p:cNvSpPr/>
            <p:nvPr/>
          </p:nvSpPr>
          <p:spPr>
            <a:xfrm>
              <a:off x="2905560" y="4630680"/>
              <a:ext cx="25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19"/>
            <p:cNvSpPr/>
            <p:nvPr/>
          </p:nvSpPr>
          <p:spPr>
            <a:xfrm>
              <a:off x="4101840" y="4635000"/>
              <a:ext cx="252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20"/>
            <p:cNvSpPr/>
            <p:nvPr/>
          </p:nvSpPr>
          <p:spPr>
            <a:xfrm>
              <a:off x="5297760" y="4625640"/>
              <a:ext cx="252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21"/>
            <p:cNvSpPr/>
            <p:nvPr/>
          </p:nvSpPr>
          <p:spPr>
            <a:xfrm>
              <a:off x="6494040" y="4625640"/>
              <a:ext cx="3240" cy="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1908000" y="439992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2528640" y="440892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24"/>
            <p:cNvSpPr/>
            <p:nvPr/>
          </p:nvSpPr>
          <p:spPr>
            <a:xfrm>
              <a:off x="3103920" y="439992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25"/>
            <p:cNvSpPr/>
            <p:nvPr/>
          </p:nvSpPr>
          <p:spPr>
            <a:xfrm>
              <a:off x="3703320" y="4399920"/>
              <a:ext cx="6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4300200" y="4399920"/>
              <a:ext cx="6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4900320" y="439992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5496840" y="4399920"/>
              <a:ext cx="63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6096600" y="439992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30"/>
            <p:cNvSpPr/>
            <p:nvPr/>
          </p:nvSpPr>
          <p:spPr>
            <a:xfrm>
              <a:off x="263304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31"/>
            <p:cNvSpPr/>
            <p:nvPr/>
          </p:nvSpPr>
          <p:spPr>
            <a:xfrm>
              <a:off x="323244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32"/>
            <p:cNvSpPr/>
            <p:nvPr/>
          </p:nvSpPr>
          <p:spPr>
            <a:xfrm>
              <a:off x="3828960" y="4494960"/>
              <a:ext cx="15300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33"/>
            <p:cNvSpPr/>
            <p:nvPr/>
          </p:nvSpPr>
          <p:spPr>
            <a:xfrm>
              <a:off x="442908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34"/>
            <p:cNvSpPr/>
            <p:nvPr/>
          </p:nvSpPr>
          <p:spPr>
            <a:xfrm>
              <a:off x="502884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35"/>
            <p:cNvSpPr/>
            <p:nvPr/>
          </p:nvSpPr>
          <p:spPr>
            <a:xfrm>
              <a:off x="562536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36"/>
            <p:cNvSpPr/>
            <p:nvPr/>
          </p:nvSpPr>
          <p:spPr>
            <a:xfrm>
              <a:off x="6224760" y="4494960"/>
              <a:ext cx="14976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37"/>
            <p:cNvSpPr/>
            <p:nvPr/>
          </p:nvSpPr>
          <p:spPr>
            <a:xfrm>
              <a:off x="2305440" y="4465080"/>
              <a:ext cx="324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38"/>
            <p:cNvSpPr/>
            <p:nvPr/>
          </p:nvSpPr>
          <p:spPr>
            <a:xfrm>
              <a:off x="2905560" y="4465080"/>
              <a:ext cx="25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39"/>
            <p:cNvSpPr/>
            <p:nvPr/>
          </p:nvSpPr>
          <p:spPr>
            <a:xfrm>
              <a:off x="3501720" y="4469760"/>
              <a:ext cx="324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40"/>
            <p:cNvSpPr/>
            <p:nvPr/>
          </p:nvSpPr>
          <p:spPr>
            <a:xfrm>
              <a:off x="4101840" y="4469760"/>
              <a:ext cx="252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41"/>
            <p:cNvSpPr/>
            <p:nvPr/>
          </p:nvSpPr>
          <p:spPr>
            <a:xfrm>
              <a:off x="4698360" y="4469760"/>
              <a:ext cx="252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42"/>
            <p:cNvSpPr/>
            <p:nvPr/>
          </p:nvSpPr>
          <p:spPr>
            <a:xfrm>
              <a:off x="5297760" y="4460760"/>
              <a:ext cx="25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43"/>
            <p:cNvSpPr/>
            <p:nvPr/>
          </p:nvSpPr>
          <p:spPr>
            <a:xfrm>
              <a:off x="5882040" y="4465080"/>
              <a:ext cx="1224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44"/>
            <p:cNvSpPr/>
            <p:nvPr/>
          </p:nvSpPr>
          <p:spPr>
            <a:xfrm>
              <a:off x="6494040" y="4460760"/>
              <a:ext cx="3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45"/>
            <p:cNvSpPr/>
            <p:nvPr/>
          </p:nvSpPr>
          <p:spPr>
            <a:xfrm>
              <a:off x="3703320" y="4737960"/>
              <a:ext cx="63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6"/>
            <p:cNvSpPr/>
            <p:nvPr/>
          </p:nvSpPr>
          <p:spPr>
            <a:xfrm>
              <a:off x="6096600" y="473796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47"/>
            <p:cNvSpPr/>
            <p:nvPr/>
          </p:nvSpPr>
          <p:spPr>
            <a:xfrm>
              <a:off x="2645280" y="4797000"/>
              <a:ext cx="13366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48"/>
            <p:cNvSpPr/>
            <p:nvPr/>
          </p:nvSpPr>
          <p:spPr>
            <a:xfrm>
              <a:off x="5050080" y="4792320"/>
              <a:ext cx="132444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49"/>
            <p:cNvSpPr/>
            <p:nvPr/>
          </p:nvSpPr>
          <p:spPr>
            <a:xfrm>
              <a:off x="4101840" y="4807800"/>
              <a:ext cx="2520" cy="5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50"/>
            <p:cNvSpPr/>
            <p:nvPr/>
          </p:nvSpPr>
          <p:spPr>
            <a:xfrm>
              <a:off x="6494040" y="4798800"/>
              <a:ext cx="3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51"/>
            <p:cNvSpPr/>
            <p:nvPr/>
          </p:nvSpPr>
          <p:spPr>
            <a:xfrm>
              <a:off x="6485040" y="5140080"/>
              <a:ext cx="25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152"/>
            <p:cNvSpPr/>
            <p:nvPr/>
          </p:nvSpPr>
          <p:spPr>
            <a:xfrm>
              <a:off x="6087600" y="4915800"/>
              <a:ext cx="63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53"/>
            <p:cNvSpPr/>
            <p:nvPr/>
          </p:nvSpPr>
          <p:spPr>
            <a:xfrm>
              <a:off x="4019040" y="4988880"/>
              <a:ext cx="234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54"/>
            <p:cNvSpPr/>
            <p:nvPr/>
          </p:nvSpPr>
          <p:spPr>
            <a:xfrm>
              <a:off x="6485040" y="4976280"/>
              <a:ext cx="25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Rectangle 4"/>
          <p:cNvSpPr/>
          <p:nvPr/>
        </p:nvSpPr>
        <p:spPr>
          <a:xfrm>
            <a:off x="395280" y="1125360"/>
            <a:ext cx="842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 реду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яется к сечению массива. Её результат – скалярное зна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sec_reduce(f, a[: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__sec_reduce_add(a[:]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32AD-91F7-48B3-B6B2-94EDDD611A1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95280" y="1125360"/>
            <a:ext cx="842472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е тип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следующими операциями редук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m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max_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min_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ll_z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ll_non_z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ny_nonz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зможность определить пользовательскую операцию приве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type fn(type in1, type in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out = __sec_reduce(fn, identity_value, in[x:y:z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937-96A5-4CDF-86E4-E991BC18257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250920" y="98100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iostrea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unsigned int bitwise_and(unsigned int x, unsigned int y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(x &amp; 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unsigned int a[4] = {5,7,13,15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unsigned int b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Display a:\n" &lt;&lt; a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 = __sec_reduce(bitwise_and, 0xffffffff, a[: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b:\n" &lt;&lt; b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 использования пользовательской операции ре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7AF6-9A43-4240-B073-D2BCCFC1A51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95280" y="10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рименения (по предметным областям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чные опер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2e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бработка изобра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2e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вычисление средних при моделировании методом Мон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Кар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2e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E80-89B6-4416-8AA9-C8978E24118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324000" y="1484280"/>
            <a:ext cx="568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sum = 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__sec_reduce_add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a[i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: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n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#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pragma simd reduction(+:su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sum=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0; i&lt;n; ++i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+= a[i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::reducer_opadd&lt;float&gt; </a:t>
            </a:r>
            <a:r>
              <a:rPr b="0" lang="nn-NO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= 0</a:t>
            </a:r>
            <a:r>
              <a:rPr b="1" lang="nn-NO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 int i=0; i&lt;n; ++i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+= a[i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... = sum.</a:t>
            </a:r>
            <a:r>
              <a:rPr b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get_value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полнительные примеры использования операции ре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C:\tmp\book\trunk\patterns\fig\chap02-reduce8t_tree.eps"/>
          <p:cNvPicPr/>
          <p:nvPr/>
        </p:nvPicPr>
        <p:blipFill>
          <a:blip r:embed="rId1"/>
          <a:stretch/>
        </p:blipFill>
        <p:spPr>
          <a:xfrm>
            <a:off x="6227640" y="2060640"/>
            <a:ext cx="20862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7F39-630B-4070-A48D-F81773B0291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1f2e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1523880"/>
            <a:ext cx="86104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лементные фун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ерации приведения (редук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ерации сбора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пределения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Функции прикладного программного интерфей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сколько советов по повышению производи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47CD-3112-4CA2-A697-4C78D8B9DC5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324000" y="1484280"/>
            <a:ext cx="633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enumerable_thread_specific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float&gt; su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arallel_for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 0, n, [&amp;]( int i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um.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local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) += a[i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... = sum.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ombine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std::plus&lt;float&gt;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um = 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parallel_reduce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locked_range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int&gt;(0,n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0.f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[&amp;](</a:t>
            </a:r>
            <a:r>
              <a:rPr b="1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locked_range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&lt;int&gt; r, float s) -&gt; floa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 int i=r.begin(); i!=r.end(); ++i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 +=  a[i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 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plus&lt;float&gt;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 использования операции редукции в </a:t>
            </a:r>
            <a:r>
              <a:rPr b="1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Intel® Threading Building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C:\tmp\book\trunk\patterns\fig\chap02-reduce8t_tree.eps"/>
          <p:cNvPicPr/>
          <p:nvPr/>
        </p:nvPicPr>
        <p:blipFill>
          <a:blip r:embed="rId1"/>
          <a:stretch/>
        </p:blipFill>
        <p:spPr>
          <a:xfrm>
            <a:off x="6227640" y="2060640"/>
            <a:ext cx="208620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EC1D-D168-4E68-B770-24805A7B7D4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250920" y="2205000"/>
            <a:ext cx="86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прикладного программного интерфей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728-4604-4D0B-9635-EF959477350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95280" y="765000"/>
            <a:ext cx="8424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Функции ППИ позволяют управлять поведением програм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Функции прикладного программного интерфейса (ППИ) используются с заголовочным файлом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/cilk_api.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68360" y="2708280"/>
            <a:ext cx="8207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__cilkrts_set_param(const char* name, const char* 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та функция используется для управления некоторыми параметрами системы исполнения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Cil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ервые 2 параметра строк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nworkers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– значение определяет количество исполнителей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Если данная функция не используется, количество исполнителей задаётся с помощью переменной окружения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NWORKERS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или, по умолчанию, оно равно количеству ядер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анная функция действует только до первого использования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spawn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ли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ilk_f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9DD9-929E-4D3D-A049-7BC5B2A7396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468360" y="620640"/>
            <a:ext cx="820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__cilkrts_get_nworkers(vo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та функция возвращает количество потоков-исполнителей и фиксирует его так, что оно не может быть изменено вызовом функции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__cilkrts_set_param</a:t>
            </a: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льзуется для управления некоторыми параметрами системы исполнения</a:t>
            </a:r>
            <a:r>
              <a:rPr b="0" lang="en-US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Cil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дентификаторы исполнителей не обязательно прнимают непрерывный (последовательный) ряд знач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468360" y="4059360"/>
            <a:ext cx="820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__cilkrts_get_worker_number(vo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та функция возвращает целое значение, показывающее исполнителя, который выполняет функ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BDC-BE7D-4267-8F79-BC79D169DA7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468360" y="620640"/>
            <a:ext cx="820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__cilkrts_get_total_workers(vo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та функция возвращает суммарное количество потоков-исполнителей, включая неактив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4989-C343-4248-89EB-ED506370848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4"/>
          <p:cNvSpPr/>
          <p:nvPr/>
        </p:nvSpPr>
        <p:spPr>
          <a:xfrm>
            <a:off x="611280" y="181764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советов по повышению производи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426-7D8D-4C44-AB04-E9CCAF30CDF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95280" y="765000"/>
            <a:ext cx="84247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тимизируйте в первую очередь последовательный к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ыбор зернистости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избегайте порождения маленьких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тимизируйте зернистость параллельных цик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елкозернистая декомпозиция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=&gt;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большие наклад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х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крупнозернистая декомпозиция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=&gt;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изкий параллелиз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эффективное использование возмож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ычислительной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D8A-7050-4CC1-9362-E5DF4C464FC1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95280" y="765000"/>
            <a:ext cx="8424720" cy="55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птимизируйте кэш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ффе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alse-shar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latile int x[32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f(volatile int *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100000000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+p[0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+p[16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spawn f(&amp;x[0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spawn f(&amp;x[1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spawn f(&amp;x[2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spawn f(&amp;x[3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sync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383-4D30-4B66-A155-E292F23B7B2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B9E-4174-4275-AE4D-7B0AA43FEC2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052640"/>
            <a:ext cx="8280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ффективная векторизация – как её добить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изация в рамк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– не всегда удобная реализ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сширения процессорных инструкц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ing SIMD Extensio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Недостаток – фиксированная длина век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ных опера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34C4-5BC3-47B3-996E-78959D9DFF1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4"/>
          <p:cNvSpPr/>
          <p:nvPr/>
        </p:nvSpPr>
        <p:spPr>
          <a:xfrm>
            <a:off x="1679400" y="2276640"/>
            <a:ext cx="577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ные фун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717B-32FE-4580-A398-BE1C01C2682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765000"/>
            <a:ext cx="84247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Элементные функции формируют результат вычисления скалярной функции для каждого элемента массива (вызов скалярной функции с векторным аргументом формирует массив значений, конформный аргументу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__declspec(vector) &lt;</a:t>
            </a:r>
            <a:r>
              <a:rPr b="0" lang="ru-RU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сигнатура функции</a:t>
            </a: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144F-7F52-4BE7-B4E7-71F678EF3BC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65"/>
          <p:cNvGrpSpPr/>
          <p:nvPr/>
        </p:nvGrpSpPr>
        <p:grpSpPr>
          <a:xfrm>
            <a:off x="1547640" y="4313160"/>
            <a:ext cx="6239880" cy="1054800"/>
            <a:chOff x="1547640" y="4313160"/>
            <a:chExt cx="6239880" cy="1054800"/>
          </a:xfrm>
        </p:grpSpPr>
        <p:grpSp>
          <p:nvGrpSpPr>
            <p:cNvPr id="95" name="Group 66"/>
            <p:cNvGrpSpPr/>
            <p:nvPr/>
          </p:nvGrpSpPr>
          <p:grpSpPr>
            <a:xfrm>
              <a:off x="1547640" y="4322880"/>
              <a:ext cx="2810160" cy="1045080"/>
              <a:chOff x="1547640" y="4322880"/>
              <a:chExt cx="2810160" cy="1045080"/>
            </a:xfrm>
          </p:grpSpPr>
          <p:grpSp>
            <p:nvGrpSpPr>
              <p:cNvPr id="96" name="Group 67"/>
              <p:cNvGrpSpPr/>
              <p:nvPr/>
            </p:nvGrpSpPr>
            <p:grpSpPr>
              <a:xfrm>
                <a:off x="1547640" y="4322880"/>
                <a:ext cx="624600" cy="1045080"/>
                <a:chOff x="1547640" y="4322880"/>
                <a:chExt cx="624600" cy="104508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556280" y="4815000"/>
                  <a:ext cx="38016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69"/>
                <p:cNvSpPr/>
                <p:nvPr/>
              </p:nvSpPr>
              <p:spPr>
                <a:xfrm>
                  <a:off x="1547640" y="4322880"/>
                  <a:ext cx="624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71"/>
              <p:cNvGrpSpPr/>
              <p:nvPr/>
            </p:nvGrpSpPr>
            <p:grpSpPr>
              <a:xfrm>
                <a:off x="2628720" y="4322880"/>
                <a:ext cx="660600" cy="1045080"/>
                <a:chOff x="2628720" y="4322880"/>
                <a:chExt cx="660600" cy="1045080"/>
              </a:xfrm>
            </p:grpSpPr>
            <p:sp>
              <p:nvSpPr>
                <p:cNvPr id="100" name="Rectangle 72"/>
                <p:cNvSpPr/>
                <p:nvPr/>
              </p:nvSpPr>
              <p:spPr>
                <a:xfrm>
                  <a:off x="2672280" y="4815000"/>
                  <a:ext cx="38088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Text Box 73"/>
                <p:cNvSpPr/>
                <p:nvPr/>
              </p:nvSpPr>
              <p:spPr>
                <a:xfrm>
                  <a:off x="2628720" y="4322880"/>
                  <a:ext cx="660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75"/>
              <p:cNvGrpSpPr/>
              <p:nvPr/>
            </p:nvGrpSpPr>
            <p:grpSpPr>
              <a:xfrm>
                <a:off x="3706200" y="4322880"/>
                <a:ext cx="651600" cy="1045080"/>
                <a:chOff x="3706200" y="4322880"/>
                <a:chExt cx="651600" cy="1045080"/>
              </a:xfrm>
            </p:grpSpPr>
            <p:sp>
              <p:nvSpPr>
                <p:cNvPr id="103" name="Rectangle 76"/>
                <p:cNvSpPr/>
                <p:nvPr/>
              </p:nvSpPr>
              <p:spPr>
                <a:xfrm>
                  <a:off x="3740760" y="4815000"/>
                  <a:ext cx="38088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Text Box 77"/>
                <p:cNvSpPr/>
                <p:nvPr/>
              </p:nvSpPr>
              <p:spPr>
                <a:xfrm>
                  <a:off x="3706200" y="4322880"/>
                  <a:ext cx="65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79"/>
            <p:cNvGrpSpPr/>
            <p:nvPr/>
          </p:nvGrpSpPr>
          <p:grpSpPr>
            <a:xfrm>
              <a:off x="4985280" y="4313160"/>
              <a:ext cx="2802240" cy="1054800"/>
              <a:chOff x="4985280" y="4313160"/>
              <a:chExt cx="2802240" cy="1054800"/>
            </a:xfrm>
          </p:grpSpPr>
          <p:grpSp>
            <p:nvGrpSpPr>
              <p:cNvPr id="106" name="Group 80"/>
              <p:cNvGrpSpPr/>
              <p:nvPr/>
            </p:nvGrpSpPr>
            <p:grpSpPr>
              <a:xfrm>
                <a:off x="4985280" y="4322880"/>
                <a:ext cx="615600" cy="1045080"/>
                <a:chOff x="4985280" y="4322880"/>
                <a:chExt cx="615600" cy="1045080"/>
              </a:xfrm>
            </p:grpSpPr>
            <p:sp>
              <p:nvSpPr>
                <p:cNvPr id="107" name="Rectangle 81"/>
                <p:cNvSpPr/>
                <p:nvPr/>
              </p:nvSpPr>
              <p:spPr>
                <a:xfrm>
                  <a:off x="4985280" y="4815000"/>
                  <a:ext cx="38016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Text Box 82"/>
                <p:cNvSpPr/>
                <p:nvPr/>
              </p:nvSpPr>
              <p:spPr>
                <a:xfrm>
                  <a:off x="5002920" y="4322880"/>
                  <a:ext cx="597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84"/>
              <p:cNvGrpSpPr/>
              <p:nvPr/>
            </p:nvGrpSpPr>
            <p:grpSpPr>
              <a:xfrm>
                <a:off x="6092640" y="4313160"/>
                <a:ext cx="564120" cy="1054800"/>
                <a:chOff x="6092640" y="4313160"/>
                <a:chExt cx="564120" cy="1054800"/>
              </a:xfrm>
            </p:grpSpPr>
            <p:sp>
              <p:nvSpPr>
                <p:cNvPr id="110" name="Rectangle 85"/>
                <p:cNvSpPr/>
                <p:nvPr/>
              </p:nvSpPr>
              <p:spPr>
                <a:xfrm>
                  <a:off x="6101280" y="4815000"/>
                  <a:ext cx="38052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 Box 86"/>
                <p:cNvSpPr/>
                <p:nvPr/>
              </p:nvSpPr>
              <p:spPr>
                <a:xfrm>
                  <a:off x="6092640" y="4313160"/>
                  <a:ext cx="564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Group 88"/>
              <p:cNvGrpSpPr/>
              <p:nvPr/>
            </p:nvGrpSpPr>
            <p:grpSpPr>
              <a:xfrm>
                <a:off x="7161480" y="4322880"/>
                <a:ext cx="626040" cy="1045080"/>
                <a:chOff x="7161480" y="4322880"/>
                <a:chExt cx="626040" cy="1045080"/>
              </a:xfrm>
            </p:grpSpPr>
            <p:sp>
              <p:nvSpPr>
                <p:cNvPr id="113" name="Rectangle 89"/>
                <p:cNvSpPr/>
                <p:nvPr/>
              </p:nvSpPr>
              <p:spPr>
                <a:xfrm>
                  <a:off x="7170120" y="4815000"/>
                  <a:ext cx="380880" cy="552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90"/>
                <p:cNvSpPr/>
                <p:nvPr/>
              </p:nvSpPr>
              <p:spPr>
                <a:xfrm>
                  <a:off x="7161480" y="4322880"/>
                  <a:ext cx="62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(</a:t>
                  </a:r>
                  <a:r>
                    <a:rPr b="0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 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" name="Rectangle 4"/>
          <p:cNvSpPr/>
          <p:nvPr/>
        </p:nvSpPr>
        <p:spPr>
          <a:xfrm>
            <a:off x="395280" y="40464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 заменяет цикл последовательной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a[:] = sin(b[: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a[:] = pow(b[:], c); // b[:]**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a[:] = pow(c, b[:]); // c**b[: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Courier New"/>
                <a:ea typeface="Courier New"/>
              </a:rPr>
              <a:t>f(b[: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786-9948-452F-AC7E-9B7F53A49E6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95280" y="105264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мпиляции кода с вызовом элементных функций компилятор генерирует обращения к векторизованным функц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 может генерировать многопоточный к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ункция определена как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 генерирует векторизованный код для этой фун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ы побочные эффек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Функции отображаются параллель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1670-FACC-43E2-8FD2-3D81CDE3767C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549360"/>
            <a:ext cx="86104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грани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1. Допускается использование только следующих тип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2e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signed/unsigned 8/16/32/64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битовые целые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2e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32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64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битовые с плавающей точкой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2e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64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128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битовые комплексные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2e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указатель или ссылка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C++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2. Не допускается использование ключевых слов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while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do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goto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3. Не допускается использование операторов выб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4. Не допускается использование ассемблерных встав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5. В функциях не допускается многопоточность, реализованная с помощью 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OpenMP, cilk_spawn/cilk_f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Не допускаются виртуальные функции и указатели на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7. В функциях не допускается использование выражений с индекс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нота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C9CC-1F6B-445C-A883-A883FAF73EF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250920" y="981000"/>
            <a:ext cx="8642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saxpy(float a, float *x, float *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oo(float *x, float *y, float a, int le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int i = 0; i &lt; le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axpy(a, x[i], y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axpy(float a, float *x, float *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*y += a * (*x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24:44Z</dcterms:created>
  <dc:creator/>
  <dc:description/>
  <dc:language>en-US</dc:language>
  <cp:lastModifiedBy/>
  <dcterms:modified xsi:type="dcterms:W3CDTF">2012-06-05T22:2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45801033</vt:lpwstr>
  </property>
</Properties>
</file>