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0DDC4-A683-42B7-9B2E-C0F73BF49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5CA80-9CCB-464E-B135-0A3B069A92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618E2-2793-41E6-A4C8-70DB5D91C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240" y="15238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7560" y="15238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240" y="39121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7560" y="39121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ADF64-7028-40BD-BEC9-B46EF3F56A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2E3E1-B1D7-4C53-891A-26CE0554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45ADE-AFFD-4B2A-9ED3-7ECF4897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1FC00-37A0-4BED-92E4-0ED62D3C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19945-B698-44FE-9FCA-277E4AD8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A685C-A1F4-4E89-922F-78958F8E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75A69-3889-46D6-949B-513EA1D4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D1514-DA8A-42A5-B856-2D524D88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B5A0-C1BA-420E-A742-FD8CFB6AA7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E4F9B-9812-4132-A599-45D45C5C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A3400-DE44-4DEF-A896-CE804EBB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18CFA-05A7-4B59-B464-C96E476F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34324-66DB-40CF-91C9-A727AF79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6240" y="15238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7560" y="15238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6240" y="39121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7560" y="39121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7C47B-7CB4-4FDF-A16D-600A1520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18C3B-91C0-4B8D-B893-9ACA9A6D5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06209-CC35-4D8D-A17C-4375F4446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63A8-018E-46BC-BD21-A22DFE2C8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20789-B407-4773-909C-E46E82A83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D6CAF-A12B-44F9-9851-21B8DAA8F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86338-A9C2-4458-A37A-534C46A93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48D8F-79F4-4CD0-BB49-0B454A998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e3e5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8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8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8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8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8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E38B-659F-4524-9A25-E1DC2E344998}" type="datetime">
              <a:rPr b="0" lang="en-US" sz="1400" spc="-1" strike="noStrike">
                <a:solidFill>
                  <a:srgbClr val="595841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841"/>
                </a:solidFill>
                <a:latin typeface="Arial"/>
              </a:rPr>
              <a:t>[Project Name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58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D26F-DD96-48F0-ADBF-8EC1C124C5D0}" type="slidenum">
              <a:rPr b="0" lang="en-US" sz="1400" spc="-1" strike="noStrike">
                <a:solidFill>
                  <a:srgbClr val="59584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e3e5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8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8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8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8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8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58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2F3F-AC45-4FD9-AEBB-D7A09285FBE0}" type="slidenum">
              <a:rPr b="0" lang="en-US" sz="1400" spc="-1" strike="noStrike">
                <a:solidFill>
                  <a:srgbClr val="59584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317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e3e5c"/>
                </a:solidFill>
                <a:latin typeface="Arial"/>
              </a:rPr>
              <a:t>Intel® Cilk</a:t>
            </a:r>
            <a:r>
              <a:rPr b="1" lang="en-US" sz="4400" spc="-1" strike="noStrike" baseline="30000">
                <a:solidFill>
                  <a:srgbClr val="3e3e5c"/>
                </a:solidFill>
                <a:latin typeface="Arial"/>
              </a:rPr>
              <a:t>TM</a:t>
            </a:r>
            <a:r>
              <a:rPr b="1" lang="en-US" sz="4400" spc="-1" strike="noStrike">
                <a:solidFill>
                  <a:srgbClr val="3e3e5c"/>
                </a:solidFill>
                <a:latin typeface="Arial"/>
              </a:rPr>
              <a:t> Plus</a:t>
            </a:r>
            <a:br>
              <a:rPr sz="4400"/>
            </a:br>
            <a:r>
              <a:rPr b="1" lang="ru-RU" sz="4400" spc="-1" strike="noStrike">
                <a:solidFill>
                  <a:srgbClr val="3e3e5c"/>
                </a:solidFill>
                <a:latin typeface="Arial"/>
              </a:rPr>
              <a:t>Основная часть</a:t>
            </a: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Лекция</a:t>
            </a:r>
            <a:r>
              <a:rPr b="1" lang="en-US" sz="28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2. Гиперобъекты</a:t>
            </a:r>
            <a:endParaRPr b="1" lang="en-US" sz="28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83" name="Rectangle 1026"/>
          <p:cNvSpPr/>
          <p:nvPr/>
        </p:nvSpPr>
        <p:spPr>
          <a:xfrm>
            <a:off x="1332000" y="519264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5841"/>
                </a:solidFill>
                <a:latin typeface="Arial"/>
              </a:rPr>
              <a:t>Немнюгин Сергей Андре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AB0D-B5E7-419D-945A-7F666C5449C5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50920" y="476280"/>
            <a:ext cx="8643960" cy="36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Изображение переменной</a:t>
            </a:r>
            <a:r>
              <a:rPr b="0" lang="en-US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– это её экземпляр. Потоки могут работать с переменной как с обычной нелокальной переменн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и создании потока он получает собственное изображение переменной. В многопоточном приложении для переменной создаётся набор изображ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Система времени исполнения </a:t>
            </a:r>
            <a:r>
              <a:rPr b="1" lang="en-US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Cilk Plus</a:t>
            </a:r>
            <a:r>
              <a:rPr b="0" lang="en-US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координирует работу с изображениями переменной и объединяет их в точке объединения потоков (отсюда название - </a:t>
            </a:r>
            <a:r>
              <a:rPr b="1" i="1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редукторы</a:t>
            </a: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Когда остаётся единственное изображение, оно устойчиво и значение переменной может быть извлечено из этого изображ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Редуктор суммирова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Cloud 14"/>
          <p:cNvSpPr/>
          <p:nvPr/>
        </p:nvSpPr>
        <p:spPr>
          <a:xfrm>
            <a:off x="1271520" y="4313160"/>
            <a:ext cx="2032200" cy="1281240"/>
          </a:xfrm>
          <a:prstGeom prst="pi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x: 4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Cloud 16"/>
          <p:cNvSpPr/>
          <p:nvPr/>
        </p:nvSpPr>
        <p:spPr>
          <a:xfrm>
            <a:off x="3363840" y="4313160"/>
            <a:ext cx="2211480" cy="1281240"/>
          </a:xfrm>
          <a:prstGeom prst="pi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x: 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4002840" y="5981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</a:rPr>
              <a:t>8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Cloud 19"/>
          <p:cNvSpPr/>
          <p:nvPr/>
        </p:nvSpPr>
        <p:spPr>
          <a:xfrm>
            <a:off x="5619600" y="4368960"/>
            <a:ext cx="1976760" cy="1280880"/>
          </a:xfrm>
          <a:prstGeom prst="pi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x: 3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" name="Straight Arrow Connector 20"/>
          <p:cNvCxnSpPr>
            <a:stCxn id="107" idx="4"/>
            <a:endCxn id="109" idx="1"/>
          </p:cNvCxnSpPr>
          <p:nvPr/>
        </p:nvCxnSpPr>
        <p:spPr>
          <a:xfrm>
            <a:off x="2287440" y="5592600"/>
            <a:ext cx="1697760" cy="589680"/>
          </a:xfrm>
          <a:prstGeom prst="straightConnector1">
            <a:avLst/>
          </a:prstGeom>
          <a:ln w="25560">
            <a:solidFill>
              <a:srgbClr val="b8b8ca"/>
            </a:solidFill>
            <a:miter/>
            <a:tailEnd len="lg" type="stealth" w="lg"/>
          </a:ln>
        </p:spPr>
      </p:cxnSp>
      <p:cxnSp>
        <p:nvCxnSpPr>
          <p:cNvPr id="112" name="Straight Arrow Connector 22"/>
          <p:cNvCxnSpPr>
            <a:stCxn id="108" idx="4"/>
            <a:endCxn id="109" idx="0"/>
          </p:cNvCxnSpPr>
          <p:nvPr/>
        </p:nvCxnSpPr>
        <p:spPr>
          <a:xfrm flipH="1">
            <a:off x="4230000" y="5592240"/>
            <a:ext cx="238680" cy="389880"/>
          </a:xfrm>
          <a:prstGeom prst="straightConnector1">
            <a:avLst/>
          </a:prstGeom>
          <a:ln w="25560">
            <a:solidFill>
              <a:srgbClr val="b8b8ca"/>
            </a:solidFill>
            <a:miter/>
            <a:tailEnd len="lg" type="stealth" w="lg"/>
          </a:ln>
        </p:spPr>
      </p:cxnSp>
      <p:cxnSp>
        <p:nvCxnSpPr>
          <p:cNvPr id="113" name="Straight Arrow Connector 23"/>
          <p:cNvCxnSpPr>
            <a:stCxn id="110" idx="4"/>
            <a:endCxn id="109" idx="3"/>
          </p:cNvCxnSpPr>
          <p:nvPr/>
        </p:nvCxnSpPr>
        <p:spPr>
          <a:xfrm flipH="1">
            <a:off x="4475880" y="5649480"/>
            <a:ext cx="2133000" cy="532440"/>
          </a:xfrm>
          <a:prstGeom prst="straightConnector1">
            <a:avLst/>
          </a:prstGeom>
          <a:ln w="25560">
            <a:solidFill>
              <a:srgbClr val="b8b8ca"/>
            </a:solidFill>
            <a:miter/>
            <a:tailEnd len="lg" type="stealth" w="lg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F900-22FA-4FF2-9581-E43F6E024786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250920" y="476280"/>
            <a:ext cx="864396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Если в процессе выполнения </a:t>
            </a:r>
            <a:r>
              <a:rPr b="0" lang="en-US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Cilk-</a:t>
            </a: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ограммы не происходит захвата работы, редуктор ведёт себя как обычная переменн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Если происходит захват работы, потомок и продолжение получают собственные изображ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Такую семантику иногда называют «ленивой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205000" y="1268280"/>
            <a:ext cx="4311720" cy="100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2193840" y="4076640"/>
            <a:ext cx="432288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2447-3D5A-473D-90C1-6D3009BFCD0C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Content Placeholder 2"/>
          <p:cNvSpPr/>
          <p:nvPr/>
        </p:nvSpPr>
        <p:spPr>
          <a:xfrm>
            <a:off x="250920" y="476280"/>
            <a:ext cx="861048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Прим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#include &lt;cilk/cilk.h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#include &lt;cilk/reducer_opadd.h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class CilkForSum : public Sum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public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virtual double FindSum(SimpleArray &amp;data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cilk::reducer_opadd&lt;double&gt; result(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cilk_for(int i=0; i&lt;data.GetSize(); i+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           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result += operation(data[i]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return result.get_valu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69EA-855A-41EE-BAA6-ECDDEF2A8BE7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250920" y="476280"/>
            <a:ext cx="8610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Предопределённые редукто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95280" y="1125360"/>
          <a:ext cx="8424720" cy="5278680"/>
        </p:xfrm>
        <a:graphic>
          <a:graphicData uri="http://schemas.openxmlformats.org/drawingml/2006/table">
            <a:tbl>
              <a:tblPr/>
              <a:tblGrid>
                <a:gridCol w="3168720"/>
                <a:gridCol w="2448000"/>
                <a:gridCol w="2808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дуктор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голов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59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ициализ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59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597b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e3e5c"/>
                          </a:solidFill>
                          <a:latin typeface="Courier New"/>
                          <a:ea typeface="Courier New"/>
                        </a:rPr>
                        <a:t>reducer_list_appe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e3e5c"/>
                          </a:solidFill>
                          <a:latin typeface="Courier New"/>
                          <a:ea typeface="Courier New"/>
                        </a:rPr>
                        <a:t>&lt;cilk/reducer_list.h&gt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Пустой спис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Объединение списков добавлением в коне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e3e5c"/>
                          </a:solidFill>
                          <a:latin typeface="Courier New"/>
                          <a:ea typeface="Courier New"/>
                        </a:rPr>
                        <a:t>reducer_list_prepe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e3e5c"/>
                          </a:solidFill>
                          <a:latin typeface="Courier New"/>
                          <a:ea typeface="Courier New"/>
                        </a:rPr>
                        <a:t>&lt;cilk/reducer_list.h&gt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Пустой спис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Объединение списков добавлением в начал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e3e5c"/>
                          </a:solidFill>
                          <a:latin typeface="Courier New"/>
                          <a:ea typeface="Courier New"/>
                        </a:rPr>
                        <a:t>reducer_ma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e3e5c"/>
                          </a:solidFill>
                          <a:latin typeface="Courier New"/>
                          <a:ea typeface="Courier New"/>
                        </a:rPr>
                        <a:t>&lt;cilk/reducer_max.h&gt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Аргумент конструкто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Нахождение максимального знач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e3e5c"/>
                          </a:solidFill>
                          <a:latin typeface="Courier New"/>
                          <a:ea typeface="Courier New"/>
                        </a:rPr>
                        <a:t>reducer_max_inde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e3e5c"/>
                          </a:solidFill>
                          <a:latin typeface="Courier New"/>
                          <a:ea typeface="Courier New"/>
                        </a:rPr>
                        <a:t>&lt;cilk/reducer_max.h&gt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Аргумент конструкто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Нахождение максимального значения и его индекса в массив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e3e5c"/>
                          </a:solidFill>
                          <a:latin typeface="Courier New"/>
                          <a:ea typeface="Courier New"/>
                        </a:rPr>
                        <a:t>reducer_m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e3e5c"/>
                          </a:solidFill>
                          <a:latin typeface="Courier New"/>
                          <a:ea typeface="Courier New"/>
                        </a:rPr>
                        <a:t>&lt;cilk/reducer_min.h&gt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Аргумент конструкто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Нахождение минимального знач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e3e5c"/>
                          </a:solidFill>
                          <a:latin typeface="Courier New"/>
                          <a:ea typeface="Courier New"/>
                        </a:rPr>
                        <a:t>reducer_min_inde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e3e5c"/>
                          </a:solidFill>
                          <a:latin typeface="Courier New"/>
                          <a:ea typeface="Courier New"/>
                        </a:rPr>
                        <a:t>&lt;cilk/reducer_min.h&gt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Аргумент конструкто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Нахождение минимального значения и его индекса в массив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e3e5c"/>
                          </a:solidFill>
                          <a:latin typeface="Courier New"/>
                          <a:ea typeface="Courier New"/>
                        </a:rPr>
                        <a:t>reducer_opad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e3e5c"/>
                          </a:solidFill>
                          <a:latin typeface="Courier New"/>
                          <a:ea typeface="Courier New"/>
                        </a:rPr>
                        <a:t>&lt;cilk/reducer_opadd.h&gt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Суммир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6B73-EB8F-40EF-8F23-86AC01E12DB4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50920" y="476280"/>
          <a:ext cx="8353440" cy="4486320"/>
        </p:xfrm>
        <a:graphic>
          <a:graphicData uri="http://schemas.openxmlformats.org/drawingml/2006/table">
            <a:tbl>
              <a:tblPr/>
              <a:tblGrid>
                <a:gridCol w="3178080"/>
                <a:gridCol w="2390760"/>
                <a:gridCol w="2784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дуктор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голов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59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ициализ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59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597b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e3e5c"/>
                          </a:solidFill>
                          <a:latin typeface="Courier New"/>
                          <a:ea typeface="Courier New"/>
                        </a:rPr>
                        <a:t>reducer_op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e3e5c"/>
                          </a:solidFill>
                          <a:latin typeface="Courier New"/>
                          <a:ea typeface="Courier New"/>
                        </a:rPr>
                        <a:t>&lt;cilk/reducer_opand.h&gt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/tr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Логическое 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e3e5c"/>
                          </a:solidFill>
                          <a:latin typeface="Courier New"/>
                          <a:ea typeface="Courier New"/>
                        </a:rPr>
                        <a:t>reducer_op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e3e5c"/>
                          </a:solidFill>
                          <a:latin typeface="Courier New"/>
                          <a:ea typeface="Courier New"/>
                        </a:rPr>
                        <a:t>&lt;cilk/reducer_opor.h&gt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0/fal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Логическое И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e3e5c"/>
                          </a:solidFill>
                          <a:latin typeface="Courier New"/>
                          <a:ea typeface="Courier New"/>
                        </a:rPr>
                        <a:t>reducer_opx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e3e5c"/>
                          </a:solidFill>
                          <a:latin typeface="Courier New"/>
                          <a:ea typeface="Courier New"/>
                        </a:rPr>
                        <a:t>&lt;cilk/reducer_opxor.h&gt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0/fal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Логическое исключающее И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e3e5c"/>
                          </a:solidFill>
                          <a:latin typeface="Courier New"/>
                          <a:ea typeface="Courier New"/>
                        </a:rPr>
                        <a:t>reducer_ostrea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e3e5c"/>
                          </a:solidFill>
                          <a:latin typeface="Courier New"/>
                          <a:ea typeface="Courier New"/>
                        </a:rPr>
                        <a:t>&lt;cilk/reducer_ostream.h&gt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Аргумент конструкто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Параллельный поток выво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e3e5c"/>
                          </a:solidFill>
                          <a:latin typeface="Courier New"/>
                          <a:ea typeface="Courier New"/>
                        </a:rPr>
                        <a:t>reducer_basic_str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e3e5c"/>
                          </a:solidFill>
                          <a:latin typeface="Courier New"/>
                          <a:ea typeface="Courier New"/>
                        </a:rPr>
                        <a:t>&lt;cilk/reducer_string.h&gt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Пустая стро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Создание строки с помощью конкатен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e3e5c"/>
                          </a:solidFill>
                          <a:latin typeface="Courier New"/>
                          <a:ea typeface="Courier New"/>
                        </a:rPr>
                        <a:t>reducer_str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e3e5c"/>
                          </a:solidFill>
                          <a:latin typeface="Courier New"/>
                          <a:ea typeface="Courier New"/>
                        </a:rPr>
                        <a:t>&lt;cilk/reducer_string.h&gt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Пустая стро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Создание строки с помощью конкатен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e3e5c"/>
                          </a:solidFill>
                          <a:latin typeface="Courier New"/>
                          <a:ea typeface="Courier New"/>
                        </a:rPr>
                        <a:t>reducer_wstr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e3e5c"/>
                          </a:solidFill>
                          <a:latin typeface="Courier New"/>
                          <a:ea typeface="Courier New"/>
                        </a:rPr>
                        <a:t>&lt;cilk/reducer_string.h&gt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Пустая стро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Создание строки с помощью конкатен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5E3F-5738-4C87-94B9-DE5FD33D2C0D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900000" y="1268280"/>
            <a:ext cx="3167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reducer.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reducer_list.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reducer_max.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reducer_min.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reducer_opadd.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reducer_opand.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reducer_opor.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reducer_opxor.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reducer_ostream.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reducer_string.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28"/>
          <p:cNvSpPr/>
          <p:nvPr/>
        </p:nvSpPr>
        <p:spPr>
          <a:xfrm>
            <a:off x="1553760" y="189000"/>
            <a:ext cx="641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Список заголовочных файл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8B12-1DB9-42C8-A1FC-461D96E905D4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61200" y="1461960"/>
            <a:ext cx="4082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::reducer_opadd&lt;float&gt; su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void f( int m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sum += 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float g(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spawn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f(1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f(2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sync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return sum.get_value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Group 42"/>
          <p:cNvGrpSpPr/>
          <p:nvPr/>
        </p:nvGrpSpPr>
        <p:grpSpPr>
          <a:xfrm>
            <a:off x="1332000" y="620640"/>
            <a:ext cx="2309760" cy="893880"/>
            <a:chOff x="1332000" y="620640"/>
            <a:chExt cx="2309760" cy="893880"/>
          </a:xfrm>
        </p:grpSpPr>
        <p:sp>
          <p:nvSpPr>
            <p:cNvPr id="131" name="Freeform 19"/>
            <p:cNvSpPr/>
            <p:nvPr/>
          </p:nvSpPr>
          <p:spPr>
            <a:xfrm>
              <a:off x="3378240" y="1208160"/>
              <a:ext cx="263520" cy="306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cubicBezTo>
                    <a:pt x="10259" y="7974"/>
                    <a:pt x="6781" y="3555"/>
                    <a:pt x="10000" y="10000"/>
                  </a:cubicBezTo>
                </a:path>
              </a:pathLst>
            </a:custGeom>
            <a:noFill/>
            <a:ln w="25560">
              <a:solidFill>
                <a:srgbClr val="1f1fd3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AutoShape 21"/>
            <p:cNvSpPr/>
            <p:nvPr/>
          </p:nvSpPr>
          <p:spPr>
            <a:xfrm>
              <a:off x="1332000" y="620640"/>
              <a:ext cx="2060640" cy="650880"/>
            </a:xfrm>
            <a:prstGeom prst="roundRect">
              <a:avLst>
                <a:gd name="adj" fmla="val 16667"/>
              </a:avLst>
            </a:prstGeom>
            <a:solidFill>
              <a:srgbClr val="dedefa"/>
            </a:solidFill>
            <a:ln w="25560">
              <a:solidFill>
                <a:srgbClr val="1f1f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лобальная переменн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AutoShape 21"/>
          <p:cNvSpPr/>
          <p:nvPr/>
        </p:nvSpPr>
        <p:spPr>
          <a:xfrm>
            <a:off x="423720" y="4862520"/>
            <a:ext cx="3367080" cy="647640"/>
          </a:xfrm>
          <a:prstGeom prst="roundRect">
            <a:avLst>
              <a:gd name="adj" fmla="val 16667"/>
            </a:avLst>
          </a:prstGeom>
          <a:solidFill>
            <a:srgbClr val="dedefa"/>
          </a:solidFill>
          <a:ln w="25560">
            <a:solidFill>
              <a:srgbClr val="1f1f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ение получаем с помощью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_value()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35"/>
          <p:cNvGrpSpPr/>
          <p:nvPr/>
        </p:nvGrpSpPr>
        <p:grpSpPr>
          <a:xfrm>
            <a:off x="4395960" y="3959280"/>
            <a:ext cx="3290760" cy="1922040"/>
            <a:chOff x="4395960" y="3959280"/>
            <a:chExt cx="3290760" cy="1922040"/>
          </a:xfrm>
        </p:grpSpPr>
        <p:sp>
          <p:nvSpPr>
            <p:cNvPr id="135" name="Rectangle 23"/>
            <p:cNvSpPr/>
            <p:nvPr/>
          </p:nvSpPr>
          <p:spPr>
            <a:xfrm>
              <a:off x="4395960" y="4587840"/>
              <a:ext cx="1414440" cy="366480"/>
            </a:xfrm>
            <a:prstGeom prst="rect">
              <a:avLst/>
            </a:prstGeom>
            <a:solidFill>
              <a:srgbClr val="d9e4ff"/>
            </a:solidFill>
            <a:ln w="20160">
              <a:solidFill>
                <a:srgbClr val="1f1f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1f2e"/>
                  </a:solidFill>
                  <a:latin typeface="Arial"/>
                </a:rPr>
                <a:t>sum</a:t>
              </a:r>
              <a:r>
                <a:rPr b="0" lang="en-US" sz="1800" spc="-1" strike="noStrike" baseline="-25000">
                  <a:solidFill>
                    <a:srgbClr val="1f1f2e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1f1f2e"/>
                  </a:solidFill>
                  <a:latin typeface="Arial"/>
                </a:rPr>
                <a:t> +=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24"/>
            <p:cNvSpPr/>
            <p:nvPr/>
          </p:nvSpPr>
          <p:spPr>
            <a:xfrm>
              <a:off x="6145200" y="5229360"/>
              <a:ext cx="1541520" cy="365040"/>
            </a:xfrm>
            <a:prstGeom prst="rect">
              <a:avLst/>
            </a:prstGeom>
            <a:solidFill>
              <a:srgbClr val="d9e4ff"/>
            </a:solidFill>
            <a:ln w="20160">
              <a:solidFill>
                <a:srgbClr val="1f1f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1f2e"/>
                  </a:solidFill>
                  <a:latin typeface="Arial"/>
                </a:rPr>
                <a:t>sum</a:t>
              </a:r>
              <a:r>
                <a:rPr b="0" lang="en-US" sz="1800" spc="-1" strike="noStrike" baseline="-25000">
                  <a:solidFill>
                    <a:srgbClr val="1f1f2e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1f1f2e"/>
                  </a:solidFill>
                  <a:latin typeface="Arial"/>
                </a:rPr>
                <a:t> +=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37" name="Straight Arrow Connector 25"/>
            <p:cNvCxnSpPr/>
            <p:nvPr/>
          </p:nvCxnSpPr>
          <p:spPr>
            <a:xfrm flipV="1">
              <a:off x="6902280" y="5603400"/>
              <a:ext cx="5400" cy="278280"/>
            </a:xfrm>
            <a:prstGeom prst="straightConnector1">
              <a:avLst/>
            </a:prstGeom>
            <a:ln w="25560">
              <a:solidFill>
                <a:srgbClr val="1f1f2e"/>
              </a:solidFill>
              <a:miter/>
              <a:headEnd len="med" type="arrow" w="med"/>
            </a:ln>
          </p:spPr>
        </p:cxnSp>
        <p:sp>
          <p:nvSpPr>
            <p:cNvPr id="138" name="Freeform 27"/>
            <p:cNvSpPr/>
            <p:nvPr/>
          </p:nvSpPr>
          <p:spPr>
            <a:xfrm flipH="1">
              <a:off x="5119560" y="3959280"/>
              <a:ext cx="1784160" cy="628560"/>
            </a:xfrm>
            <a:custGeom>
              <a:avLst/>
              <a:gdLst/>
              <a:ahLst/>
              <a:rect l="l" t="t" r="r" b="b"/>
              <a:pathLst>
                <a:path w="10564" h="13060">
                  <a:moveTo>
                    <a:pt x="0" y="0"/>
                  </a:moveTo>
                  <a:cubicBezTo>
                    <a:pt x="137" y="12861"/>
                    <a:pt x="10596" y="1189"/>
                    <a:pt x="10564" y="13060"/>
                  </a:cubicBezTo>
                </a:path>
              </a:pathLst>
            </a:custGeom>
            <a:noFill/>
            <a:ln w="25560">
              <a:solidFill>
                <a:srgbClr val="1f1f2e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5100840" y="4970520"/>
              <a:ext cx="1774800" cy="237960"/>
            </a:xfrm>
            <a:custGeom>
              <a:avLst/>
              <a:gdLst/>
              <a:ahLst/>
              <a:rect l="l" t="t" r="r" b="b"/>
              <a:pathLst>
                <a:path w="9842" h="35681">
                  <a:moveTo>
                    <a:pt x="0" y="0"/>
                  </a:moveTo>
                  <a:cubicBezTo>
                    <a:pt x="57" y="39001"/>
                    <a:pt x="9837" y="-9027"/>
                    <a:pt x="9842" y="35681"/>
                  </a:cubicBezTo>
                </a:path>
              </a:pathLst>
            </a:custGeom>
            <a:noFill/>
            <a:ln w="25560">
              <a:solidFill>
                <a:srgbClr val="1f1f2e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Group 41"/>
          <p:cNvGrpSpPr/>
          <p:nvPr/>
        </p:nvGrpSpPr>
        <p:grpSpPr>
          <a:xfrm>
            <a:off x="4451400" y="405720"/>
            <a:ext cx="3500280" cy="2827800"/>
            <a:chOff x="4451400" y="405720"/>
            <a:chExt cx="3500280" cy="2827800"/>
          </a:xfrm>
        </p:grpSpPr>
        <p:sp>
          <p:nvSpPr>
            <p:cNvPr id="141" name="Rectangle 6"/>
            <p:cNvSpPr/>
            <p:nvPr/>
          </p:nvSpPr>
          <p:spPr>
            <a:xfrm>
              <a:off x="4451400" y="1089000"/>
              <a:ext cx="1412640" cy="365040"/>
            </a:xfrm>
            <a:prstGeom prst="rect">
              <a:avLst/>
            </a:prstGeom>
            <a:solidFill>
              <a:srgbClr val="d9e4ff"/>
            </a:solidFill>
            <a:ln w="20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1f2e"/>
                  </a:solidFill>
                  <a:latin typeface="Arial"/>
                </a:rPr>
                <a:t>sum</a:t>
              </a:r>
              <a:r>
                <a:rPr b="0" lang="en-US" sz="1800" spc="-1" strike="noStrike" baseline="-25000">
                  <a:solidFill>
                    <a:srgbClr val="1f1f2e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1f1f2e"/>
                  </a:solidFill>
                  <a:latin typeface="Arial"/>
                </a:rPr>
                <a:t> +=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6153120" y="1711440"/>
              <a:ext cx="1539720" cy="366480"/>
            </a:xfrm>
            <a:prstGeom prst="rect">
              <a:avLst/>
            </a:prstGeom>
            <a:solidFill>
              <a:srgbClr val="c8ffc8"/>
            </a:solidFill>
            <a:ln w="20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1f2e"/>
                  </a:solidFill>
                  <a:latin typeface="Arial"/>
                </a:rPr>
                <a:t>sum</a:t>
              </a:r>
              <a:r>
                <a:rPr b="0" lang="en-US" sz="1800" spc="-1" strike="noStrike" baseline="-25000">
                  <a:solidFill>
                    <a:srgbClr val="1f1f2e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1f1f2e"/>
                  </a:solidFill>
                  <a:latin typeface="Arial"/>
                </a:rPr>
                <a:t> +=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3" name="Straight Arrow Connector 8"/>
            <p:cNvCxnSpPr>
              <a:stCxn id="144" idx="0"/>
            </p:cNvCxnSpPr>
            <p:nvPr/>
          </p:nvCxnSpPr>
          <p:spPr>
            <a:xfrm flipV="1">
              <a:off x="6908400" y="2085480"/>
              <a:ext cx="5400" cy="518040"/>
            </a:xfrm>
            <a:prstGeom prst="straightConnector1">
              <a:avLst/>
            </a:prstGeom>
            <a:ln w="25560">
              <a:solidFill>
                <a:srgbClr val="1f1f2e"/>
              </a:solidFill>
              <a:miter/>
              <a:headEnd len="med" type="arrow" w="med"/>
            </a:ln>
          </p:spPr>
        </p:cxnSp>
        <p:cxnSp>
          <p:nvCxnSpPr>
            <p:cNvPr id="145" name="Straight Arrow Connector 10"/>
            <p:cNvCxnSpPr/>
            <p:nvPr/>
          </p:nvCxnSpPr>
          <p:spPr>
            <a:xfrm flipV="1">
              <a:off x="6923160" y="405720"/>
              <a:ext cx="11520" cy="665640"/>
            </a:xfrm>
            <a:prstGeom prst="straightConnector1">
              <a:avLst/>
            </a:prstGeom>
            <a:ln w="25560">
              <a:solidFill>
                <a:srgbClr val="1f1f2e"/>
              </a:solidFill>
              <a:miter/>
              <a:headEnd len="med" type="arrow" w="med"/>
            </a:ln>
          </p:spPr>
        </p:cxnSp>
        <p:sp>
          <p:nvSpPr>
            <p:cNvPr id="146" name="Freeform 11"/>
            <p:cNvSpPr/>
            <p:nvPr/>
          </p:nvSpPr>
          <p:spPr>
            <a:xfrm flipH="1">
              <a:off x="5225400" y="568080"/>
              <a:ext cx="1716120" cy="503280"/>
            </a:xfrm>
            <a:custGeom>
              <a:avLst/>
              <a:gdLst/>
              <a:ahLst/>
              <a:rect l="l" t="t" r="r" b="b"/>
              <a:pathLst>
                <a:path w="10338" h="11303">
                  <a:moveTo>
                    <a:pt x="0" y="0"/>
                  </a:moveTo>
                  <a:cubicBezTo>
                    <a:pt x="1034" y="9362"/>
                    <a:pt x="10225" y="2784"/>
                    <a:pt x="10338" y="11303"/>
                  </a:cubicBezTo>
                </a:path>
              </a:pathLst>
            </a:custGeom>
            <a:noFill/>
            <a:ln w="25560">
              <a:solidFill>
                <a:srgbClr val="1f1f2e"/>
              </a:solidFill>
              <a:round/>
              <a:headEnd len="med" type="oval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12"/>
            <p:cNvSpPr/>
            <p:nvPr/>
          </p:nvSpPr>
          <p:spPr>
            <a:xfrm>
              <a:off x="6202440" y="1087560"/>
              <a:ext cx="1344600" cy="366480"/>
            </a:xfrm>
            <a:prstGeom prst="rect">
              <a:avLst/>
            </a:prstGeom>
            <a:solidFill>
              <a:srgbClr val="c8ffc8"/>
            </a:solidFill>
            <a:ln w="20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1f2e"/>
                  </a:solidFill>
                  <a:latin typeface="Arial"/>
                </a:rPr>
                <a:t>sum</a:t>
              </a:r>
              <a:r>
                <a:rPr b="0" lang="en-US" sz="1800" spc="-1" strike="noStrike" baseline="-25000">
                  <a:solidFill>
                    <a:srgbClr val="1f1f2e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1f1f2e"/>
                  </a:solidFill>
                  <a:latin typeface="Arial"/>
                </a:rPr>
                <a:t> =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5"/>
            <p:cNvSpPr/>
            <p:nvPr/>
          </p:nvSpPr>
          <p:spPr>
            <a:xfrm>
              <a:off x="5865840" y="2603880"/>
              <a:ext cx="2085840" cy="365040"/>
            </a:xfrm>
            <a:prstGeom prst="rect">
              <a:avLst/>
            </a:prstGeom>
            <a:solidFill>
              <a:srgbClr val="d9e4ff"/>
            </a:solidFill>
            <a:ln w="20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1f2e"/>
                  </a:solidFill>
                  <a:latin typeface="Arial"/>
                </a:rPr>
                <a:t>sum</a:t>
              </a:r>
              <a:r>
                <a:rPr b="0" lang="en-US" sz="1800" spc="-1" strike="noStrike" baseline="-25000">
                  <a:solidFill>
                    <a:srgbClr val="1f1f2e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1f1f2e"/>
                  </a:solidFill>
                  <a:latin typeface="Arial"/>
                </a:rPr>
                <a:t> += sum</a:t>
              </a:r>
              <a:r>
                <a:rPr b="0" lang="en-US" sz="1800" spc="-1" strike="noStrike" baseline="-25000">
                  <a:solidFill>
                    <a:srgbClr val="1f1f2e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6"/>
            <p:cNvSpPr/>
            <p:nvPr/>
          </p:nvSpPr>
          <p:spPr>
            <a:xfrm>
              <a:off x="5195880" y="1452600"/>
              <a:ext cx="1639800" cy="852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cubicBezTo>
                    <a:pt x="238" y="5528"/>
                    <a:pt x="4404" y="9813"/>
                    <a:pt x="10000" y="10000"/>
                  </a:cubicBezTo>
                </a:path>
              </a:pathLst>
            </a:custGeom>
            <a:noFill/>
            <a:ln w="25560">
              <a:solidFill>
                <a:srgbClr val="1f1f2e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9" name="Straight Arrow Connector 31"/>
            <p:cNvCxnSpPr/>
            <p:nvPr/>
          </p:nvCxnSpPr>
          <p:spPr>
            <a:xfrm flipV="1">
              <a:off x="6931080" y="2955600"/>
              <a:ext cx="3600" cy="278280"/>
            </a:xfrm>
            <a:prstGeom prst="straightConnector1">
              <a:avLst/>
            </a:prstGeom>
            <a:ln w="25560">
              <a:solidFill>
                <a:srgbClr val="1f1f2e"/>
              </a:solidFill>
              <a:miter/>
              <a:headEnd len="med" type="arrow" w="med"/>
            </a:ln>
          </p:spPr>
        </p:cxnSp>
        <p:cxnSp>
          <p:nvCxnSpPr>
            <p:cNvPr id="150" name="Straight Arrow Connector 32"/>
            <p:cNvCxnSpPr/>
            <p:nvPr/>
          </p:nvCxnSpPr>
          <p:spPr>
            <a:xfrm flipV="1">
              <a:off x="6910200" y="1451880"/>
              <a:ext cx="5400" cy="278280"/>
            </a:xfrm>
            <a:prstGeom prst="straightConnector1">
              <a:avLst/>
            </a:prstGeom>
            <a:ln w="25560">
              <a:solidFill>
                <a:srgbClr val="1f1f2e"/>
              </a:solidFill>
              <a:miter/>
              <a:headEnd len="med" type="arrow" w="med"/>
            </a:ln>
          </p:spPr>
        </p:cxnSp>
        <p:sp>
          <p:nvSpPr>
            <p:cNvPr id="151" name="Oval 33"/>
            <p:cNvSpPr/>
            <p:nvPr/>
          </p:nvSpPr>
          <p:spPr>
            <a:xfrm>
              <a:off x="6835680" y="2237040"/>
              <a:ext cx="136440" cy="136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AutoShape 21"/>
          <p:cNvSpPr/>
          <p:nvPr/>
        </p:nvSpPr>
        <p:spPr>
          <a:xfrm>
            <a:off x="7693200" y="907920"/>
            <a:ext cx="1450800" cy="501840"/>
          </a:xfrm>
          <a:prstGeom prst="roundRect">
            <a:avLst>
              <a:gd name="adj" fmla="val 16667"/>
            </a:avLst>
          </a:prstGeom>
          <a:solidFill>
            <a:srgbClr val="dedefa"/>
          </a:solidFill>
          <a:ln w="25560">
            <a:solidFill>
              <a:srgbClr val="1f1f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е изображ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21"/>
          <p:cNvSpPr/>
          <p:nvPr/>
        </p:nvSpPr>
        <p:spPr>
          <a:xfrm>
            <a:off x="4211640" y="2597040"/>
            <a:ext cx="1568520" cy="471600"/>
          </a:xfrm>
          <a:prstGeom prst="roundRect">
            <a:avLst>
              <a:gd name="adj" fmla="val 16667"/>
            </a:avLst>
          </a:prstGeom>
          <a:solidFill>
            <a:srgbClr val="dedefa"/>
          </a:solidFill>
          <a:ln w="25560">
            <a:solidFill>
              <a:srgbClr val="1f1f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единение изображе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28"/>
          <p:cNvSpPr/>
          <p:nvPr/>
        </p:nvSpPr>
        <p:spPr>
          <a:xfrm>
            <a:off x="3360600" y="0"/>
            <a:ext cx="218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7012-BCB4-42BC-B667-E4D0CAECBB74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50920" y="981000"/>
            <a:ext cx="8643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Еще один приме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4"/>
          <p:cNvSpPr/>
          <p:nvPr/>
        </p:nvSpPr>
        <p:spPr>
          <a:xfrm>
            <a:off x="611280" y="2276640"/>
            <a:ext cx="5832360" cy="18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::reducer_opadd</a:t>
            </a:r>
            <a:r>
              <a:rPr b="0" lang="nn-NO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&lt;float&gt; sum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for</a:t>
            </a:r>
            <a:r>
              <a:rPr b="0" lang="nn-NO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( size_t i=1; i&lt;n; ++i 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nn-NO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sum += f(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... = sum.</a:t>
            </a:r>
            <a:r>
              <a:rPr b="1" lang="nn-NO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get_value()</a:t>
            </a:r>
            <a:r>
              <a:rPr b="0" lang="nn-NO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F729-6526-4EB6-8206-2795FFBA6E97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324000" y="1916280"/>
            <a:ext cx="780876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5120" indent="-195120" algn="ctr">
              <a:lnSpc>
                <a:spcPct val="100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им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3D6D-032A-4133-832E-CB4DE51C2AEC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оугольник 4"/>
          <p:cNvSpPr/>
          <p:nvPr/>
        </p:nvSpPr>
        <p:spPr>
          <a:xfrm>
            <a:off x="539640" y="692280"/>
            <a:ext cx="7632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45"/>
                </a:solidFill>
                <a:latin typeface="Courier New"/>
                <a:ea typeface="Courier New"/>
              </a:rPr>
              <a:t>#include &lt;cilk/cilk.h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45"/>
                </a:solidFill>
                <a:latin typeface="Courier New"/>
                <a:ea typeface="Courier New"/>
              </a:rPr>
              <a:t>#include &lt;cilk/reducer_opadd.h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45"/>
                </a:solidFill>
                <a:latin typeface="Courier New"/>
                <a:ea typeface="Courier New"/>
              </a:rPr>
              <a:t>#include &lt;iostream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45"/>
                </a:solidFill>
                <a:latin typeface="Courier New"/>
                <a:ea typeface="Courier New"/>
              </a:rPr>
              <a:t>#include &lt;math.h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2e45"/>
                </a:solidFill>
                <a:latin typeface="Courier New"/>
                <a:ea typeface="Courier New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45"/>
                </a:solidFill>
                <a:latin typeface="Courier New"/>
                <a:ea typeface="Courier New"/>
              </a:rPr>
              <a:t>// CilkForSum class uses cilk_for keyword to compute the sum in parall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45"/>
                </a:solidFill>
                <a:latin typeface="Courier New"/>
                <a:ea typeface="Courier New"/>
              </a:rPr>
              <a:t>// cilk::reducer_opadd class is used for syn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45"/>
                </a:solidFill>
                <a:latin typeface="Courier New"/>
                <a:ea typeface="Courier New"/>
              </a:rPr>
              <a:t>class CilkForSum : public Sum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45"/>
                </a:solidFill>
                <a:latin typeface="Courier New"/>
                <a:ea typeface="Courier New"/>
              </a:rPr>
              <a:t>public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45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2e2e45"/>
                </a:solidFill>
                <a:latin typeface="Courier New"/>
                <a:ea typeface="Courier New"/>
              </a:rPr>
              <a:t>virtual double FindSum(SimpleArray &amp;data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45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2e2e45"/>
                </a:solidFill>
                <a:latin typeface="Courier New"/>
                <a:ea typeface="Courier New"/>
              </a:rPr>
              <a:t>cilk::reducer_opadd&lt;double&gt; result(0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45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2e2e45"/>
                </a:solidFill>
                <a:latin typeface="Courier New"/>
                <a:ea typeface="Courier New"/>
              </a:rPr>
              <a:t>cilk_for(int i=0; i&lt;data.GetSize(); i++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45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2e2e45"/>
                </a:solidFill>
                <a:latin typeface="Courier New"/>
                <a:ea typeface="Courier New"/>
              </a:rPr>
              <a:t>result += operation(data[i]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45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2e2e45"/>
                </a:solidFill>
                <a:latin typeface="Courier New"/>
                <a:ea typeface="Courier New"/>
              </a:rPr>
              <a:t>return result.get_value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45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2e2e45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45"/>
                </a:solidFill>
                <a:latin typeface="Courier New"/>
                <a:ea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7801-4BD7-4461-B269-AD48FEDC0F10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304920" y="2286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1f2e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04920" y="1523880"/>
            <a:ext cx="861048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1f1f2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Область видимости переменных в многопоточных программах. Проблемы и реш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1f1f2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Гиперобъекты 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Intel® Cilk</a:t>
            </a:r>
            <a:r>
              <a:rPr b="0" lang="en-US" sz="2400" spc="-1" strike="noStrike" baseline="30000">
                <a:solidFill>
                  <a:srgbClr val="1f1f2e"/>
                </a:solidFill>
                <a:latin typeface="Times New Roman"/>
                <a:ea typeface="Times New Roman"/>
              </a:rPr>
              <a:t>TM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Plus</a:t>
            </a: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BEA9-E33F-40E8-8F04-6FF07D9BB527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07960" y="1916280"/>
            <a:ext cx="780912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5120" indent="-195120" algn="ctr">
              <a:lnSpc>
                <a:spcPct val="100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ользовательск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 algn="ctr">
              <a:lnSpc>
                <a:spcPct val="100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гиперобъек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2BC1-163F-4A20-8E09-EF0C097ABA32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Content Placeholder 2"/>
          <p:cNvSpPr/>
          <p:nvPr/>
        </p:nvSpPr>
        <p:spPr>
          <a:xfrm>
            <a:off x="304920" y="72864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Редуктор, определённый пользователем, состоит из 4-х логических часте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e2e4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View</a:t>
            </a:r>
            <a:r>
              <a:rPr b="0" lang="en-US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класс, приватные данные редуктора. Конструктор должен инициализировать изображ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e2e4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Monoid</a:t>
            </a:r>
            <a:r>
              <a:rPr b="0" lang="en-US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класс. Множество значений, ассоциативная операция на этом множестве и инициализирующее знач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e2e4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Гиперобъект</a:t>
            </a:r>
            <a:r>
              <a:rPr b="0" lang="en-US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изображение для каждого пото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e2e4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Остальная часть редуктора</a:t>
            </a:r>
            <a:r>
              <a:rPr b="0" lang="en-US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описывает, как выполняется доступ к данным и их модификация. 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get_value()</a:t>
            </a:r>
            <a:r>
              <a:rPr b="0" lang="en-US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возвращает знач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1258-2548-48C7-BCD2-ED83B6614B29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900000" y="0"/>
            <a:ext cx="780912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5120" indent="-195120" algn="ctr">
              <a:lnSpc>
                <a:spcPct val="100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им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250920" y="985680"/>
            <a:ext cx="85690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#include &lt;cilk/reducer.h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class poi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// </a:t>
            </a:r>
            <a:r>
              <a:rPr b="0" lang="ru-RU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Здесь – определение класса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poi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class point_hol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struct Monoid: cilk::monoid_base&lt;poin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static void reduce (point *left, point *right) {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priva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::reducer&lt;Monoid&gt; imp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public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point_holder() : imp_() {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void set(int x, int y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point &amp;p = imp_.view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p.set(x, y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bool is_valid() { return imp_.view().is_valid()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int x() { return imp_.view().x()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int y() { return imp_.view().y()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3CE8-5AED-48BD-8790-7B8795799CCE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itle 3"/>
          <p:cNvSpPr/>
          <p:nvPr/>
        </p:nvSpPr>
        <p:spPr>
          <a:xfrm>
            <a:off x="304920" y="2286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1f2e"/>
                </a:solidFill>
                <a:latin typeface="Arial"/>
              </a:rPr>
              <a:t>Cilk Plus </a:t>
            </a:r>
            <a:r>
              <a:rPr b="1" lang="ru-RU" sz="3200" spc="-1" strike="noStrike">
                <a:solidFill>
                  <a:srgbClr val="1f1f2e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1f1f2e"/>
                </a:solidFill>
                <a:latin typeface="Arial"/>
              </a:rPr>
              <a:t> Cilksc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Content Placeholder 2"/>
          <p:cNvSpPr/>
          <p:nvPr/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Cilk Plus</a:t>
            </a:r>
            <a:r>
              <a:rPr b="0" lang="en-US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позволяет выявлять гонки за данными независимо от числа потоков, при умеренных накладных расходах (памяти и процессорного времени)</a:t>
            </a:r>
            <a:r>
              <a:rPr b="0" lang="en-US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Cilkscreen</a:t>
            </a:r>
            <a:r>
              <a:rPr b="0" lang="en-US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инструмент выявления гонок за дан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1691-E900-4095-A661-E717F11DD083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9BE2-9D07-44F7-AC06-8C74551F7764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11280" y="1844640"/>
            <a:ext cx="78087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5120" indent="-195120" algn="ctr">
              <a:lnSpc>
                <a:spcPct val="100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Область видимости переменных в многопоточных программах. Проблемы и реш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EC0B-03F8-49EE-B99C-94116CE7E98D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79280" y="476280"/>
            <a:ext cx="6624720" cy="57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Область видимости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– один из важнейших атрибутов переменной. Если область видимости ограничена, переменная называется </a:t>
            </a:r>
            <a:r>
              <a:rPr b="0" i="1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локальной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. Если область видимости переменной совпадает с программой, переменная называется </a:t>
            </a:r>
            <a:r>
              <a:rPr b="0" i="1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глобальной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В многопоточном программировании область видимости получает дополнительное измерение – видимость между потоками. Исполнение параллельной программы перестаёт быть локальным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P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Использование глобальных переменных позволяет избежать «раздувания» списков параметров. Глобальными объявляются часто используемые парамет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Cont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обочные эффекты использования глобальных переменных могут препятствовать эффективной реализации параллел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6732720" y="1773360"/>
            <a:ext cx="2384280" cy="33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1DD7-A064-446B-BEAA-B25FEA5C69BE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24000" y="189000"/>
            <a:ext cx="842472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усть два оператора из разных потоков имеют доступ к одной переменной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x</a:t>
            </a:r>
            <a:r>
              <a:rPr b="0" lang="en-US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Тогда могут существовать 3 типа гонок за данны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Table 29" descr=""/>
          <p:cNvPicPr/>
          <p:nvPr/>
        </p:nvPicPr>
        <p:blipFill>
          <a:blip r:embed="rId1"/>
          <a:stretch/>
        </p:blipFill>
        <p:spPr>
          <a:xfrm>
            <a:off x="176040" y="993600"/>
            <a:ext cx="8669520" cy="28162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4"/>
          <p:cNvSpPr/>
          <p:nvPr/>
        </p:nvSpPr>
        <p:spPr>
          <a:xfrm>
            <a:off x="468360" y="3898800"/>
            <a:ext cx="828036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Размер машинного слова</a:t>
            </a: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может влиять на наличие гонок – при работе с упакованными структурами данных. Приме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b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Наличие гонок может зависеть от уровня оптимиз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0EF1-58E1-4C44-8BF7-54DDD8D3F8F6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24000" y="476280"/>
            <a:ext cx="842472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обочные эффек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Гонки за данными </a:t>
            </a: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– возникают при одновременном доступе из разных потоков к одной переменной. Отрицательный эффект – утрата детерминизма в поведении программы, утрата корректности. Это происходит, ес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хотя бы один поток производит запись в общую переменную,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доступ к переменной происходит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Как избежать гонок за данны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Синхронизация </a:t>
            </a: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доступа к перемен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Использование </a:t>
            </a:r>
            <a:r>
              <a:rPr b="1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локальных</a:t>
            </a: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относительно потоков перемен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FD15-1D45-40E8-BD88-D335076AB924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539640" y="1994040"/>
            <a:ext cx="780912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5120" indent="-195120" algn="ctr">
              <a:lnSpc>
                <a:spcPct val="100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Гиперобъекты в </a:t>
            </a:r>
            <a:r>
              <a:rPr b="1" lang="en-US" sz="36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Intel® Cilk</a:t>
            </a:r>
            <a:r>
              <a:rPr b="1" lang="en-US" sz="3600" spc="-1" strike="noStrike" baseline="30000">
                <a:solidFill>
                  <a:srgbClr val="1f1f2e"/>
                </a:solidFill>
                <a:latin typeface="Times New Roman"/>
                <a:ea typeface="Times New Roman"/>
              </a:rPr>
              <a:t>TM</a:t>
            </a:r>
            <a:r>
              <a:rPr b="1" lang="en-US" sz="36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Pl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CA08-523E-4D60-90EC-47F4637C6DE9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250920" y="476280"/>
            <a:ext cx="8643960" cy="54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Гиперобъекты</a:t>
            </a: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(</a:t>
            </a:r>
            <a:r>
              <a:rPr b="1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редукторы</a:t>
            </a: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) в </a:t>
            </a:r>
            <a:r>
              <a:rPr b="0" lang="en-US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Intel® Cilk</a:t>
            </a:r>
            <a:r>
              <a:rPr b="0" lang="en-US" sz="1800" spc="-1" strike="noStrike" baseline="30000">
                <a:solidFill>
                  <a:srgbClr val="1f1f2e"/>
                </a:solidFill>
                <a:latin typeface="Times New Roman"/>
                <a:ea typeface="Times New Roman"/>
              </a:rPr>
              <a:t>TM</a:t>
            </a:r>
            <a:r>
              <a:rPr b="0" lang="en-US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Plus </a:t>
            </a: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– реализуют механизм разрешения гонок за данны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Гиперобъект (редуктор) – в простейшем случае объект, с которым ассоциированы: значение, начальное значение, функция привед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Обращаться с редуктором надо как с объектом. Например, запрещено прямое копирование – результат такого копирования не определё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и работе с редукторами не надо использовать блокировки </a:t>
            </a:r>
            <a:r>
              <a:rPr b="0" lang="en-US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=&gt; </a:t>
            </a: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увеличивается производительность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Редукторы сохраняют последовательную семантику: результат параллельной программы совпадает с результатом последовательной програм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Редукторы можно использовать не только в цикл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еременная может быть описана как </a:t>
            </a:r>
            <a:r>
              <a:rPr b="0" i="1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редуктор</a:t>
            </a: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относительно ассоциативной операции (сложение, умножение, логическое И, объединение списков и другие). Требуется также использование соответствующего заголовочного файла. Приме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6ED2-9E76-4483-9EC0-EB9F846DFFF4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50920" y="476280"/>
            <a:ext cx="8643960" cy="12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4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им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1403280" y="1484280"/>
            <a:ext cx="583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#include &lt;cilk/cilk.h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#include &lt;cilk/reducer_min.h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template &lt;typename 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size_t IndexOfMin(T array[], size_t n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::reducer_min_index&lt;size_t, T&gt; 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for (int i = 0; i &lt; n; ++i)</a:t>
            </a:r>
            <a:br>
              <a:rPr sz="1800"/>
            </a:b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r.min_of(i, array[i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return r.get_index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7:24:44Z</dcterms:created>
  <dc:creator/>
  <dc:description/>
  <dc:language>en-US</dc:language>
  <cp:lastModifiedBy/>
  <dcterms:modified xsi:type="dcterms:W3CDTF">2012-06-05T20:54:0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45801033</vt:lpwstr>
  </property>
</Properties>
</file>