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2E3F-3440-4B38-8926-2BAD96437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FAEA-DA48-40CF-91A1-7B5729463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CF0F-21CE-42A1-9A9A-B62ACF03E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819B-CC70-41AF-9E38-1613D191E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E21A4-4DBC-4283-9581-E2B5B5DE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4D09C-4B28-46BE-9C56-057AF082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E3A21-ACB6-40A6-89D7-5231644E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5A623-59CE-4607-AABC-9EF81259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5712C-7F15-4F94-B878-57862A2D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9FA58-2D05-448C-A71E-B133B42E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DF7AD-D628-4E5B-80D0-222F6BA7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785B-771D-4453-BEEF-9A7685A82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D4A10-AD89-419A-AC73-0DC0266D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43B48-9861-4AE8-ACC5-FAF940CF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80AFA-C8AC-4A82-9C5E-40007D6E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C1218-A8B5-4EEF-B335-1AA80153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72DAD-89D0-4938-B0F2-34CB24C0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9858-EA63-4C40-962C-BE91A5DB5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D29C-3CC9-4ABD-AAD5-78922A5EA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C62C-575F-43CF-8F13-251506611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2EDA-CE75-4B55-97FF-32D1951EC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EE2A-620F-461E-A15D-A25FEB5E8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5174-5289-4989-91F2-A2E14F9C2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48BE-0BF8-4089-995F-3F6D21171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e5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8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F0A-513B-43EB-8399-F57B9EA7567F}" type="datetime">
              <a:rPr b="0" lang="en-US" sz="1400" spc="-1" strike="noStrike">
                <a:solidFill>
                  <a:srgbClr val="595841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841"/>
                </a:solidFill>
                <a:latin typeface="Arial"/>
              </a:rPr>
              <a:t>[Project Name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8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9F02-9AE2-4BA7-8659-202221CAACBA}" type="slidenum">
              <a:rPr b="0" lang="en-US" sz="1400" spc="-1" strike="noStrike">
                <a:solidFill>
                  <a:srgbClr val="59584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e5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8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8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FAB9-1DD8-4EE1-B156-D5E4F168BD77}" type="slidenum">
              <a:rPr b="0" lang="en-US" sz="1400" spc="-1" strike="noStrike">
                <a:solidFill>
                  <a:srgbClr val="59584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31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3e5c"/>
                </a:solidFill>
                <a:latin typeface="Arial"/>
              </a:rPr>
              <a:t>Intel® Cilk</a:t>
            </a:r>
            <a:r>
              <a:rPr b="1" lang="en-US" sz="4400" spc="-1" strike="noStrike" baseline="30000">
                <a:solidFill>
                  <a:srgbClr val="3e3e5c"/>
                </a:solidFill>
                <a:latin typeface="Arial"/>
              </a:rPr>
              <a:t>TM</a:t>
            </a:r>
            <a:r>
              <a:rPr b="1" lang="en-US" sz="4400" spc="-1" strike="noStrike">
                <a:solidFill>
                  <a:srgbClr val="3e3e5c"/>
                </a:solidFill>
                <a:latin typeface="Arial"/>
              </a:rPr>
              <a:t> Plus</a:t>
            </a:r>
            <a:br>
              <a:rPr sz="4400"/>
            </a:br>
            <a:r>
              <a:rPr b="1" lang="ru-RU" sz="4400" spc="-1" strike="noStrike">
                <a:solidFill>
                  <a:srgbClr val="3e3e5c"/>
                </a:solidFill>
                <a:latin typeface="Arial"/>
              </a:rPr>
              <a:t>Основная часть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Лекция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1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Intel® Cilk</a:t>
            </a:r>
            <a:r>
              <a:rPr b="1" lang="en-US" sz="2800" spc="-1" strike="noStrike" baseline="30000">
                <a:solidFill>
                  <a:srgbClr val="3e3e5c"/>
                </a:solidFill>
                <a:latin typeface="Arial"/>
              </a:rPr>
              <a:t>TM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Plus –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общая характеристика и ключевые слова</a:t>
            </a:r>
            <a:endParaRPr b="1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3" name="Rectangle 1026"/>
          <p:cNvSpPr/>
          <p:nvPr/>
        </p:nvSpPr>
        <p:spPr>
          <a:xfrm>
            <a:off x="1332000" y="519264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841"/>
                </a:solidFill>
                <a:latin typeface="Arial"/>
              </a:rPr>
              <a:t>Немнюгин Сергей Андре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A9FF-CE20-40B4-B49F-F6DCEF58AAC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50920" y="560520"/>
            <a:ext cx="84978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пределяет и описывает потенциальный параллел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ланиров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тображает его на реально существующую конфигурацию пото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Задачи связаны между собой отношениями подчинения. Конфигурацию приложения во время его выполнения можно изобразить в виде направленного ациклического графа (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DAG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6D42-F57E-48B5-85C0-13A1AB16DAD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560520"/>
            <a:ext cx="446544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Граф задач в </a:t>
            </a:r>
            <a:r>
              <a:rPr b="0" lang="en-US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Cilk-</a:t>
            </a: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программе является динамическим – он создаётся и изменяется в процессе выполнения пр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«Ветви» - последовательные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фрагменты кода. Исполняются в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режимах «продолжения»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«порожден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Узлу порождения соответствуют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2 «наследни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4" descr="ris_tasks.png"/>
          <p:cNvPicPr/>
          <p:nvPr/>
        </p:nvPicPr>
        <p:blipFill>
          <a:blip r:embed="rId1"/>
          <a:stretch/>
        </p:blipFill>
        <p:spPr>
          <a:xfrm>
            <a:off x="4668840" y="189000"/>
            <a:ext cx="4295880" cy="5905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krugzheltyi.png"/>
          <p:cNvPicPr/>
          <p:nvPr/>
        </p:nvPicPr>
        <p:blipFill>
          <a:blip r:embed="rId2"/>
          <a:stretch/>
        </p:blipFill>
        <p:spPr>
          <a:xfrm>
            <a:off x="611280" y="162864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krugsinii.png"/>
          <p:cNvPicPr/>
          <p:nvPr/>
        </p:nvPicPr>
        <p:blipFill>
          <a:blip r:embed="rId3"/>
          <a:stretch/>
        </p:blipFill>
        <p:spPr>
          <a:xfrm>
            <a:off x="611280" y="2951280"/>
            <a:ext cx="31428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95B7-9F10-4E01-AC83-EA749269B1EF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Рисунок 4"/>
          <p:cNvSpPr/>
          <p:nvPr/>
        </p:nvSpPr>
        <p:spPr>
          <a:xfrm>
            <a:off x="755640" y="1341360"/>
            <a:ext cx="37893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124000" y="189000"/>
            <a:ext cx="70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 выполнении параллельной 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-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ограммы формируется очередь задач. Выполнением задач занимаются «исполнители» (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workers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то- пото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х число задаётся с помощью переменной окружения 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_NWORK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export CILK_NWORKERS=4 (Linux/bas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пределение задач между потоками выполняется методом «захвата работы» – освободившийся поток выполняет очередную зада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4" descr="ris_cilk_program2.png"/>
          <p:cNvPicPr/>
          <p:nvPr/>
        </p:nvPicPr>
        <p:blipFill>
          <a:blip r:embed="rId1"/>
          <a:stretch/>
        </p:blipFill>
        <p:spPr>
          <a:xfrm>
            <a:off x="611280" y="1386000"/>
            <a:ext cx="3789360" cy="52117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4859280" y="34290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доступен только один поток, программа выполняется как последова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767C-8331-449B-86AA-D2D43F34DB7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50920" y="1119240"/>
            <a:ext cx="8643960" cy="37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Сериализация (выполнение программы в последовательном режиме) происходит, если степень параллелизма целевой платформы недостаточно вел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Сериализация также происходит при использовании заголовочного файла </a:t>
            </a:r>
            <a:r>
              <a:rPr b="0" lang="en-US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&lt;cilk/cilk_stub.h&gt; </a:t>
            </a:r>
            <a:r>
              <a:rPr b="0" lang="ru-RU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и при компиляции с соответствующим ключом</a:t>
            </a:r>
            <a:r>
              <a:rPr b="0" lang="en-US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icc: -cilk-serial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icl: /Qcilk-serial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В </a:t>
            </a:r>
            <a:r>
              <a:rPr b="0" lang="en-US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Microsoft Visual Studio </a:t>
            </a: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сериализовать </a:t>
            </a:r>
            <a:r>
              <a:rPr b="0" lang="en-US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Cilk-</a:t>
            </a:r>
            <a:r>
              <a:rPr b="0" lang="ru-RU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программу можно та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Properties </a:t>
            </a:r>
            <a:r>
              <a:rPr b="1" lang="en-US" sz="1800" spc="-1" strike="noStrike">
                <a:solidFill>
                  <a:srgbClr val="3e3e5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C/C++ </a:t>
            </a:r>
            <a:r>
              <a:rPr b="1" lang="en-US" sz="1800" spc="-1" strike="noStrike">
                <a:solidFill>
                  <a:srgbClr val="3e3e5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Language [Intel C++] </a:t>
            </a:r>
            <a:r>
              <a:rPr b="1" lang="en-US" sz="1800" spc="-1" strike="noStrike">
                <a:solidFill>
                  <a:srgbClr val="3e3e5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Replace Intel Cilk Plus Keywords with Serial Equiva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1515-9C0E-430E-BDAD-270814DEC41D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3" descr="ris_cilk_program.png"/>
          <p:cNvPicPr/>
          <p:nvPr/>
        </p:nvPicPr>
        <p:blipFill>
          <a:blip r:embed="rId1"/>
          <a:stretch/>
        </p:blipFill>
        <p:spPr>
          <a:xfrm>
            <a:off x="611280" y="1125360"/>
            <a:ext cx="4249800" cy="47055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4859280" y="189000"/>
            <a:ext cx="3600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доступно несколько потоков, программа выполняется как параллельная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испетчеризация основана на «жадных»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(greedy)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алгоритм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6"/>
          <p:cNvSpPr/>
          <p:nvPr/>
        </p:nvSpPr>
        <p:spPr>
          <a:xfrm>
            <a:off x="4859280" y="4076640"/>
            <a:ext cx="1728720" cy="5763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225400" y="4213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Arial"/>
              </a:rPr>
              <a:t>Захв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49BD-12BC-4910-8F6C-BA9212BFAA55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9640" y="199404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труктура </a:t>
            </a:r>
            <a:r>
              <a:rPr b="1" lang="en-US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1" lang="en-US" sz="36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42A2-ACA8-4C0A-B8F9-64D8C3806E6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50920" y="1324080"/>
            <a:ext cx="86439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лючевые слова (всего 3!)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– порождение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   – распараллеливание цик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ync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 – синхронизация задач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изкие накладные расх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2BB5-9358-4F50-A4C9-C5EEBC107CE2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50920" y="1413000"/>
            <a:ext cx="8643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иперобъекты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дукторы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дукторы – «параллельные» глобальные переменные,  позволяющие избежать гонок за данными и блокиров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ффективное управление редукторами обеспечивается системой исполнения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-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огра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2DD-7B69-42CB-B193-923DED2870EB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50920" y="1459080"/>
            <a:ext cx="864396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Функции прикладного программного интерфейса (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1f2e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__cilkrts_set_param(“nworkers”, “4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1f2e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__cilkrts_get_nworker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1f2e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__cilkrts_get_total_worker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1f2e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__cilkrts_get_worker_numb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32A-1282-471B-9884-DB3E1D67B940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20760" y="476280"/>
            <a:ext cx="864396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ширенная индексная но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тличает 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</a:t>
            </a:r>
            <a:r>
              <a:rPr b="1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т 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</a:t>
            </a:r>
            <a:r>
              <a:rPr b="1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Удобная запись операций с масси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Более высокая эффективность операций с массивами (компилятор порождает исполняемый код, использующий векторные инструк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ходство с сечениями массивов языка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Fortran,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 различии в синтаксисе и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92040" y="4794120"/>
            <a:ext cx="864396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if (a[:] &gt; b[:]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[:] = d[:] * e[: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} else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[:] = d[:] * 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849D-9972-4F0E-BCDA-F6BEE4555863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2286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1f2e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04920" y="1523880"/>
            <a:ext cx="861048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0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 –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бщая характери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Модель программы в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0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труктура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Intel® Cilk</a:t>
            </a:r>
            <a:r>
              <a:rPr b="0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лючевые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ACB-C35F-472F-B735-F203E102A0F3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50920" y="1339920"/>
            <a:ext cx="864396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лементные (векторные)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лементные функции обеспечивают векторизацию вычисления математических фун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Аргументы элементных функций – векторы знач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озвращается вектор результата, конформный векторному аргумен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38E7-B1AF-4678-B8C0-5E6CD9E9F99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1339920"/>
            <a:ext cx="864396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__declspec (vector) double heat_distribution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XL, double YL, double t, double sigma, double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time_sqrt = sqrt(ti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d1 = (log(S/K)+r*time)/(sigma*time_sqrt)+0.5*sigma*time_sqr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d2 = d1-(sigma*time_sqr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return S*N(d1) - K*exp(-t*r)*N(d2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4E41-6BBF-4B74-AC5C-5E6D98F0D52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907920"/>
            <a:ext cx="864396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иректива </a:t>
            </a:r>
            <a:r>
              <a:rPr b="1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SI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екторизация тех фрагментов кода, которые необходимо векторизовать – подсказка векторизующему компилято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спользуются векторные регистры (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VX)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оцесс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спользуется векторное расширение команд процессора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SSE (Streaming SIMD Extens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омпилятор генерирует векторизованный к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ограммист гарантирует корректность векторной семан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Циклы остаются без изме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6ACB-A092-42A5-AEB4-3BA99DA34DAE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50920" y="1604880"/>
            <a:ext cx="8643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saxpy( float a, float x[], float y[], size_t n 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#pragma si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 size_t i=0; i&lt;n; ++i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y[i] += a*x[i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4C6B-EB29-4704-8B48-F569E7DE425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50920" y="1052640"/>
            <a:ext cx="8643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Файл заголов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cilk/cilk.h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еременные ок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сновная - 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NWORKERS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(количество потоков)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4D9F-8815-43D1-AABD-2136E020A0C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539640" y="2209680"/>
            <a:ext cx="780912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лючев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457-EE29-4864-A6A6-D51576D355C8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9640" y="11592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лючевое слово </a:t>
            </a:r>
            <a:r>
              <a:rPr b="1" lang="en-US" sz="36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50920" y="1568520"/>
            <a:ext cx="864396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является псевдонимом для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_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С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ilk_spawn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бозначает </a:t>
            </a:r>
            <a:r>
              <a:rPr b="0" i="1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точку порождения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В этой точке создаётся новая задача, выполнение которой может быть продолжено данным потоком или захвачено другим (параллельным) пото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является указанием системе исполнения на то, что данная функция может (но не обязана) выполняться параллельно с функцией, из которой она вызв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интаксис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опустим любой из трёх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имя_функции_потомка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type var = cilk_spawn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имя_функции_потомка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var = cilk_spawn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имя_функции_потомка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64B4-6367-4B6D-BB65-B438844E9BF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50920" y="549360"/>
            <a:ext cx="864396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опуска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var = cilk_spawn (object.*pointer)(arg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 [&amp;]{ g(f()); }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 g(f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ва последних варианта – в первом обе функции выполняются в потомке, во втором случае сначала выполняется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f(),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затем – потом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орождение с использованием лямбда-выра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 [&amp;]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 int i=0; i&lt;n; ++i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a[i] = 0;</a:t>
            </a:r>
            <a:br>
              <a:rPr sz="2000"/>
            </a:b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} 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ync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80C1-14F5-40CB-BF79-944387610C3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50920" y="549360"/>
            <a:ext cx="864396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е допуска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g(cilk_spawn f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4539-8886-4A01-B8FE-1E995E0F3BE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50920" y="1568520"/>
            <a:ext cx="864396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floyd_warshall(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int k = 0; k &lt; n; ++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int i = 0; i &lt; n; ++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 work(k,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5FDF-7D42-4E7B-973D-2D67871D5E5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79600" y="2133720"/>
            <a:ext cx="78087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1" lang="en-US" sz="36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– общая характерис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A83-9BD5-41CD-B04E-22C4BAD4937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39640" y="11592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лючевое слово </a:t>
            </a:r>
            <a:r>
              <a:rPr b="1" lang="en-US" sz="36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yn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50920" y="1568520"/>
            <a:ext cx="864396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ync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является псевдонимом для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_Cilk_sync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бозначает </a:t>
            </a:r>
            <a:r>
              <a:rPr b="0" i="1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точку синхронизации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В этой точке выполнение задач синхронизируется (барьерная синхронизац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ыполнение функции с точкой синхронизации невозможно параллельно с потоком. Оно приостанавливается до тех пор, пока не будет завершён потомок. Затем выполнение функции возобновля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еявно точка синхронизации присутствует в конце каждой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2543-CC27-4DC2-A214-8DB2AA65025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50920" y="1341360"/>
            <a:ext cx="864396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SpawnSum(int nThreads) : _nThreads(nThreads), result(0) {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virtual double FindSum(SimpleArray &amp;data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int i=0; i&lt;_nThreads; i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 _SumComputer(dat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    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i * data.GetSize() / _nThread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    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(i+1) * data.GetSize() / _nThread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yn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turn result.get_valu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142E-2F01-43CE-BAD5-EC6763B66D8A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455760" y="158760"/>
            <a:ext cx="8237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лохой и хороший сти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858960" y="1473120"/>
            <a:ext cx="2255760" cy="1425240"/>
          </a:xfrm>
          <a:prstGeom prst="rect">
            <a:avLst/>
          </a:prstGeom>
          <a:noFill/>
          <a:ln w="9360">
            <a:solidFill>
              <a:srgbClr val="1f1f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1f1f2e"/>
                </a:solidFill>
                <a:latin typeface="Arial"/>
              </a:rPr>
              <a:t>// </a:t>
            </a:r>
            <a:r>
              <a:rPr b="0" lang="ru-RU" sz="1600" spc="-1" strike="noStrike">
                <a:solidFill>
                  <a:srgbClr val="1f1f2e"/>
                </a:solidFill>
                <a:latin typeface="Arial"/>
              </a:rPr>
              <a:t>Плохой стиль</a:t>
            </a:r>
            <a:r>
              <a:rPr b="0" lang="nn-NO" sz="1600" spc="-1" strike="noStrike">
                <a:solidFill>
                  <a:srgbClr val="1f1f2e"/>
                </a:solidFill>
                <a:latin typeface="Arial"/>
              </a:rPr>
              <a:t> </a:t>
            </a:r>
            <a:r>
              <a:rPr b="1" lang="nn-NO" sz="1600" spc="-1" strike="noStrike">
                <a:solidFill>
                  <a:srgbClr val="1f1f2e"/>
                </a:solidFill>
                <a:latin typeface="Arial"/>
              </a:rPr>
              <a:t>cilk_spawn</a:t>
            </a:r>
            <a:r>
              <a:rPr b="0" lang="nn-NO" sz="1600" spc="-1" strike="noStrike">
                <a:solidFill>
                  <a:srgbClr val="1f1f2e"/>
                </a:solidFill>
                <a:latin typeface="Arial"/>
              </a:rPr>
              <a:t> f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600" spc="-1" strike="noStrike">
                <a:solidFill>
                  <a:srgbClr val="1f1f2e"/>
                </a:solidFill>
                <a:latin typeface="Arial"/>
              </a:rPr>
              <a:t>cilk_spawn</a:t>
            </a:r>
            <a:r>
              <a:rPr b="0" lang="nn-NO" sz="1600" spc="-1" strike="noStrike">
                <a:solidFill>
                  <a:srgbClr val="1f1f2e"/>
                </a:solidFill>
                <a:latin typeface="Arial"/>
              </a:rPr>
              <a:t> g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1f1f2e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600" spc="-1" strike="noStrike">
                <a:solidFill>
                  <a:srgbClr val="1f1f2e"/>
                </a:solidFill>
                <a:latin typeface="Arial"/>
              </a:rPr>
              <a:t>cilk_sync</a:t>
            </a:r>
            <a:r>
              <a:rPr b="0" lang="nn-NO" sz="1600" spc="-1" strike="noStrike">
                <a:solidFill>
                  <a:srgbClr val="1f1f2e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3541680" y="1114560"/>
            <a:ext cx="5164200" cy="2178360"/>
            <a:chOff x="3541680" y="1114560"/>
            <a:chExt cx="5164200" cy="2178360"/>
          </a:xfrm>
        </p:grpSpPr>
        <p:sp>
          <p:nvSpPr>
            <p:cNvPr id="177" name="Freeform 76"/>
            <p:cNvSpPr/>
            <p:nvPr/>
          </p:nvSpPr>
          <p:spPr>
            <a:xfrm>
              <a:off x="3541680" y="2001960"/>
              <a:ext cx="618840" cy="368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f(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76"/>
            <p:cNvSpPr/>
            <p:nvPr/>
          </p:nvSpPr>
          <p:spPr>
            <a:xfrm>
              <a:off x="4619520" y="2001960"/>
              <a:ext cx="691920" cy="368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g(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76"/>
            <p:cNvSpPr/>
            <p:nvPr/>
          </p:nvSpPr>
          <p:spPr>
            <a:xfrm>
              <a:off x="5881680" y="2028960"/>
              <a:ext cx="898560" cy="368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5"/>
            <p:cNvSpPr/>
            <p:nvPr/>
          </p:nvSpPr>
          <p:spPr>
            <a:xfrm>
              <a:off x="3795480" y="1362240"/>
              <a:ext cx="2487960" cy="632520"/>
            </a:xfrm>
            <a:custGeom>
              <a:avLst/>
              <a:gdLst/>
              <a:ahLst/>
              <a:rect l="l" t="t" r="r" b="b"/>
              <a:pathLst>
                <a:path w="1581151" h="333377">
                  <a:moveTo>
                    <a:pt x="1581151" y="0"/>
                  </a:moveTo>
                  <a:cubicBezTo>
                    <a:pt x="1392238" y="163513"/>
                    <a:pt x="3175" y="-73024"/>
                    <a:pt x="0" y="3333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1"/>
            <p:cNvSpPr/>
            <p:nvPr/>
          </p:nvSpPr>
          <p:spPr>
            <a:xfrm>
              <a:off x="4938120" y="1669320"/>
              <a:ext cx="1355760" cy="33336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581151" h="333377">
                  <a:moveTo>
                    <a:pt x="1581151" y="0"/>
                  </a:moveTo>
                  <a:cubicBezTo>
                    <a:pt x="1392238" y="163513"/>
                    <a:pt x="3175" y="-73024"/>
                    <a:pt x="0" y="3333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Straight Arrow Connector 43"/>
            <p:cNvCxnSpPr/>
            <p:nvPr/>
          </p:nvCxnSpPr>
          <p:spPr>
            <a:xfrm>
              <a:off x="6294240" y="1114560"/>
              <a:ext cx="1080" cy="92160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sp>
          <p:nvSpPr>
            <p:cNvPr id="183" name="Freeform 45"/>
            <p:cNvSpPr/>
            <p:nvPr/>
          </p:nvSpPr>
          <p:spPr>
            <a:xfrm flipV="1">
              <a:off x="3795480" y="2365560"/>
              <a:ext cx="2412360" cy="519480"/>
            </a:xfrm>
            <a:custGeom>
              <a:avLst/>
              <a:gdLst>
                <a:gd name="textAreaLeft" fmla="*/ 0 w 2412360"/>
                <a:gd name="textAreaRight" fmla="*/ 2412360 w 2412360"/>
                <a:gd name="textAreaTop" fmla="*/ -360 h 519480"/>
                <a:gd name="textAreaBottom" fmla="*/ 519480 h 519480"/>
              </a:gdLst>
              <a:ahLst/>
              <a:rect l="textAreaLeft" t="textAreaTop" r="textAreaRight" b="textAreaBottom"/>
              <a:pathLst>
                <a:path w="1581151" h="337401">
                  <a:moveTo>
                    <a:pt x="1581151" y="4024"/>
                  </a:moveTo>
                  <a:cubicBezTo>
                    <a:pt x="1222739" y="6542"/>
                    <a:pt x="3175" y="-69000"/>
                    <a:pt x="0" y="33740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6"/>
            <p:cNvSpPr/>
            <p:nvPr/>
          </p:nvSpPr>
          <p:spPr>
            <a:xfrm flipV="1">
              <a:off x="4923360" y="2361960"/>
              <a:ext cx="1284120" cy="407160"/>
            </a:xfrm>
            <a:custGeom>
              <a:avLst/>
              <a:gdLst>
                <a:gd name="textAreaLeft" fmla="*/ 0 w 1284120"/>
                <a:gd name="textAreaRight" fmla="*/ 1284120 w 1284120"/>
                <a:gd name="textAreaTop" fmla="*/ -360 h 407160"/>
                <a:gd name="textAreaBottom" fmla="*/ 407160 h 407160"/>
              </a:gdLst>
              <a:ahLst/>
              <a:rect l="textAreaLeft" t="textAreaTop" r="textAreaRight" b="textAreaBottom"/>
              <a:pathLst>
                <a:path w="1497827" h="547961">
                  <a:moveTo>
                    <a:pt x="1497827" y="0"/>
                  </a:moveTo>
                  <a:cubicBezTo>
                    <a:pt x="1308914" y="163513"/>
                    <a:pt x="3175" y="141560"/>
                    <a:pt x="0" y="54796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5" name="Straight Arrow Connector 50"/>
            <p:cNvCxnSpPr>
              <a:endCxn id="186" idx="0"/>
            </p:cNvCxnSpPr>
            <p:nvPr/>
          </p:nvCxnSpPr>
          <p:spPr>
            <a:xfrm>
              <a:off x="6294240" y="2398680"/>
              <a:ext cx="1080" cy="3434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cxnSp>
          <p:nvCxnSpPr>
            <p:cNvPr id="187" name="Straight Arrow Connector 60"/>
            <p:cNvCxnSpPr/>
            <p:nvPr/>
          </p:nvCxnSpPr>
          <p:spPr>
            <a:xfrm flipH="1">
              <a:off x="6436440" y="1375920"/>
              <a:ext cx="1469160" cy="302040"/>
            </a:xfrm>
            <a:prstGeom prst="straightConnector1">
              <a:avLst/>
            </a:prstGeom>
            <a:ln w="19080">
              <a:solidFill>
                <a:srgbClr val="1f1fd3"/>
              </a:solidFill>
              <a:miter/>
              <a:tailEnd len="lg" type="arrow" w="lg"/>
            </a:ln>
          </p:spPr>
        </p:cxnSp>
        <p:sp>
          <p:nvSpPr>
            <p:cNvPr id="188" name="AutoShape 12"/>
            <p:cNvSpPr/>
            <p:nvPr/>
          </p:nvSpPr>
          <p:spPr>
            <a:xfrm>
              <a:off x="7104240" y="1173240"/>
              <a:ext cx="1601640" cy="600120"/>
            </a:xfrm>
            <a:prstGeom prst="roundRect">
              <a:avLst>
                <a:gd name="adj" fmla="val 16667"/>
              </a:avLst>
            </a:prstGeom>
            <a:solidFill>
              <a:srgbClr val="dedefa"/>
            </a:solidFill>
            <a:ln w="25560">
              <a:solidFill>
                <a:srgbClr val="1f1f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f1f2e"/>
                  </a:solidFill>
                  <a:latin typeface="Arial"/>
                </a:rPr>
                <a:t>Лишняя работ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76"/>
            <p:cNvSpPr/>
            <p:nvPr/>
          </p:nvSpPr>
          <p:spPr>
            <a:xfrm>
              <a:off x="6192720" y="2741400"/>
              <a:ext cx="202320" cy="202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9" name="Straight Arrow Connector 79"/>
            <p:cNvCxnSpPr/>
            <p:nvPr/>
          </p:nvCxnSpPr>
          <p:spPr>
            <a:xfrm>
              <a:off x="6297120" y="2949840"/>
              <a:ext cx="1080" cy="3434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</p:grpSp>
      <p:grpSp>
        <p:nvGrpSpPr>
          <p:cNvPr id="190" name="Group 2"/>
          <p:cNvGrpSpPr/>
          <p:nvPr/>
        </p:nvGrpSpPr>
        <p:grpSpPr>
          <a:xfrm>
            <a:off x="858960" y="3781440"/>
            <a:ext cx="4757760" cy="1837080"/>
            <a:chOff x="858960" y="3781440"/>
            <a:chExt cx="4757760" cy="1837080"/>
          </a:xfrm>
        </p:grpSpPr>
        <p:sp>
          <p:nvSpPr>
            <p:cNvPr id="191" name="TextBox 21"/>
            <p:cNvSpPr/>
            <p:nvPr/>
          </p:nvSpPr>
          <p:spPr>
            <a:xfrm>
              <a:off x="858960" y="3897000"/>
              <a:ext cx="2255760" cy="1463400"/>
            </a:xfrm>
            <a:prstGeom prst="rect">
              <a:avLst/>
            </a:prstGeom>
            <a:noFill/>
            <a:ln w="9360">
              <a:solidFill>
                <a:srgbClr val="1f1f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n-NO" sz="1600" spc="-1" strike="noStrike">
                  <a:solidFill>
                    <a:srgbClr val="1f1f2e"/>
                  </a:solidFill>
                  <a:latin typeface="Arial"/>
                </a:rPr>
                <a:t>// </a:t>
              </a:r>
              <a:r>
                <a:rPr b="0" lang="ru-RU" sz="1600" spc="-1" strike="noStrike">
                  <a:solidFill>
                    <a:srgbClr val="1f1f2e"/>
                  </a:solidFill>
                  <a:latin typeface="Arial"/>
                </a:rPr>
                <a:t>Хороший сти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n-NO" sz="1600" spc="-1" strike="noStrike">
                  <a:solidFill>
                    <a:srgbClr val="1f1f2e"/>
                  </a:solidFill>
                  <a:latin typeface="Arial"/>
                </a:rPr>
                <a:t>cilk_spawn</a:t>
              </a:r>
              <a:r>
                <a:rPr b="0" lang="nn-NO" sz="1600" spc="-1" strike="noStrike">
                  <a:solidFill>
                    <a:srgbClr val="1f1f2e"/>
                  </a:solidFill>
                  <a:latin typeface="Arial"/>
                </a:rPr>
                <a:t> f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n-NO" sz="1600" spc="-1" strike="noStrike">
                  <a:solidFill>
                    <a:srgbClr val="1f1f2e"/>
                  </a:solidFill>
                  <a:latin typeface="Arial"/>
                </a:rPr>
                <a:t>g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n-NO" sz="1600" spc="-1" strike="noStrike">
                  <a:solidFill>
                    <a:srgbClr val="1f1f2e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n-NO" sz="1600" spc="-1" strike="noStrike">
                  <a:solidFill>
                    <a:srgbClr val="1f1f2e"/>
                  </a:solidFill>
                  <a:latin typeface="Arial"/>
                </a:rPr>
                <a:t>cilk_sync</a:t>
              </a:r>
              <a:r>
                <a:rPr b="0" lang="nn-NO" sz="1600" spc="-1" strike="noStrike">
                  <a:solidFill>
                    <a:srgbClr val="1f1f2e"/>
                  </a:solidFill>
                  <a:latin typeface="Arial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76"/>
            <p:cNvSpPr/>
            <p:nvPr/>
          </p:nvSpPr>
          <p:spPr>
            <a:xfrm>
              <a:off x="3542040" y="4508640"/>
              <a:ext cx="618840" cy="368280"/>
            </a:xfrm>
            <a:prstGeom prst="pie">
              <a:avLst/>
            </a:prstGeom>
            <a:noFill/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f(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6"/>
            <p:cNvSpPr/>
            <p:nvPr/>
          </p:nvSpPr>
          <p:spPr>
            <a:xfrm>
              <a:off x="4619880" y="4506840"/>
              <a:ext cx="996840" cy="642600"/>
            </a:xfrm>
            <a:prstGeom prst="pie">
              <a:avLst/>
            </a:prstGeom>
            <a:noFill/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g(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1f2e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73"/>
            <p:cNvGrpSpPr/>
            <p:nvPr/>
          </p:nvGrpSpPr>
          <p:grpSpPr>
            <a:xfrm>
              <a:off x="3796200" y="3781440"/>
              <a:ext cx="1330200" cy="718920"/>
              <a:chOff x="3796200" y="3781440"/>
              <a:chExt cx="1330200" cy="718920"/>
            </a:xfrm>
          </p:grpSpPr>
          <p:sp>
            <p:nvSpPr>
              <p:cNvPr id="195" name="Freeform 66"/>
              <p:cNvSpPr/>
              <p:nvPr/>
            </p:nvSpPr>
            <p:spPr>
              <a:xfrm>
                <a:off x="3796200" y="4093920"/>
                <a:ext cx="1321920" cy="406080"/>
              </a:xfrm>
              <a:custGeom>
                <a:avLst/>
                <a:gdLst>
                  <a:gd name="textAreaLeft" fmla="*/ 0 w 1321920"/>
                  <a:gd name="textAreaRight" fmla="*/ 1322280 w 132192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581151" h="333377">
                    <a:moveTo>
                      <a:pt x="1581151" y="0"/>
                    </a:moveTo>
                    <a:cubicBezTo>
                      <a:pt x="1392238" y="163513"/>
                      <a:pt x="3175" y="-73024"/>
                      <a:pt x="0" y="333377"/>
                    </a:cubicBezTo>
                  </a:path>
                </a:pathLst>
              </a:custGeom>
              <a:noFill/>
              <a:ln w="19080">
                <a:solidFill>
                  <a:srgbClr val="1f1f2e"/>
                </a:solidFill>
                <a:round/>
                <a:headEnd len="med" type="oval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96" name="Straight Arrow Connector 68"/>
              <p:cNvCxnSpPr/>
              <p:nvPr/>
            </p:nvCxnSpPr>
            <p:spPr>
              <a:xfrm>
                <a:off x="5125680" y="3781440"/>
                <a:ext cx="1080" cy="719280"/>
              </a:xfrm>
              <a:prstGeom prst="straightConnector1">
                <a:avLst/>
              </a:prstGeom>
              <a:ln w="19080">
                <a:solidFill>
                  <a:srgbClr val="1f1f2e"/>
                </a:solidFill>
                <a:miter/>
                <a:headEnd len="med" type="oval" w="med"/>
                <a:tailEnd len="med" type="arrow" w="med"/>
              </a:ln>
            </p:spPr>
          </p:cxnSp>
        </p:grpSp>
        <p:sp>
          <p:nvSpPr>
            <p:cNvPr id="197" name="Freeform 71"/>
            <p:cNvSpPr/>
            <p:nvPr/>
          </p:nvSpPr>
          <p:spPr>
            <a:xfrm flipV="1">
              <a:off x="3795840" y="4872240"/>
              <a:ext cx="1244520" cy="51912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519120"/>
                <a:gd name="textAreaBottom" fmla="*/ 519120 h 519120"/>
              </a:gdLst>
              <a:ahLst/>
              <a:rect l="textAreaLeft" t="textAreaTop" r="textAreaRight" b="textAreaBottom"/>
              <a:pathLst>
                <a:path w="1581151" h="337401">
                  <a:moveTo>
                    <a:pt x="1581151" y="4024"/>
                  </a:moveTo>
                  <a:cubicBezTo>
                    <a:pt x="1222739" y="6542"/>
                    <a:pt x="3175" y="-69000"/>
                    <a:pt x="0" y="337401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round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8" name="Straight Arrow Connector 70"/>
            <p:cNvCxnSpPr/>
            <p:nvPr/>
          </p:nvCxnSpPr>
          <p:spPr>
            <a:xfrm>
              <a:off x="5126040" y="5130720"/>
              <a:ext cx="1080" cy="48816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sp>
          <p:nvSpPr>
            <p:cNvPr id="199" name="Oval 80"/>
            <p:cNvSpPr/>
            <p:nvPr/>
          </p:nvSpPr>
          <p:spPr>
            <a:xfrm>
              <a:off x="5024880" y="5273640"/>
              <a:ext cx="203040" cy="20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1f1f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CF2C-7899-4C38-9681-565B4D3FE2EE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39640" y="11592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лючевое слово </a:t>
            </a:r>
            <a:r>
              <a:rPr b="1" lang="en-US" sz="36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</a:t>
            </a:r>
            <a:r>
              <a:rPr b="1" lang="en-US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50920" y="1568520"/>
            <a:ext cx="864396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является псевдонимом к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_Cilk_for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параллеливание цикла. В программе используется вместо заголовка цикла с параметро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(int k = 0; k &lt; Niterations; ++k) {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тело цикла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 конце цикла используется барьерная синхронизация – исполнение программы продолжается только после завершения всех итер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интаксис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опустим любой из трёх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(описания; условное выражение; приращ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3A02-93CC-4030-AB7F-4EBAF0E3244A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50920" y="476280"/>
            <a:ext cx="864396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грани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параллеливаются только циклы без цикловых зависимостей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(итерации могут выполняться независим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едопустимы переходы в тело цикла и из него (операто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goto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с переходом из тела цикла или в тело цикла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 цикле должна быть только одна переменная цик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еременная цикла не должна модифицироваться в цик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раницы изменения параметра и шаг не должны меняться в теле цик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Цикл не должен быть бесконеч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194B-DD98-4837-A1CC-39F8FE463A93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50920" y="907920"/>
            <a:ext cx="86439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floyd_warshall(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 (int k = 0; k &lt; n; ++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int i = 0; i &lt; n; ++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work(k,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nn-NO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E7E6-1BF3-4D80-9AD6-EA504E435799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50920" y="260280"/>
            <a:ext cx="86439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Алгорит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курсивный алгоритм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divide-and- conquer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ельзя считать, что каждая итерация цикла запускается в параллельном поток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омпилятор преобразует тело цикла в функцию, которая вызывается рекурсивно, с использованием стратегии «разделяй и властву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324000" y="3306600"/>
            <a:ext cx="4895640" cy="26434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5364000" y="3213000"/>
            <a:ext cx="37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а каждом уровне рекурсии половина оставшейся работы выполняется потомком , а вторая половина – продолж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Такой алгоритм позволяет обеспечить оптимальный баланс накладных расходов и выигрыша в результате распараллеливания для циклов с разной слож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0172-06B9-4DFA-9867-09B9A69CDD52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24000" y="476280"/>
            <a:ext cx="86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#pragma cilk grainsize 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 (int Niterations = 0; Niterations &lt; 8; ++ Niterat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(</a:t>
            </a:r>
            <a:r>
              <a:rPr b="0" lang="nn-NO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Niterations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250920" y="1413000"/>
            <a:ext cx="87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лючевое слово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grainsize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задаёт гранулярность распараллеливания (количество итераций в наименьшей «порции», которые будут выполняться последовательн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зенристость не указано явно, используется следующая форму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#pragma cilk grainsize = min(512, N / (8*p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Здесь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N –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число итераций цикла,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p –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число исполнителей. В случае, когда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N&gt;4096*p,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зернистость устанавливается равной 5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grainsize = 0,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спользуется формула по умолч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grainsize &lt; 0,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езультат не определё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#pragma cilk grainsize = n/(4*__cilkrts_get_nworkers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Зернистость будет определяться во время выполнения програм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9A04-D546-4205-A74F-4BD08F0B1435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4" descr="ris_cikl2.png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FD8B-9D84-4E8B-9C70-FBC5115F8E1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250920" y="720720"/>
            <a:ext cx="87487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ак выбрать оптимальное значение зернист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количество работы значительно варьируется от итерации к итерации, следует уменьшить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grainsiz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все итерации «маленькие» (в смысле вычислительной сложности) , следует увеличить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grainsiz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птимальность выбора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grainsize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ледует подтверждать опытнм путём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7629-49C1-40C6-A0C5-295B01C685D2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50920" y="404640"/>
            <a:ext cx="8643960" cy="58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1" lang="en-US" sz="28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r>
              <a:rPr b="0" lang="en-US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ширение языков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/C++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(ключевые слова, расширенная вектор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отация, гиперобъекты, элементные функци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беспечивает эффективный и безопасный параллелизм типа «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fork-join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(операция порождения –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spawn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, гиперобъекты, диспетчеризация систем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сполнени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беспечивает векторный параллелизм (векторизация операций с сечени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массивов и элементных функций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Fortran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(в настоящее время) не поддержив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0" lang="en-US" sz="20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оддерживается компилятора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 (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ачиная с версии 12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GCC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(начиная с версии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4.7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овместим с 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Microsoft Visual Stud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Мультиплатформенность (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Windows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Linux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риентирован на «обычные» процессоры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,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а также на ускоритель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MIC (Many-Integrated-Core).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GPGPU (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графические ускорители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не поддерживаю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FDEF-10AE-41AE-BC5B-2150D0E3390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39640" y="11592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611280" y="1916280"/>
            <a:ext cx="30304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 int i=0; i&lt;n; ++i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 f(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yn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76"/>
          <p:cNvSpPr/>
          <p:nvPr/>
        </p:nvSpPr>
        <p:spPr>
          <a:xfrm>
            <a:off x="6929280" y="2790720"/>
            <a:ext cx="641520" cy="317160"/>
          </a:xfrm>
          <a:prstGeom prst="pie">
            <a:avLst/>
          </a:prstGeom>
          <a:solidFill>
            <a:srgbClr val="c8ffc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Arial"/>
              </a:rPr>
              <a:t>++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21"/>
          <p:cNvGrpSpPr/>
          <p:nvPr/>
        </p:nvGrpSpPr>
        <p:grpSpPr>
          <a:xfrm>
            <a:off x="6956280" y="1827360"/>
            <a:ext cx="640080" cy="574200"/>
            <a:chOff x="6956280" y="1827360"/>
            <a:chExt cx="640080" cy="574200"/>
          </a:xfrm>
        </p:grpSpPr>
        <p:sp>
          <p:nvSpPr>
            <p:cNvPr id="223" name="Freeform 76"/>
            <p:cNvSpPr/>
            <p:nvPr/>
          </p:nvSpPr>
          <p:spPr>
            <a:xfrm>
              <a:off x="6956280" y="2084400"/>
              <a:ext cx="640080" cy="31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i=0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Straight Arrow Connector 116"/>
            <p:cNvCxnSpPr/>
            <p:nvPr/>
          </p:nvCxnSpPr>
          <p:spPr>
            <a:xfrm>
              <a:off x="7313400" y="1827360"/>
              <a:ext cx="1080" cy="25776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</p:grpSp>
      <p:sp>
        <p:nvSpPr>
          <p:cNvPr id="225" name="Freeform 76"/>
          <p:cNvSpPr/>
          <p:nvPr/>
        </p:nvSpPr>
        <p:spPr>
          <a:xfrm>
            <a:off x="6892920" y="4172040"/>
            <a:ext cx="639720" cy="317160"/>
          </a:xfrm>
          <a:prstGeom prst="pie">
            <a:avLst/>
          </a:prstGeom>
          <a:solidFill>
            <a:srgbClr val="ffb7b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Arial"/>
              </a:rPr>
              <a:t>++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20"/>
          <p:cNvGrpSpPr/>
          <p:nvPr/>
        </p:nvGrpSpPr>
        <p:grpSpPr>
          <a:xfrm>
            <a:off x="5440320" y="3105000"/>
            <a:ext cx="1916280" cy="2485080"/>
            <a:chOff x="5440320" y="3105000"/>
            <a:chExt cx="1916280" cy="2485080"/>
          </a:xfrm>
        </p:grpSpPr>
        <p:sp>
          <p:nvSpPr>
            <p:cNvPr id="227" name="Oval 117"/>
            <p:cNvSpPr/>
            <p:nvPr/>
          </p:nvSpPr>
          <p:spPr>
            <a:xfrm>
              <a:off x="7170840" y="5212080"/>
              <a:ext cx="185760" cy="188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1f1f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9"/>
            <p:cNvSpPr/>
            <p:nvPr/>
          </p:nvSpPr>
          <p:spPr>
            <a:xfrm>
              <a:off x="5440320" y="3105000"/>
              <a:ext cx="1727640" cy="2219760"/>
            </a:xfrm>
            <a:custGeom>
              <a:avLst/>
              <a:gdLst>
                <a:gd name="textAreaLeft" fmla="*/ 0 w 1727640"/>
                <a:gd name="textAreaRight" fmla="*/ 1728000 w 1727640"/>
                <a:gd name="textAreaTop" fmla="*/ 0 h 2219760"/>
                <a:gd name="textAreaBottom" fmla="*/ 2220120 h 2219760"/>
              </a:gdLst>
              <a:ahLst/>
              <a:rect l="textAreaLeft" t="textAreaTop" r="textAreaRight" b="textAreaBottom"/>
              <a:pathLst>
                <a:path w="2635194" h="3609829">
                  <a:moveTo>
                    <a:pt x="1006839" y="0"/>
                  </a:moveTo>
                  <a:cubicBezTo>
                    <a:pt x="1002502" y="434319"/>
                    <a:pt x="302117" y="359608"/>
                    <a:pt x="139487" y="772800"/>
                  </a:cubicBezTo>
                  <a:cubicBezTo>
                    <a:pt x="-23143" y="1185992"/>
                    <a:pt x="-573403" y="3645021"/>
                    <a:pt x="2635194" y="3609447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9" name="Straight Arrow Connector 120"/>
            <p:cNvCxnSpPr>
              <a:endCxn id="227" idx="0"/>
            </p:cNvCxnSpPr>
            <p:nvPr/>
          </p:nvCxnSpPr>
          <p:spPr>
            <a:xfrm>
              <a:off x="7262640" y="4479480"/>
              <a:ext cx="1080" cy="732600"/>
            </a:xfrm>
            <a:prstGeom prst="straightConnector1">
              <a:avLst/>
            </a:prstGeom>
            <a:ln w="19080">
              <a:solidFill>
                <a:srgbClr val="1f1f2e"/>
              </a:solidFill>
              <a:prstDash val="dash"/>
              <a:miter/>
              <a:tailEnd len="med" type="arrow" w="med"/>
            </a:ln>
          </p:spPr>
        </p:cxnSp>
        <p:sp>
          <p:nvSpPr>
            <p:cNvPr id="230" name="Freeform 121"/>
            <p:cNvSpPr/>
            <p:nvPr/>
          </p:nvSpPr>
          <p:spPr>
            <a:xfrm>
              <a:off x="5657760" y="3778200"/>
              <a:ext cx="1509840" cy="1527480"/>
            </a:xfrm>
            <a:custGeom>
              <a:avLst/>
              <a:gdLst>
                <a:gd name="textAreaLeft" fmla="*/ 0 w 1509840"/>
                <a:gd name="textAreaRight" fmla="*/ 1510200 w 1509840"/>
                <a:gd name="textAreaTop" fmla="*/ 0 h 1527480"/>
                <a:gd name="textAreaBottom" fmla="*/ 1527840 h 1527480"/>
              </a:gdLst>
              <a:ahLst/>
              <a:rect l="textAreaLeft" t="textAreaTop" r="textAreaRight" b="textAreaBottom"/>
              <a:pathLst>
                <a:path w="2516557" h="3616692">
                  <a:moveTo>
                    <a:pt x="814469" y="0"/>
                  </a:moveTo>
                  <a:cubicBezTo>
                    <a:pt x="788240" y="672155"/>
                    <a:pt x="14461" y="231316"/>
                    <a:pt x="6255" y="963827"/>
                  </a:cubicBezTo>
                  <a:cubicBezTo>
                    <a:pt x="-1951" y="1696338"/>
                    <a:pt x="-203129" y="2452277"/>
                    <a:pt x="2516557" y="3616692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22"/>
            <p:cNvSpPr/>
            <p:nvPr/>
          </p:nvSpPr>
          <p:spPr>
            <a:xfrm>
              <a:off x="6126120" y="4470480"/>
              <a:ext cx="1057320" cy="78732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687611" h="3265202">
                  <a:moveTo>
                    <a:pt x="119" y="0"/>
                  </a:moveTo>
                  <a:cubicBezTo>
                    <a:pt x="-16350" y="1420361"/>
                    <a:pt x="1669398" y="2274439"/>
                    <a:pt x="2687611" y="3265202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2" name="Straight Arrow Connector 123"/>
            <p:cNvCxnSpPr/>
            <p:nvPr/>
          </p:nvCxnSpPr>
          <p:spPr>
            <a:xfrm>
              <a:off x="7275600" y="5401080"/>
              <a:ext cx="1080" cy="18936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sp>
          <p:nvSpPr>
            <p:cNvPr id="233" name="Freeform 124"/>
            <p:cNvSpPr/>
            <p:nvPr/>
          </p:nvSpPr>
          <p:spPr>
            <a:xfrm>
              <a:off x="6683400" y="4708440"/>
              <a:ext cx="579240" cy="274680"/>
            </a:xfrm>
            <a:custGeom>
              <a:avLst/>
              <a:gdLst/>
              <a:ahLst/>
              <a:rect l="l" t="t" r="r" b="b"/>
              <a:pathLst>
                <a:path w="1683576" h="501129">
                  <a:moveTo>
                    <a:pt x="1683576" y="0"/>
                  </a:moveTo>
                  <a:cubicBezTo>
                    <a:pt x="1512549" y="487363"/>
                    <a:pt x="3175" y="94728"/>
                    <a:pt x="0" y="501129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prstDash val="dash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16"/>
          <p:cNvGrpSpPr/>
          <p:nvPr/>
        </p:nvGrpSpPr>
        <p:grpSpPr>
          <a:xfrm>
            <a:off x="5799240" y="3101760"/>
            <a:ext cx="1497240" cy="693720"/>
            <a:chOff x="5799240" y="3101760"/>
            <a:chExt cx="1497240" cy="693720"/>
          </a:xfrm>
        </p:grpSpPr>
        <p:sp>
          <p:nvSpPr>
            <p:cNvPr id="235" name="Freeform 76"/>
            <p:cNvSpPr/>
            <p:nvPr/>
          </p:nvSpPr>
          <p:spPr>
            <a:xfrm>
              <a:off x="5799240" y="3478320"/>
              <a:ext cx="682560" cy="317160"/>
            </a:xfrm>
            <a:prstGeom prst="pie">
              <a:avLst/>
            </a:prstGeom>
            <a:solidFill>
              <a:srgbClr val="c8ffc8"/>
            </a:solidFill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f(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10"/>
            <p:cNvSpPr/>
            <p:nvPr/>
          </p:nvSpPr>
          <p:spPr>
            <a:xfrm>
              <a:off x="6210360" y="3219480"/>
              <a:ext cx="1076400" cy="26172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683576" h="501129">
                  <a:moveTo>
                    <a:pt x="1683576" y="0"/>
                  </a:moveTo>
                  <a:cubicBezTo>
                    <a:pt x="1512549" y="487363"/>
                    <a:pt x="3175" y="94728"/>
                    <a:pt x="0" y="501129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round/>
              <a:headEnd len="med" type="oval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7" name="Straight Arrow Connector 114"/>
            <p:cNvCxnSpPr/>
            <p:nvPr/>
          </p:nvCxnSpPr>
          <p:spPr>
            <a:xfrm>
              <a:off x="7294680" y="3219120"/>
              <a:ext cx="2160" cy="2372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cxnSp>
          <p:nvCxnSpPr>
            <p:cNvPr id="238" name="Straight Arrow Connector 125"/>
            <p:cNvCxnSpPr/>
            <p:nvPr/>
          </p:nvCxnSpPr>
          <p:spPr>
            <a:xfrm>
              <a:off x="7295760" y="3101760"/>
              <a:ext cx="1080" cy="1148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</a:ln>
          </p:spPr>
        </p:cxnSp>
      </p:grpSp>
      <p:sp>
        <p:nvSpPr>
          <p:cNvPr id="239" name="Freeform 76"/>
          <p:cNvSpPr/>
          <p:nvPr/>
        </p:nvSpPr>
        <p:spPr>
          <a:xfrm>
            <a:off x="6892920" y="3456000"/>
            <a:ext cx="639720" cy="317160"/>
          </a:xfrm>
          <a:prstGeom prst="pie">
            <a:avLst/>
          </a:prstGeom>
          <a:solidFill>
            <a:srgbClr val="c6bd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Arial"/>
              </a:rPr>
              <a:t>++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23"/>
          <p:cNvGrpSpPr/>
          <p:nvPr/>
        </p:nvGrpSpPr>
        <p:grpSpPr>
          <a:xfrm>
            <a:off x="5794200" y="3765240"/>
            <a:ext cx="1495800" cy="722160"/>
            <a:chOff x="5794200" y="3765240"/>
            <a:chExt cx="1495800" cy="722160"/>
          </a:xfrm>
        </p:grpSpPr>
        <p:sp>
          <p:nvSpPr>
            <p:cNvPr id="241" name="Freeform 76"/>
            <p:cNvSpPr/>
            <p:nvPr/>
          </p:nvSpPr>
          <p:spPr>
            <a:xfrm>
              <a:off x="5794200" y="4170240"/>
              <a:ext cx="684360" cy="317160"/>
            </a:xfrm>
            <a:prstGeom prst="pie">
              <a:avLst/>
            </a:prstGeom>
            <a:solidFill>
              <a:srgbClr val="c6bdff"/>
            </a:solidFill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f(2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2" name="Straight Arrow Connector 112"/>
            <p:cNvCxnSpPr/>
            <p:nvPr/>
          </p:nvCxnSpPr>
          <p:spPr>
            <a:xfrm>
              <a:off x="7288200" y="3885840"/>
              <a:ext cx="2160" cy="28440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sp>
          <p:nvSpPr>
            <p:cNvPr id="243" name="Freeform 115"/>
            <p:cNvSpPr/>
            <p:nvPr/>
          </p:nvSpPr>
          <p:spPr>
            <a:xfrm>
              <a:off x="6165720" y="3886200"/>
              <a:ext cx="1123920" cy="30636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683576" h="501129">
                  <a:moveTo>
                    <a:pt x="1683576" y="0"/>
                  </a:moveTo>
                  <a:cubicBezTo>
                    <a:pt x="1512549" y="487363"/>
                    <a:pt x="3175" y="94728"/>
                    <a:pt x="0" y="501129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round/>
              <a:headEnd len="med" type="oval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4" name="Straight Arrow Connector 126"/>
            <p:cNvCxnSpPr/>
            <p:nvPr/>
          </p:nvCxnSpPr>
          <p:spPr>
            <a:xfrm>
              <a:off x="7289280" y="3765240"/>
              <a:ext cx="1080" cy="1148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</a:ln>
          </p:spPr>
        </p:cxnSp>
      </p:grpSp>
      <p:grpSp>
        <p:nvGrpSpPr>
          <p:cNvPr id="245" name="Group 14"/>
          <p:cNvGrpSpPr/>
          <p:nvPr/>
        </p:nvGrpSpPr>
        <p:grpSpPr>
          <a:xfrm>
            <a:off x="5821200" y="2396880"/>
            <a:ext cx="1468440" cy="711360"/>
            <a:chOff x="5821200" y="2396880"/>
            <a:chExt cx="1468440" cy="711360"/>
          </a:xfrm>
        </p:grpSpPr>
        <p:sp>
          <p:nvSpPr>
            <p:cNvPr id="246" name="Freeform 76"/>
            <p:cNvSpPr/>
            <p:nvPr/>
          </p:nvSpPr>
          <p:spPr>
            <a:xfrm>
              <a:off x="5821200" y="2791080"/>
              <a:ext cx="682560" cy="31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f(0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7" name="Straight Arrow Connector 107"/>
            <p:cNvCxnSpPr>
              <a:stCxn id="248" idx="0"/>
            </p:cNvCxnSpPr>
            <p:nvPr/>
          </p:nvCxnSpPr>
          <p:spPr>
            <a:xfrm flipH="1">
              <a:off x="7286400" y="2511360"/>
              <a:ext cx="3600" cy="27828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sp>
          <p:nvSpPr>
            <p:cNvPr id="248" name="Freeform 109"/>
            <p:cNvSpPr/>
            <p:nvPr/>
          </p:nvSpPr>
          <p:spPr>
            <a:xfrm>
              <a:off x="6213240" y="2511360"/>
              <a:ext cx="1076400" cy="27468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683576" h="501129">
                  <a:moveTo>
                    <a:pt x="1683576" y="0"/>
                  </a:moveTo>
                  <a:cubicBezTo>
                    <a:pt x="1512549" y="487363"/>
                    <a:pt x="3175" y="94728"/>
                    <a:pt x="0" y="501129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round/>
              <a:headEnd len="med" type="oval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9" name="Straight Arrow Connector 127"/>
            <p:cNvCxnSpPr/>
            <p:nvPr/>
          </p:nvCxnSpPr>
          <p:spPr>
            <a:xfrm>
              <a:off x="7286400" y="2396880"/>
              <a:ext cx="1080" cy="1148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</a:ln>
          </p:spPr>
        </p:cxn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BC9A-C921-4D78-BF2E-F833BED05EA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39640" y="11592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971640" y="1268280"/>
            <a:ext cx="239220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a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 b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yn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d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35"/>
          <p:cNvGrpSpPr/>
          <p:nvPr/>
        </p:nvGrpSpPr>
        <p:grpSpPr>
          <a:xfrm>
            <a:off x="4170240" y="1382400"/>
            <a:ext cx="1473480" cy="2752920"/>
            <a:chOff x="4170240" y="1382400"/>
            <a:chExt cx="1473480" cy="2752920"/>
          </a:xfrm>
        </p:grpSpPr>
        <p:sp>
          <p:nvSpPr>
            <p:cNvPr id="254" name="Freeform 76"/>
            <p:cNvSpPr/>
            <p:nvPr/>
          </p:nvSpPr>
          <p:spPr>
            <a:xfrm>
              <a:off x="4170240" y="2425680"/>
              <a:ext cx="627120" cy="317160"/>
            </a:xfrm>
            <a:prstGeom prst="pie">
              <a:avLst/>
            </a:prstGeom>
            <a:solidFill>
              <a:srgbClr val="d4d4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b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29"/>
            <p:cNvSpPr/>
            <p:nvPr/>
          </p:nvSpPr>
          <p:spPr>
            <a:xfrm>
              <a:off x="5262120" y="3077280"/>
              <a:ext cx="185760" cy="18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6" name="Straight Arrow Connector 130"/>
            <p:cNvCxnSpPr/>
            <p:nvPr/>
          </p:nvCxnSpPr>
          <p:spPr>
            <a:xfrm>
              <a:off x="5353200" y="2736720"/>
              <a:ext cx="3600" cy="36576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sp>
          <p:nvSpPr>
            <p:cNvPr id="257" name="Freeform 76"/>
            <p:cNvSpPr/>
            <p:nvPr/>
          </p:nvSpPr>
          <p:spPr>
            <a:xfrm>
              <a:off x="5078520" y="2425680"/>
              <a:ext cx="554040" cy="317160"/>
            </a:xfrm>
            <a:prstGeom prst="pie">
              <a:avLst/>
            </a:prstGeom>
            <a:solidFill>
              <a:srgbClr val="c8ffc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c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8" name="Straight Arrow Connector 132"/>
            <p:cNvCxnSpPr/>
            <p:nvPr/>
          </p:nvCxnSpPr>
          <p:spPr>
            <a:xfrm>
              <a:off x="5354640" y="1885320"/>
              <a:ext cx="1080" cy="54036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sp>
          <p:nvSpPr>
            <p:cNvPr id="259" name="Freeform 133"/>
            <p:cNvSpPr/>
            <p:nvPr/>
          </p:nvSpPr>
          <p:spPr>
            <a:xfrm>
              <a:off x="4510800" y="2109600"/>
              <a:ext cx="844200" cy="3124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683576" h="501129">
                  <a:moveTo>
                    <a:pt x="1683576" y="0"/>
                  </a:moveTo>
                  <a:cubicBezTo>
                    <a:pt x="1512549" y="487363"/>
                    <a:pt x="3175" y="94728"/>
                    <a:pt x="0" y="50112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34"/>
            <p:cNvSpPr/>
            <p:nvPr/>
          </p:nvSpPr>
          <p:spPr>
            <a:xfrm flipV="1">
              <a:off x="4488120" y="2745720"/>
              <a:ext cx="774000" cy="42624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360 h 426240"/>
                <a:gd name="textAreaBottom" fmla="*/ 426960 h 426240"/>
              </a:gdLst>
              <a:ahLst/>
              <a:rect l="textAreaLeft" t="textAreaTop" r="textAreaRight" b="textAreaBottom"/>
              <a:pathLst>
                <a:path w="1391072" h="573590">
                  <a:moveTo>
                    <a:pt x="1391072" y="0"/>
                  </a:moveTo>
                  <a:cubicBezTo>
                    <a:pt x="1202159" y="163513"/>
                    <a:pt x="3175" y="167189"/>
                    <a:pt x="0" y="5735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76"/>
            <p:cNvSpPr/>
            <p:nvPr/>
          </p:nvSpPr>
          <p:spPr>
            <a:xfrm>
              <a:off x="5072040" y="3632400"/>
              <a:ext cx="566640" cy="31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d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76"/>
            <p:cNvSpPr/>
            <p:nvPr/>
          </p:nvSpPr>
          <p:spPr>
            <a:xfrm>
              <a:off x="5065920" y="1565280"/>
              <a:ext cx="577800" cy="31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a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3" name="Straight Arrow Connector 137"/>
            <p:cNvCxnSpPr/>
            <p:nvPr/>
          </p:nvCxnSpPr>
          <p:spPr>
            <a:xfrm>
              <a:off x="5353200" y="3267000"/>
              <a:ext cx="3600" cy="36576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cxnSp>
          <p:nvCxnSpPr>
            <p:cNvPr id="264" name="Straight Arrow Connector 138"/>
            <p:cNvCxnSpPr/>
            <p:nvPr/>
          </p:nvCxnSpPr>
          <p:spPr>
            <a:xfrm>
              <a:off x="5354640" y="3952440"/>
              <a:ext cx="1080" cy="1832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cxnSp>
          <p:nvCxnSpPr>
            <p:cNvPr id="265" name="Straight Arrow Connector 139"/>
            <p:cNvCxnSpPr/>
            <p:nvPr/>
          </p:nvCxnSpPr>
          <p:spPr>
            <a:xfrm>
              <a:off x="5354640" y="1382400"/>
              <a:ext cx="1080" cy="1832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</p:grpSp>
      <p:grpSp>
        <p:nvGrpSpPr>
          <p:cNvPr id="266" name="Group 31"/>
          <p:cNvGrpSpPr/>
          <p:nvPr/>
        </p:nvGrpSpPr>
        <p:grpSpPr>
          <a:xfrm>
            <a:off x="6535800" y="1382400"/>
            <a:ext cx="1474560" cy="2752920"/>
            <a:chOff x="6535800" y="1382400"/>
            <a:chExt cx="1474560" cy="2752920"/>
          </a:xfrm>
        </p:grpSpPr>
        <p:sp>
          <p:nvSpPr>
            <p:cNvPr id="267" name="Freeform 76"/>
            <p:cNvSpPr/>
            <p:nvPr/>
          </p:nvSpPr>
          <p:spPr>
            <a:xfrm>
              <a:off x="6535800" y="2425680"/>
              <a:ext cx="628560" cy="317160"/>
            </a:xfrm>
            <a:prstGeom prst="pie">
              <a:avLst/>
            </a:prstGeom>
            <a:solidFill>
              <a:srgbClr val="d4d4e2"/>
            </a:solidFill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b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141"/>
            <p:cNvSpPr/>
            <p:nvPr/>
          </p:nvSpPr>
          <p:spPr>
            <a:xfrm>
              <a:off x="7628040" y="3076560"/>
              <a:ext cx="187200" cy="190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1f1f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9" name="Straight Arrow Connector 142"/>
            <p:cNvCxnSpPr/>
            <p:nvPr/>
          </p:nvCxnSpPr>
          <p:spPr>
            <a:xfrm>
              <a:off x="7719840" y="2736720"/>
              <a:ext cx="3600" cy="36576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sp>
          <p:nvSpPr>
            <p:cNvPr id="270" name="Freeform 76"/>
            <p:cNvSpPr/>
            <p:nvPr/>
          </p:nvSpPr>
          <p:spPr>
            <a:xfrm>
              <a:off x="7443720" y="2425680"/>
              <a:ext cx="555480" cy="317160"/>
            </a:xfrm>
            <a:prstGeom prst="pie">
              <a:avLst/>
            </a:prstGeom>
            <a:solidFill>
              <a:srgbClr val="c8ffc8"/>
            </a:solidFill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c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1" name="Straight Arrow Connector 144"/>
            <p:cNvCxnSpPr/>
            <p:nvPr/>
          </p:nvCxnSpPr>
          <p:spPr>
            <a:xfrm>
              <a:off x="7721280" y="1885320"/>
              <a:ext cx="1080" cy="54036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sp>
          <p:nvSpPr>
            <p:cNvPr id="272" name="Freeform 145"/>
            <p:cNvSpPr/>
            <p:nvPr/>
          </p:nvSpPr>
          <p:spPr>
            <a:xfrm>
              <a:off x="6877080" y="2109600"/>
              <a:ext cx="844560" cy="31248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683576" h="501129">
                  <a:moveTo>
                    <a:pt x="1683576" y="0"/>
                  </a:moveTo>
                  <a:cubicBezTo>
                    <a:pt x="1512549" y="487363"/>
                    <a:pt x="3175" y="94728"/>
                    <a:pt x="0" y="501129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round/>
              <a:headEnd len="med" type="oval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46"/>
            <p:cNvSpPr/>
            <p:nvPr/>
          </p:nvSpPr>
          <p:spPr>
            <a:xfrm flipV="1">
              <a:off x="6853320" y="2745720"/>
              <a:ext cx="774720" cy="42516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-360 h 425160"/>
                <a:gd name="textAreaBottom" fmla="*/ 425160 h 425160"/>
              </a:gdLst>
              <a:ahLst/>
              <a:rect l="textAreaLeft" t="textAreaTop" r="textAreaRight" b="textAreaBottom"/>
              <a:pathLst>
                <a:path w="1391072" h="573590">
                  <a:moveTo>
                    <a:pt x="1391072" y="0"/>
                  </a:moveTo>
                  <a:cubicBezTo>
                    <a:pt x="1202159" y="163513"/>
                    <a:pt x="3175" y="167189"/>
                    <a:pt x="0" y="573590"/>
                  </a:cubicBezTo>
                </a:path>
              </a:pathLst>
            </a:custGeom>
            <a:noFill/>
            <a:ln w="19080">
              <a:solidFill>
                <a:srgbClr val="1f1f2e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76"/>
            <p:cNvSpPr/>
            <p:nvPr/>
          </p:nvSpPr>
          <p:spPr>
            <a:xfrm>
              <a:off x="7437240" y="3632400"/>
              <a:ext cx="568080" cy="317160"/>
            </a:xfrm>
            <a:prstGeom prst="pie">
              <a:avLst/>
            </a:prstGeom>
            <a:solidFill>
              <a:srgbClr val="c8ffc8"/>
            </a:solidFill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d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76"/>
            <p:cNvSpPr/>
            <p:nvPr/>
          </p:nvSpPr>
          <p:spPr>
            <a:xfrm>
              <a:off x="7432560" y="1565280"/>
              <a:ext cx="577800" cy="31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1f1f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f1f2e"/>
                  </a:solidFill>
                  <a:latin typeface="Arial"/>
                </a:rPr>
                <a:t>a(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6" name="Straight Arrow Connector 149"/>
            <p:cNvCxnSpPr/>
            <p:nvPr/>
          </p:nvCxnSpPr>
          <p:spPr>
            <a:xfrm>
              <a:off x="7719840" y="3267000"/>
              <a:ext cx="3600" cy="36576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cxnSp>
          <p:nvCxnSpPr>
            <p:cNvPr id="277" name="Straight Arrow Connector 150"/>
            <p:cNvCxnSpPr/>
            <p:nvPr/>
          </p:nvCxnSpPr>
          <p:spPr>
            <a:xfrm>
              <a:off x="7721280" y="3952440"/>
              <a:ext cx="1080" cy="1832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  <p:cxnSp>
          <p:nvCxnSpPr>
            <p:cNvPr id="278" name="Straight Arrow Connector 151"/>
            <p:cNvCxnSpPr/>
            <p:nvPr/>
          </p:nvCxnSpPr>
          <p:spPr>
            <a:xfrm>
              <a:off x="7721280" y="1382400"/>
              <a:ext cx="1080" cy="183240"/>
            </a:xfrm>
            <a:prstGeom prst="straightConnector1">
              <a:avLst/>
            </a:prstGeom>
            <a:ln w="19080">
              <a:solidFill>
                <a:srgbClr val="1f1f2e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EEAA-CACE-49F9-93A1-3B18CA035FCA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539640" y="115920"/>
            <a:ext cx="78091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50920" y="836640"/>
            <a:ext cx="864396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cilk/cilk.h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const n = 50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dist[n][n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work(int k, int 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int j = 0; j &lt; n; ++j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f ((dist[i][k] * dist[k][j] != 0) &amp;&amp; (i != j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f ((dist[i][k] + dist[k][j] &lt; dist[i][j]) ||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(dist[i][j] == 0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dist[i][j] = dist[i][k] + dist[k][j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floyd_warshall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(int k = 0; k &lt; n; ++k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int i = 0; i &lt; n; ++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work(k,i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1B95-6041-436D-A146-9DFCD383B66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250920" y="836640"/>
            <a:ext cx="86439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main(int argc, char *argv[]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rand(time(NULL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i, j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i = 0; i &lt; n; ++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j = 0; j &lt; n; ++j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f(i!=j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dist[i][j]=rand()%13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dist[i][j]=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loyd_warshall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FF05-A7E3-4606-BB4C-49FB9E494D85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250920" y="115920"/>
            <a:ext cx="86421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акладные расходы на диспетчериз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536400" y="4941720"/>
            <a:ext cx="792324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ффективность распараллеливания фрагмента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ыше, чем эффективность распараллеливания фрагмента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468360" y="1341360"/>
            <a:ext cx="7559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равним два варианта распараллеливания двойного цик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//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 (int i = 0; i &lt; 4; ++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int j = 0; j &lt; 1000000; ++j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do_work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//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int j = 0; j &lt; 1000000; ++j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 (int i = 0; i &lt; 4; ++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do_work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F33-B1F6-4F6A-89C1-F562CB9964FF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490A-8A56-40B7-875E-695032A99742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35"/>
          <p:cNvSpPr/>
          <p:nvPr/>
        </p:nvSpPr>
        <p:spPr>
          <a:xfrm>
            <a:off x="3419640" y="1557360"/>
            <a:ext cx="5400360" cy="283536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2835360"/>
              <a:gd name="textAreaBottom" fmla="*/ 2835720 h 2835360"/>
            </a:gdLst>
            <a:ahLst/>
            <a:rect l="textAreaLeft" t="textAreaTop" r="textAreaRight" b="textAreaBottom"/>
            <a:pathLst>
              <a:path w="5400359" h="2836547">
                <a:moveTo>
                  <a:pt x="1841184" y="70486"/>
                </a:moveTo>
                <a:cubicBezTo>
                  <a:pt x="978539" y="0"/>
                  <a:pt x="0" y="440369"/>
                  <a:pt x="27638" y="1181095"/>
                </a:cubicBezTo>
                <a:cubicBezTo>
                  <a:pt x="60951" y="1818975"/>
                  <a:pt x="2150114" y="2695575"/>
                  <a:pt x="3012759" y="2766061"/>
                </a:cubicBezTo>
                <a:cubicBezTo>
                  <a:pt x="3875404" y="2836547"/>
                  <a:pt x="5400359" y="2050099"/>
                  <a:pt x="5203509" y="1604011"/>
                </a:cubicBezTo>
                <a:cubicBezTo>
                  <a:pt x="5006659" y="1157923"/>
                  <a:pt x="2703829" y="140972"/>
                  <a:pt x="1841184" y="70486"/>
                </a:cubicBezTo>
                <a:close/>
              </a:path>
            </a:pathLst>
          </a:custGeom>
          <a:solidFill>
            <a:srgbClr val="c8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le 37"/>
          <p:cNvSpPr/>
          <p:nvPr/>
        </p:nvSpPr>
        <p:spPr>
          <a:xfrm>
            <a:off x="5916600" y="3103560"/>
            <a:ext cx="2376360" cy="374760"/>
          </a:xfrm>
          <a:prstGeom prst="roundRect">
            <a:avLst>
              <a:gd name="adj" fmla="val 16667"/>
            </a:avLst>
          </a:prstGeom>
          <a:solidFill>
            <a:srgbClr val="b6b5b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33"/>
          <p:cNvSpPr/>
          <p:nvPr/>
        </p:nvSpPr>
        <p:spPr>
          <a:xfrm>
            <a:off x="509760" y="1843200"/>
            <a:ext cx="3132000" cy="2746440"/>
          </a:xfrm>
          <a:custGeom>
            <a:avLst/>
            <a:gdLst>
              <a:gd name="textAreaLeft" fmla="*/ 0 w 3132000"/>
              <a:gd name="textAreaRight" fmla="*/ 3132360 w 3132000"/>
              <a:gd name="textAreaTop" fmla="*/ 0 h 2746440"/>
              <a:gd name="textAreaBottom" fmla="*/ 2746800 h 2746440"/>
            </a:gdLst>
            <a:ahLst/>
            <a:rect l="textAreaLeft" t="textAreaTop" r="textAreaRight" b="textAreaBottom"/>
            <a:pathLst>
              <a:path w="3132634" h="2746008">
                <a:moveTo>
                  <a:pt x="1911756" y="167638"/>
                </a:moveTo>
                <a:cubicBezTo>
                  <a:pt x="2399431" y="335276"/>
                  <a:pt x="3132634" y="1428576"/>
                  <a:pt x="3029341" y="1808778"/>
                </a:cubicBezTo>
                <a:cubicBezTo>
                  <a:pt x="2891744" y="2307111"/>
                  <a:pt x="2139757" y="2746008"/>
                  <a:pt x="1292000" y="2448851"/>
                </a:cubicBezTo>
                <a:cubicBezTo>
                  <a:pt x="444243" y="2151694"/>
                  <a:pt x="0" y="1183151"/>
                  <a:pt x="103293" y="802949"/>
                </a:cubicBezTo>
                <a:cubicBezTo>
                  <a:pt x="206586" y="422747"/>
                  <a:pt x="1424081" y="0"/>
                  <a:pt x="1911756" y="167638"/>
                </a:cubicBezTo>
                <a:close/>
              </a:path>
            </a:pathLst>
          </a:custGeom>
          <a:solidFill>
            <a:srgbClr val="ff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795240" y="273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MIT Ci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344600" y="3468600"/>
            <a:ext cx="21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Cilk Arts Cilk+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630600" y="273852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F90 Array Exp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916600" y="310356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OpenMP parallel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910040" y="182412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A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538440" y="4110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Intel® Cilk</a:t>
            </a:r>
            <a:r>
              <a:rPr b="0" lang="en-US" sz="1800" spc="-1" strike="noStrike">
                <a:solidFill>
                  <a:srgbClr val="1f1f2e"/>
                </a:solidFill>
                <a:latin typeface="Symbol"/>
                <a:ea typeface="Symbol"/>
              </a:rPr>
              <a:t>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 P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Straight Arrow Connector 13"/>
          <p:cNvCxnSpPr>
            <a:endCxn id="97" idx="0"/>
          </p:cNvCxnSpPr>
          <p:nvPr/>
        </p:nvCxnSpPr>
        <p:spPr>
          <a:xfrm flipH="1">
            <a:off x="4634640" y="2281320"/>
            <a:ext cx="367560" cy="457920"/>
          </a:xfrm>
          <a:prstGeom prst="straightConnector1">
            <a:avLst/>
          </a:prstGeom>
          <a:ln w="19080">
            <a:solidFill>
              <a:srgbClr val="1f1f2e"/>
            </a:solidFill>
            <a:miter/>
            <a:tailEnd len="med" type="arrow" w="med"/>
          </a:ln>
        </p:spPr>
      </p:cxnSp>
      <p:cxnSp>
        <p:nvCxnSpPr>
          <p:cNvPr id="102" name="Straight Arrow Connector 15"/>
          <p:cNvCxnSpPr/>
          <p:nvPr/>
        </p:nvCxnSpPr>
        <p:spPr>
          <a:xfrm flipH="1">
            <a:off x="4543200" y="3195720"/>
            <a:ext cx="2160" cy="915120"/>
          </a:xfrm>
          <a:prstGeom prst="straightConnector1">
            <a:avLst/>
          </a:prstGeom>
          <a:ln w="19080">
            <a:solidFill>
              <a:srgbClr val="1f1f2e"/>
            </a:solidFill>
            <a:miter/>
            <a:tailEnd len="med" type="arrow" w="med"/>
          </a:ln>
        </p:spPr>
      </p:cxnSp>
      <p:cxnSp>
        <p:nvCxnSpPr>
          <p:cNvPr id="103" name="Straight Arrow Connector 17"/>
          <p:cNvCxnSpPr>
            <a:stCxn id="95" idx="2"/>
          </p:cNvCxnSpPr>
          <p:nvPr/>
        </p:nvCxnSpPr>
        <p:spPr>
          <a:xfrm>
            <a:off x="1481040" y="3106440"/>
            <a:ext cx="596160" cy="362520"/>
          </a:xfrm>
          <a:prstGeom prst="straightConnector1">
            <a:avLst/>
          </a:prstGeom>
          <a:ln w="19080">
            <a:solidFill>
              <a:srgbClr val="1f1f2e"/>
            </a:solidFill>
            <a:miter/>
            <a:tailEnd len="med" type="arrow" w="med"/>
          </a:ln>
        </p:spPr>
      </p:cxnSp>
      <p:cxnSp>
        <p:nvCxnSpPr>
          <p:cNvPr id="104" name="Straight Arrow Connector 19"/>
          <p:cNvCxnSpPr>
            <a:endCxn id="100" idx="1"/>
          </p:cNvCxnSpPr>
          <p:nvPr/>
        </p:nvCxnSpPr>
        <p:spPr>
          <a:xfrm>
            <a:off x="2533320" y="3835440"/>
            <a:ext cx="1005480" cy="459360"/>
          </a:xfrm>
          <a:prstGeom prst="straightConnector1">
            <a:avLst/>
          </a:prstGeom>
          <a:ln w="19080">
            <a:solidFill>
              <a:srgbClr val="1f1f2e"/>
            </a:solidFill>
            <a:miter/>
            <a:tailEnd len="med" type="arrow" w="med"/>
          </a:ln>
        </p:spPr>
      </p:cxnSp>
      <p:cxnSp>
        <p:nvCxnSpPr>
          <p:cNvPr id="105" name="Straight Arrow Connector 23"/>
          <p:cNvCxnSpPr/>
          <p:nvPr/>
        </p:nvCxnSpPr>
        <p:spPr>
          <a:xfrm flipH="1">
            <a:off x="5733720" y="3468600"/>
            <a:ext cx="730800" cy="642240"/>
          </a:xfrm>
          <a:prstGeom prst="straightConnector1">
            <a:avLst/>
          </a:prstGeom>
          <a:ln w="19080">
            <a:solidFill>
              <a:srgbClr val="1f1f2e"/>
            </a:solidFill>
            <a:miter/>
            <a:tailEnd len="med" type="arrow" w="med"/>
          </a:ln>
        </p:spPr>
      </p:cxnSp>
      <p:sp>
        <p:nvSpPr>
          <p:cNvPr id="106" name="TextBox 34"/>
          <p:cNvSpPr/>
          <p:nvPr/>
        </p:nvSpPr>
        <p:spPr>
          <a:xfrm>
            <a:off x="1162080" y="2281320"/>
            <a:ext cx="15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2e"/>
                </a:solidFill>
                <a:latin typeface="Arial"/>
              </a:rPr>
              <a:t>Fork-Jo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36"/>
          <p:cNvSpPr/>
          <p:nvPr/>
        </p:nvSpPr>
        <p:spPr>
          <a:xfrm>
            <a:off x="5734080" y="218916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2e"/>
                </a:solidFill>
                <a:latin typeface="Arial"/>
              </a:rPr>
              <a:t>SI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5C6B-4BB5-458D-8E3D-14D7823C14D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50920" y="835200"/>
            <a:ext cx="864396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Удобные средства работы с массивами (расширенная индексная нотация – аналог сечений массивов в языке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Fortran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Удобное использование векторных расширений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оманд, векторизация функ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В </a:t>
            </a:r>
            <a:r>
              <a:rPr b="1" lang="en-US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Intel® Cilk</a:t>
            </a:r>
            <a:r>
              <a:rPr b="1" lang="en-US" sz="2000" spc="-1" strike="noStrike" baseline="30000">
                <a:solidFill>
                  <a:srgbClr val="3e3e5c"/>
                </a:solidFill>
                <a:latin typeface="Times New Roman"/>
                <a:ea typeface="Times New Roman"/>
              </a:rPr>
              <a:t>TM</a:t>
            </a:r>
            <a:r>
              <a:rPr b="1" lang="en-US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Plus</a:t>
            </a:r>
            <a:r>
              <a:rPr b="0" lang="ru-RU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 сохраняется семантика последовательной програм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Программа может выполняться как в последовательном, так и в параллельном режимах</a:t>
            </a:r>
            <a:r>
              <a:rPr b="0" lang="en-US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  <a:ea typeface="Times New Roman"/>
              </a:rPr>
              <a:t>Параллельное выполнение возможно, если это допускает целевая платформа (достаточное количество ядер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9CD1-EB16-4592-A8EF-352D69EF09B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539640" y="260280"/>
            <a:ext cx="7809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611280" y="1535040"/>
            <a:ext cx="777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cilk/cilk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sample_qsort(int * begin, int * e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if (begin != en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--en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* middle = std::partition(begin, en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bind2nd(std::less&lt;int&gt;(),*end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swap(*end, *middle); // pivot to mid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 sample_qsort(begin, middl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ample_qsort(++middle, ++end); // Exclude piv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yn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,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BA5F-F915-4466-BE13-66457C8B028E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84360" y="2205000"/>
            <a:ext cx="78087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Модель программир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1" lang="en-US" sz="36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7951-8897-4600-B925-F4969EEDF3D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620640"/>
            <a:ext cx="864396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 u="sng">
                <a:solidFill>
                  <a:srgbClr val="1f1f2e"/>
                </a:solidFill>
                <a:uFillTx/>
                <a:latin typeface="Times New Roman"/>
                <a:ea typeface="Times New Roman"/>
              </a:rPr>
              <a:t>Модель программирования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Cilk</a:t>
            </a:r>
            <a:r>
              <a:rPr b="1" lang="en-US" sz="20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основана на </a:t>
            </a:r>
            <a:r>
              <a:rPr b="0" i="1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араллелизме задач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ограмма пишется в семантике последовательного программирования. Фрагменты для распараллеливания расщепляются на подзадачи, связанные отношениями подчинения («родитель»-«потомок»). Такая реализация параллелизма иногда называется «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fork-join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ограммист, использующий </a:t>
            </a:r>
            <a:r>
              <a:rPr b="1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</a:t>
            </a:r>
            <a:r>
              <a:rPr b="1" lang="en-US" sz="20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должен думать о том, </a:t>
            </a:r>
            <a:r>
              <a:rPr b="1" i="1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что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следует распараллелить, а не </a:t>
            </a:r>
            <a:r>
              <a:rPr b="1" i="1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ак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В этом – одно из отличий от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OpenMP-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ограмм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Балансировкой занимается 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runtime-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истема. Балансировка выполняется методом </a:t>
            </a:r>
            <a:r>
              <a:rPr b="0" i="1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захвата работы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Алгоритмы диспетчеризации таковы, что их эффективность, как правило, высо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7:24:44Z</dcterms:created>
  <dc:creator/>
  <dc:description/>
  <dc:language>en-US</dc:language>
  <cp:lastModifiedBy/>
  <dcterms:modified xsi:type="dcterms:W3CDTF">2012-06-05T14:59:1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45801033</vt:lpwstr>
  </property>
</Properties>
</file>