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237-6E29-4EFE-A6BD-5611788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BB7-14E6-4D94-81B4-37FE73F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299-C4AE-4789-8398-83DC25FC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74A-252A-4D6A-B82A-F46D3EF4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6AF89-B5BF-4406-B53F-6B128D81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862A1-BD16-4027-AC73-355B2EE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CE42-FC64-400C-A14B-A7550AC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6B74-D6C5-4D53-9DD7-F0D30A6A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A0E4-682E-41C5-8235-D73BB6E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9D9D3-C869-4652-BE4E-1579A42C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1BCE-421F-465B-8121-49C6A13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85C-A8EA-41C8-BAE7-C6FEBC2C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56048-A083-48C3-85F4-11E5D449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6F685-7B94-4AAB-A2F6-5D8E3542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3DFF-C299-42B0-9BC7-C707331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D9CB-94DB-4215-BDFC-9A1DF459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45663-3700-4332-A143-5D066842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C7C0-6C9D-488F-9432-5515CB82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C972-0C88-417B-8BB9-3458E25A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E422-D32F-4BF1-9256-EBB7A77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DF92-493C-4EDD-A405-59A19328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83AF-C4AE-4DBA-8487-1AA8BCA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3DF-6CB8-4111-A3B9-9D69D8B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A4A9-717B-4F0B-9B5D-AF755C9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3600-98C8-466F-A69A-33E52AC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6F24-58D3-40D2-85EB-C661DB2D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F356-D2C8-4156-A8A2-502C4DC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4F01-B629-48FE-BE34-C4165C4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EB0B-AFF5-4924-8AEC-DA198074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348FB-92D8-4C34-B674-E3A9FEF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BE4C-FCB5-4711-B47A-BBE8CF93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C30B-AECF-4C54-BB40-24441F8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8A47-1584-4778-925F-9F8592E5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DB9-D086-4571-BDA0-615A294C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E7E7-BF8F-4345-947F-5DE813D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F833-DE94-43B7-80B4-26BF61F4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38FF-41D7-4848-BCDD-AFF524A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B655-8699-4615-9DEC-371471B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17B1-8442-4570-8F80-03D04D0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C9B6-090B-40B7-9999-2866565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A0C2-1515-4808-8362-7BEFD4AD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A50C-642A-4916-BFFE-E0F1C205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195F-8E75-442B-AA0F-3CB6FB48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590-0AB0-4210-9904-A9AE102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298-D870-4129-859A-4204154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FF3-7B86-4DCE-BC28-1007C6B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DA4-F175-4D8A-B303-F979B81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19C-88A7-45C4-94FC-9C0F6963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53D-CD9E-4396-BE0C-A7414FC0A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F04-C944-4DAF-B89D-DDE4D9BD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14F4-8783-45A7-B0E9-9E9C79ABE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876-3D41-4782-9C94-4489479E3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F7C-F7FD-4725-84A5-349CAC599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CFE1-5F43-4F27-8461-786E7261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D3E6-2CF6-47C3-94DD-13253984E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BF2-0A7E-42F5-8AA7-20113A97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7. Проектирование баз данных и работа с ними Веб-приложений. Введение в БД, SQL Server, ADO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шний и первичный ключ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A3A-C150-4FB1-B71C-4FB05168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285840" y="1928880"/>
          <a:ext cx="842940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928880"/>
                    <a:ext cx="84294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рмальные форм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ервая нормальная форма (1N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находится в 1NF, если значения всех его атрибутов атомар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торая нормальная форма (2N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находится во 2NF, если оно находится в 1NF, и каждый неключевой атрибут функционально полно зависит от клю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Третья нормальная форма (3N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находится в 3 NF, если оно находится во 2 NF, и каждый неключевой атрибут нетранзитивно зависит от первичного клю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ормальная форма Бойса-Кодда (BCN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находится в BCNF, если оно находится во 3 NF, и в ней отсутствуют зависимости атрибутов первичного ключа от неключевых атрибу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ADF-6DAF-409E-B23E-934D7B354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за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– это неделимая, с точки зрения воздействия на СУБД, последовательность операций манипулирования дан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CI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арность (Atom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ованность (Consistenc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ляция (Isol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вечность (Dur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1D3-E8DA-46BD-B7E0-83F404A9F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ирование баз данных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 – процесс решения класса задач, связанных с созданием баз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хранения в БД необходим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возможности получения данных по всем необходимым запро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кращение избыточности и дублирования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целостности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этапы проектирования баз данны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птуальное (инфологическое) проек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ое (даталогическое) проек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проек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F69-25C8-403C-8DB2-97B6B6D2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б-доступ к существующим 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бразование содержимого БД в статические док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намическое создание гипертекстовых доку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информационного хранилища на основе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46E-38E4-4329-8165-968C1FED2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зык 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QL является инструментом, предназначенным для обработки и чтения данных, содержащихся в компьютерной базе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10DC-EA5B-4E16-8142-DB37CC77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785880" y="3643200"/>
          <a:ext cx="709128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643200"/>
                    <a:ext cx="70912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зык SQL делится на несколько част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торы определения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торы манипуляции да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торы определения доступа к дан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торы управления транзакц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торы определения курс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100-83D1-4C4A-A409-95BADBB0C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"/>
          <p:cNvGraphicFramePr/>
          <p:nvPr/>
        </p:nvGraphicFramePr>
        <p:xfrm>
          <a:off x="1714680" y="4286160"/>
          <a:ext cx="445104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4286160"/>
                    <a:ext cx="445104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стоинства 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висимость от конкретных СУБ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носимость с одной вычислительной системы на другу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личие стандарт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ляционная осно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выполнения специальных интерактивных запрос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еспечение программного доступа к базам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различного представления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намического определения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кларатив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422F-AC33-4E60-94D3-84771313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достатки 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ответствие реляционной модели данны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еся строки и неопределенные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ное указание порядка колонок слева на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онки без имени и дублирующиеся имена кол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поддержки свойства «=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указателей и высокая избыто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тупления от стандартов в конкретных реализациях СУБ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ость работы с иерархическими структу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2B5F-3845-4E45-AAFD-4825A243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ные расширен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пулярных СУ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D7A1-3499-4019-BA49-391E98FEE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71680" y="1571760"/>
          <a:ext cx="8001000" cy="3962160"/>
        </p:xfrm>
        <a:graphic>
          <a:graphicData uri="http://schemas.openxmlformats.org/drawingml/2006/table">
            <a:tbl>
              <a:tblPr/>
              <a:tblGrid>
                <a:gridCol w="2180880"/>
                <a:gridCol w="58201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terBase/Firebi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SQL – Procedural SQ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BM D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L PL – SQL Procedural Language (расширяет SQL/PS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S SQL Server/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ybase 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nsact-SQ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ySQ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L/PSM – SQL/Persistent Stored Module (соответствует стандарту SQL:2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ra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L/SQL – Procedural Language/SQL (основан на языке A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stgreSQ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L/pgSQL – Procedural Language/PostgreSQL Structured Query Language (очень похож на Oracle PL/SQ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База данных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за данных – это совокупность связанных данных, организованных по определенным правилам, предусматривающим общие принципы описания, хранения и манипулирования, независимая от прикладных програм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тличительные признаки Б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за данных хранится и обрабатывается в вычислительной сис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нные в базе данных логически структурированы (систематизированы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за данных включает метаданные, описывающие логическую структуру БД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C7D6-FA15-40B9-98B3-B7AB92E79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ступ к данным в 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188720"/>
            <a:ext cx="84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ADO.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сновная модель доступа к данным для приложений, основанных на Microsoft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Lin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– проект Microsoft по добавлению синтаксиса языка запросов, напоминающего SQL, в языки программирования платформы .NET Framework 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ADO.NET Entity Frame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ъектно-ориентированная технология доступа к данным, является ORM-решением для .NET Framework 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8ED-D8ED-40A8-9A99-70DD6CF75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Microsoft SQL 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Microsoft SQL Server – система управления реляционными базами данных (СУБД), разработанная корпорацией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Microsoft SQL Server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msdb.ru/Downloads/SQL2008/white_papers/ProductOverview%20RU.doc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A00E-CCA3-44F1-A94E-068A4B22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5"/>
          <p:cNvGraphicFramePr/>
          <p:nvPr/>
        </p:nvGraphicFramePr>
        <p:xfrm>
          <a:off x="785880" y="2714760"/>
          <a:ext cx="3673440" cy="30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714760"/>
                    <a:ext cx="367344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7" name="Picture 7" descr=""/>
          <p:cNvPicPr/>
          <p:nvPr/>
        </p:nvPicPr>
        <p:blipFill>
          <a:blip r:embed="rId3"/>
          <a:stretch/>
        </p:blipFill>
        <p:spPr>
          <a:xfrm>
            <a:off x="5072040" y="2714760"/>
            <a:ext cx="3429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ADO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DO.NET представляет собой набор библиотек, входящих в Microsoft .NET Framework предназначенных для взаимодействия с различными хранилищами данных из .NET прило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блиотеки ADO.NET включают все необходимые классы для подключения к источникам данных практически произвольного формата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я запросов к этим источникам и получения результа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работы с отсоединенными источникам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C25-6DFB-4E5E-82E6-1FF4768C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ерархия объектов ADO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4E4-63EB-48D1-8A1D-070D4BB6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571680" y="1714680"/>
          <a:ext cx="796284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714680"/>
                    <a:ext cx="796284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овни моделей поставщиков ADO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9A2-154C-42A7-9C27-6EFC28CA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5"/>
          <p:cNvGraphicFramePr/>
          <p:nvPr/>
        </p:nvGraphicFramePr>
        <p:xfrm>
          <a:off x="1071720" y="1500120"/>
          <a:ext cx="7075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00120"/>
                    <a:ext cx="7075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взаимодействия с БД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O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станавливается соединение, открывается подключение к базе дан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ыполняется один или несколько запрос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уществляется отключение от источника дан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 необходимости переноса изменений, из отсоединенного набора данных в БД, а также при необходимости просмотра изменений, внесенных в БД другими пользователями, осуществляется подключение к источнику данных, выполняются необходимые действия, после чего производится отключение от Б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F4C6-CBE6-4D13-AD3C-B0AAF903E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 управления базами да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ами данных (СУБД) – это специализированная программа (чаще комплекс программ), предназначенная для организации и веден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временная СУБД содержит следующие компонен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р языка базы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истему поддержки времени испол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висные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60E-EEC7-4476-B104-A52F8342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оненты СУБД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5F6-41E4-44BE-93F9-1F9CFBF0E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"/>
          <p:cNvGraphicFramePr/>
          <p:nvPr/>
        </p:nvGraphicFramePr>
        <p:xfrm>
          <a:off x="571680" y="1571760"/>
          <a:ext cx="7887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7887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ункции компонентов обработки баз да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2C7-5E9A-4F31-9D25-F6EFA45F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214200" y="1857240"/>
          <a:ext cx="86425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857240"/>
                    <a:ext cx="86425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фикация БД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хнологии хран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Д во вторичной памяти (традицион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Д в оперативной памяти (in-memory datab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Д в третичной памяти (tertiary datab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держим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епени распределен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изованные (сосредоточен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5FA7-8ADC-4D8E-A5A5-08618D29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дель данных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данных есть формальная теория представления и обработки данных в системе управления базами данных (СУБД), которая включает, по меньшей мере, три асп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ор допустимых операций, выполняемых на структур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384-9CD6-4C71-9679-9960BBE1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сификация БД по модели да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ерарх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еляцио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но-ориентирова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но-реляцио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8794-1555-4B98-A3E4-0E1F44A5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нятия реляционных 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ая модель данных (РМД) – логическая модель данных, прикладная теория, описывающая структурный аспект, аспект целостности и аспект обработки данных в реляционных база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 реляционных Б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769-1CD8-46F1-BA74-3E5DF6825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54:34Z</dcterms:modified>
  <cp:revision>26</cp:revision>
  <dc:subject> Лекция 7. Проектирование баз данных и работа с ними Веб-приложений. Введение в БД, SQL Server, ADO.NET</dc:subject>
  <dc:title>Современные веб-технологии. Подробный курс</dc:title>
</cp:coreProperties>
</file>