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178-872B-482B-B618-1DED6298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0DE-94CE-482D-9A45-FBC319B6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769-94BA-4BDE-9F12-117157F2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507-EC9B-4B3B-8F16-2F62129F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888E2-583C-4C48-B6F1-DE1D2CDB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CB11B-D32C-4FC8-B266-70AA5D4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7019C-05FA-41C3-B022-FE0C206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67C1B-A805-4B9E-A3F1-E7F02C3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16A91-223C-437C-8576-38AFFE17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BD4EE-78FF-4689-AB55-4660283D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6C4F2-D4CC-4976-9595-ECE9B521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7A9-E28D-4C24-8A87-46F3EDF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E9D16-3625-4AD9-88BC-109267A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1E337-0479-4439-88E5-4C20212A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0BB8F-9A76-4C3A-8E11-C330D6E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23898-2569-4C1A-B145-69C19D08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1D909-7945-4856-89F8-AE44EAC6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EE84-2B59-4AD4-B5ED-081A8C05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EFD1-0841-44A8-A46E-2AFF35A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7CDE-E000-46B8-B2F9-8A9CF4C6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5C50-1A65-4C55-BED1-C59AEFCC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81F8-4A94-47A1-B700-DD317BEA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DA8-E732-4847-8035-D7856AFC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D930-6BF1-4998-934F-F0BE1941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05CB-8B7A-4344-82D0-DCB21F2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567B-1367-427A-9FCE-4F0EAFE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601C-1347-45BB-8A44-979F3808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3A7D-BEBE-40D2-BC87-1B0ABB7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8FE1-E2D3-46BB-9A1E-29AA38AD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98F4-7B55-4B5F-9453-2854E785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CF9E-B073-4186-9228-92DB400C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FC03-C885-4725-9330-F33181C7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6F1C-9846-4814-A504-16ABEEA6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24B-3D64-40E2-B6B9-B5BF3DB6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6BD0B-73B9-48EB-A9BB-70A58DA5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6B5B-B4CA-4093-9F3D-8ECE421A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B399-503A-4024-870D-D034D32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BED8-34B5-453D-B17C-487A9D9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D157-2CA6-4A5D-B461-693598E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D04D-020A-48C6-9F7D-09EF4AC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819D-1214-4E8F-9659-F8767169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A024-F0B1-443B-90B0-2FE1F71C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F572A-5FBE-4B0D-911F-337BCB8E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CD7-03B6-4E79-B15F-E6D5B429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0A9-DEEF-48CA-9AB0-B23372E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245-41E5-4DC8-AAD2-277828E0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2CC-C3CF-4962-8D5B-8D49060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90A-E946-44E1-85A3-310C61D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DFD4-FF75-48B4-B9D2-E6BA39E2F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A4A0-16B9-467F-A091-3E24F63E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1D2F-2C13-434D-B7D5-E2A6C5269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A28A-6B49-4D6F-B25F-FBF171818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6AA0-FF6F-4A61-BD2C-5F8C8B39C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C2EE-763E-4E07-8830-2EC4F4113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764-2D15-46F0-90CD-38BBA95DD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CD21-AAAE-4480-B96E-47AB11D76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8001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Разработка на ASP.NE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MasterPage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инамические компоненты, AJAX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P.NET M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ASP.NET AJA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789-64B4-4A7E-8F3C-35144BE35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1500120" y="1285920"/>
          <a:ext cx="5748480" cy="49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285920"/>
                    <a:ext cx="574848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ASP.NET MV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SP.NET MVC – реализация шаблона Model-View-Controller под платформу 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ный шаблон Model-View-Controller – разделение приложения на три компон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бизнес-логика разрабатываемого при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вечает за взаимодействие с пользовател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связующее звено между первыми двумя компонен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91E7-C967-4050-8144-70BD06BBF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уктур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MasterP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220E-46DF-4AF0-B566-419EE8949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1857240" y="1214280"/>
          <a:ext cx="50389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214280"/>
                    <a:ext cx="50389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 использован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asterP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783-6CBD-40FC-AEF9-79161A4F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7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558180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1" name="Рисунок 10" descr=""/>
          <p:cNvPicPr/>
          <p:nvPr/>
        </p:nvPicPr>
        <p:blipFill>
          <a:blip r:embed="rId2"/>
          <a:stretch/>
        </p:blipFill>
        <p:spPr>
          <a:xfrm>
            <a:off x="3000240" y="1928880"/>
            <a:ext cx="5943600" cy="22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Рисунок 13" descr=""/>
          <p:cNvPicPr/>
          <p:nvPr/>
        </p:nvPicPr>
        <p:blipFill>
          <a:blip r:embed="rId3"/>
          <a:srcRect l="0" t="23937" r="0" b="14100"/>
          <a:stretch/>
        </p:blipFill>
        <p:spPr>
          <a:xfrm>
            <a:off x="571680" y="3929040"/>
            <a:ext cx="7926120" cy="24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 динамического создания элементов управл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3D57-C9C2-4965-BB70-288A6BCF1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116840" cy="15904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21" descr=""/>
          <p:cNvPicPr/>
          <p:nvPr/>
        </p:nvPicPr>
        <p:blipFill>
          <a:blip r:embed="rId2"/>
          <a:srcRect l="0" t="18709" r="0" b="3115"/>
          <a:stretch/>
        </p:blipFill>
        <p:spPr>
          <a:xfrm>
            <a:off x="1143000" y="3000240"/>
            <a:ext cx="679140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арта сай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0A48-ECB5-44DB-A9B7-67C9AD247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27" descr=""/>
          <p:cNvPicPr/>
          <p:nvPr/>
        </p:nvPicPr>
        <p:blipFill>
          <a:blip r:embed="rId1"/>
          <a:stretch/>
        </p:blipFill>
        <p:spPr>
          <a:xfrm>
            <a:off x="1785960" y="1071720"/>
            <a:ext cx="5181480" cy="31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1000080" y="4286160"/>
            <a:ext cx="700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ование Men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01A-C370-46FD-8419-14979B083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36" descr=""/>
          <p:cNvPicPr/>
          <p:nvPr/>
        </p:nvPicPr>
        <p:blipFill>
          <a:blip r:embed="rId1"/>
          <a:stretch/>
        </p:blipFill>
        <p:spPr>
          <a:xfrm>
            <a:off x="1214280" y="1071720"/>
            <a:ext cx="6756480" cy="32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7" name="Рисунок 45" descr=""/>
          <p:cNvPicPr/>
          <p:nvPr/>
        </p:nvPicPr>
        <p:blipFill>
          <a:blip r:embed="rId2"/>
          <a:srcRect l="0" t="21883" r="0" b="33340"/>
          <a:stretch/>
        </p:blipFill>
        <p:spPr>
          <a:xfrm>
            <a:off x="1928880" y="4429080"/>
            <a:ext cx="543240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мпонент Grid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шаемые задач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томатическая привязка и отображение данных из элемента управления источника да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бор, сортировка, постраничность, изменение и удаление данных из элемента управления источника да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пособы управления внешним видом и поведением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настраиваемых столбцов и стил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пользование шаблонов для создания настраиваемых элементов интерфейса пользовате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вод пользовательского кода с помощью обработчиков событ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8B7-4864-4225-A861-E724C4420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мпонент Data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DataList отображает данные базы данных в настраиваемом форма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т определяется в шаблона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tem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lternatingItem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electedItem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ditItem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eaderTemplate и FooterTem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eparator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DataList поддерживает определенные собы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F676-3F3C-4CA8-9369-0B8094835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 разработки пользовательских компонен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8F0-88DB-4C80-AF40-DE019C014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71280" y="1785960"/>
            <a:ext cx="491184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7" name="Рисунок 13" descr=""/>
          <p:cNvPicPr/>
          <p:nvPr/>
        </p:nvPicPr>
        <p:blipFill>
          <a:blip r:embed="rId2"/>
          <a:stretch/>
        </p:blipFill>
        <p:spPr>
          <a:xfrm>
            <a:off x="5072040" y="1428840"/>
            <a:ext cx="3956040" cy="46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55:58Z</dcterms:modified>
  <cp:revision>36</cp:revision>
  <dc:subject> Лекция 6. Разработка на ASP.NET. MasterPage, динамические компоненты, AJAX, ASP.NET MVC </dc:subject>
  <dc:title>Современные веб-технологии. Подробный курс</dc:title>
</cp:coreProperties>
</file>