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13C-9785-4905-9D06-CA753470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87F-A92A-405C-9101-29A10E9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9BE-5975-41EE-9A41-EBFFEEF7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0E4C-6C7A-4F37-8149-4E7DC29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3251-4E12-416F-80DF-834EC87A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24120-2A9F-4849-BD0A-34C54AA1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B414-B872-47FB-8A9D-E117416B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A4418-05DA-4A9A-9F46-BC44CD84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FECC0-5C9D-4E66-8CD2-92542275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0EBFF-F229-45BC-8432-909C66E5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0258-F2DB-4F00-8A04-C784245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8DF-725C-4E73-9F6F-EBDA034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0DFA4-D483-4084-8AD5-B85A2A7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25209-6BE1-4DA0-9E36-70862851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85C76-1AD9-4FFD-BB82-6F537B2D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B1C91-26EA-47F6-808D-06877867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0C7F-2498-4471-B987-DBAC6A04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B124-E292-439D-B691-A1A0138D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7389-11DF-4772-B10A-28E53B7E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C935-3F54-4885-B42F-24F1203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2292-D182-4EB1-AB5E-0666C3A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D334-BC9B-4939-A9DE-E1215AC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970-9CC0-450E-8B34-768AF4E0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91B5-3863-4661-AB9C-CB0A5C75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BE93-1972-4944-A2C5-535BC91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058A-3E9A-445D-BF8E-7108695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AB12-0B81-4AD7-BD22-A4D53423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A4C9-67FB-41BD-B8E6-87F49EBA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A556-070F-4009-8833-6AA3D5FE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33552-DBDF-418A-915B-FD7A65E5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5392F-CF86-4028-9A67-9B5FF1B1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1496-C5F9-45B7-81CB-2FF1E82C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8293-90CB-4B3D-AE91-B060E686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8DE-1F9F-4560-846E-C4C20607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2884-F02F-4534-A160-0B60E575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67798-806D-4798-B55F-C6F6226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3A476-7341-4360-BAF4-00AD1208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552F-F87E-4448-AE99-E49D08B3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AA724-13BE-46CE-8D84-1D7365D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5E41-FD30-4395-980B-F5CD501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9824-F8A9-4C98-BFE5-0AA7E938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40DE-2282-405F-BB70-691E34C3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54A90-897C-4AA3-81D3-1CE34935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CAE3-074C-4A5E-AF2C-980536A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6F2-BBF8-4DFD-8029-4B12317E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537-D0AB-447E-9ADF-6F26FD91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656-DBB2-44AC-B381-4579BFE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497-49A9-473B-AB24-41CAFBE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A41-0C3C-4DA9-98DD-F11A5EA978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520B-1852-4261-9DC5-D113F6E0A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2FFC-016E-4E91-8782-DFC248516C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FED-975D-4C19-8DDC-91195FFDA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B146-C975-4F46-96BE-F0A90A81B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8A9-DA7E-473E-8C20-679050209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F9CE-B3A7-4374-87CA-E62071115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7AC1-BB32-4CBB-BD7D-343253A8D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77155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Бизнес в Интернете: способы заработка и бизнес-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тнерская модел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ннерный обмен (Banner Exchan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а за переходы (Pay-Per-Click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ение дохода (Revenue Sharing) [Barnes &amp; Noble, Amazon.com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86C0-9626-458F-B3BA-9EEDF97F0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дель сообщества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ый исходный код (Open Sourc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Red Ha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ый контент (Open Content) [Wikipedia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ственное вещание (Public Broadcasting) [The Classical Station (WCPE.org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ая сеть (Social Networking Services) [Flickr, Friendster, Orku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EA8-D127-4D8B-A58B-B134A7C0C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дель подписки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ент-сервисы (Content Services) [Listen.com, Netflix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личностная сеть (Person-to-Person Networking Services) [Classmate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ба качества (Trust Services) [Trust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айдер интернет-услуг (Internet Service Provid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America Onlin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F8D5-0D75-4968-8314-9A9077E6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актичная модел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а использования (Metered Us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а подписки (Metered Subscriptio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Slashdo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7E5-36AB-43AB-8524-D942ECC9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плгейт: новые модели для менеджер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ециализированные дистрибьюторские модели (Focused Distributor Mod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и портала (Portal Mod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и поставщика (Producer Mod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и поставщиков инфраструктуры (Infrastructure Provider Mod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9DC8-EB56-456B-84B3-1C0E8F4E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эйл и Витейл: атомарные бизнес-модел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нтент-провайдер (Content Provide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посредственная работа с клиентом (Direct to Consume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тавщик набора услу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Full Service Provide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редник (Intermedia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бщая инфраструктура (Shared Infrastructur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нтегратор ценностной сети (Value Net Integrato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иртуальное сообщество (Virtual Commun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елое предприят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Whole of Enterpris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D3D-A382-46D5-BBBC-FBDA16DD0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артман и Сифонис: расширенные бизнес-модели в интернет-эконом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ектронная витр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-Business Storefro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посредник (Infomedi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веренный посредник (Trust Intermedi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овой посредник (E-Business Enab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вщики инфраструктур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мерческие сообще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frastructure Providers/Communities of Commer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455F-1417-45BB-9AF0-038233960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Microsoft: курс по технологическому предпринимательств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рговая площадка в интерн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ценз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пис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и, построенные на рекла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лайн-аукци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жертв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мые прода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E3A-D45C-406E-85E9-3BE9741F7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угие классификации бизнес-модел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 Тиммерс. Бизнес-модели для электронн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эннис Виланд. Новые бизнес-модели для электронной коммер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ннет Лодон и Кэрол Трейвер. Бизнес-модели электронной коммер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чные бизнес-модели в электронной коммерции в учебнике «Electronic Commerce 2008: A Managerial Perspective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3D7-4503-4AE8-A11A-7DCD887BF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Бизнес-модели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знес-мод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метод ведения бизнеса, с помощью которого компания получает доход, чтобы обеспечить себ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жные компоненты бизнес-моде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ностное предложе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потребности клиентов бизнес будет обеспечив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дох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, как бизнес или проект в области электронной коммерции будет приносить прибы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характеризовать и категоризировать бизнес-модели можно по-разно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C310-028D-49DC-AF3D-CEED04E9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сификации бизнес-моделе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ппа: бизнес-модели в интерне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пплгейт: новые модели для менедже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эйл и Витейл: атомарные бизнес-мо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ман и Сифонис: расширенные бизнес-модели в интернет-эконом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Microsoft: курс по технологическому предпринимательс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ие классификации бизнес-модел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B707-F487-4C62-8A53-D470025B5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ппа: бизнес-модели в интернет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редническая модель (Brokerage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кламная модель (Advertising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дель инфопосредника (Infomediary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дель продавца (Merchant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дель производителя / Модель прямого доступа (Manufacturer (Direct)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артнерская модель (Affiliate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дель сообщества (Community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дель подписки (Subscription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актичная модель (Utility Mo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A7F-2395-4E81-AD37-3AF8265C5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средническая модел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иржа (Marketplace Exchange) [Orbitz, ChemConnect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истема обработки и выполнения заказов «купить/продать» (Buy/Sell Fulfillment) [CarsDirect, Respond.com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истема сбора запросов (Demand Collection System) [Priceline.com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Аукционный посредник (Auction Broker) [eBay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латежный посредник (Transaction Broker) [PayPal, Escrow.com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истрибьютор (Distributor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исковая система (Search Agent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иртуальный рынок (Virtual Marketplace) [zShops and Merchant Services at Amazon.com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4325-68FD-432F-82B6-6E9BA1551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екламная модел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ртал (Portal) [Yahoo!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оска объявлений (Classifieds) [Monster.com, Craigslist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бязательная регистрация пользователя (User Registration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[NYTimes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исковая реклама (Query-based Paid Placement)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[Google, Overture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текстная и поведенческая реклама (Contextual Advertising / Behavioral Marketing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ематическая реклама (Content-Targeted Advertising) [Google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нтромершиал (Intromercials) [CBS MarketWatch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Ультрамершиал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(Ultramercials) [Salon in cooperation with Mercedes-Benz]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536-44FF-4064-B27D-F5001E97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дель инфопосредника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ламная сеть (Advertising Networks) [DoubleClick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ба исследования аудитории (Audience Measurement Services) [Nielsen//Netrating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мулирующий маркетинг (Incentive Marketing) [Coolsaving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посредик (Metamediar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Edmunds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602-D3B1-4650-8088-D1CA1A17B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дель продавца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туальный продавец (Virtual Merchant) [Amazon.com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вец по каталогам (Catalog Merchant) [Lands' End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б- и традиционная инфраструктура (Click and Mortar) [Barnes &amp; Nobl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вец битов (Bit Vendo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Apple iTunes Music Stor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02F-2FD9-4E82-AC74-CF69DFA2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дель производителя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пп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Dell Computer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упка (Purchas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енда (Leas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цензия (Licens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ендированный контент (Brand Integrated Cont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464-6FF0-4A0C-8BA3-4F5BE082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48:28Z</dcterms:modified>
  <cp:revision>17</cp:revision>
  <dc:subject> Лекция 17. Бизнес в Интернете: способы заработка и бизнес-модели</dc:subject>
  <dc:title>Современные веб-технологии. Подробный курс</dc:title>
</cp:coreProperties>
</file>