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wmf" ContentType="image/x-wmf"/>
  <Override PartName="/ppt/media/image14.png" ContentType="image/png"/>
  <Override PartName="/ppt/media/image24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0CFB-9C0E-4430-B047-32A5CF091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308E-BEA2-46FD-9550-30D808CE6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7769-2A4A-464A-A6F3-EA8969A67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5BFE-37FC-439F-B588-05707498F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758F96-F3E4-4FA4-8FE5-88601F956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AEDE90-49C8-4D57-AF8C-DCC8C93AB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DB1AB3-9D58-4C07-847C-F25118D3C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8C5A0B-FE54-4C86-B121-1EBECA2B0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621CD4-FA64-4389-BF99-478AF514B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216080" y="-360"/>
            <a:ext cx="747072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A2D9D4-A4ED-4E09-931A-5D957BB94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A33320-04B1-4CBC-9170-8815F691D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BDE6-79EF-45FB-9098-A0C922357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C50C69-7271-4393-9086-7CD6B99CB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EEFA26-5E92-4CE8-864B-3050938A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E24C23-2BD9-4752-9AA7-4C83A0574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FC864E-2E78-485A-B917-31754736D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60AE19-A00B-4376-91A2-66D5954B6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3B427-4CB7-4C63-8DAF-535ECA5FD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C6CE9-624F-4484-B7F0-A0A745064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75D24-AB22-41ED-895A-AED84B8A2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CDE00-93CF-463C-BDC2-BC2BB5955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118EE-768A-41D6-AA63-0895880EA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009A-66C6-4C32-A3E3-EAAA9A35D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1216080" y="-360"/>
            <a:ext cx="747072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05473-CE84-4176-A921-EE6AA0F9F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2D1E3-29A4-4317-B4C3-4AF7197F0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B55A4-2531-4383-AAE8-761D3A3E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67F53-7B7F-409F-B242-57A43867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EAAF3-9C99-4247-BED3-2A3AAB182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D064C-9D14-4C88-885E-0AEB33BFF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4DF88-97AC-495C-A646-E46D46263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9710E-A813-4499-89B2-AB490A84B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81306-073F-4CBC-A562-FABFB62A0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14371-23F5-43AC-ADE7-B664D51A4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16C7-8AC4-4712-88C8-6B869F29D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F3557-E016-42E6-961C-3899A8461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E71E7-FF8F-4008-B0C4-0E619B69E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1216080" y="-360"/>
            <a:ext cx="747072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1E0ADB-80E8-40BB-AE27-5918CD899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556CA7-58FE-4CB5-8472-439709158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3355D-6669-4254-A46B-9814E3B8D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39452-70EF-46F7-B7E3-8FB3AF9F7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23ADC-3302-4973-8196-0E251D2DE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F4CE0-8807-4250-A117-BD57017C3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23964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2208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5720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23964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02208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F8481-F962-467D-8676-FF566CBA2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37E6-3D04-4E1A-93A6-DFEC35A5A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216080" y="-360"/>
            <a:ext cx="747072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5CBE-453A-480C-A875-FD684880A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410B-7AE3-4323-BA48-7C21FA9F2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197B-5FAC-4729-B7B4-4BF64DF1A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9648-1E00-44A3-94B5-A5F856988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image" Target="../media/image11.png"/><Relationship Id="rId16" Type="http://schemas.openxmlformats.org/officeDocument/2006/relationships/image" Target="../media/image12.png"/><Relationship Id="rId17" Type="http://schemas.openxmlformats.org/officeDocument/2006/relationships/image" Target="../media/image13.png"/><Relationship Id="rId18" Type="http://schemas.openxmlformats.org/officeDocument/2006/relationships/image" Target="../media/image14.png"/><Relationship Id="rId19" Type="http://schemas.openxmlformats.org/officeDocument/2006/relationships/image" Target="../media/image15.png"/><Relationship Id="rId20" Type="http://schemas.openxmlformats.org/officeDocument/2006/relationships/image" Target="../media/image16.png"/><Relationship Id="rId21" Type="http://schemas.openxmlformats.org/officeDocument/2006/relationships/image" Target="../media/image2.png"/><Relationship Id="rId22" Type="http://schemas.openxmlformats.org/officeDocument/2006/relationships/slideLayout" Target="../slideLayouts/slideLayout13.xml"/><Relationship Id="rId23" Type="http://schemas.openxmlformats.org/officeDocument/2006/relationships/slideLayout" Target="../slideLayouts/slideLayout14.xml"/><Relationship Id="rId24" Type="http://schemas.openxmlformats.org/officeDocument/2006/relationships/slideLayout" Target="../slideLayouts/slideLayout15.xml"/><Relationship Id="rId25" Type="http://schemas.openxmlformats.org/officeDocument/2006/relationships/slideLayout" Target="../slideLayouts/slideLayout16.xml"/><Relationship Id="rId26" Type="http://schemas.openxmlformats.org/officeDocument/2006/relationships/slideLayout" Target="../slideLayouts/slideLayout17.xml"/><Relationship Id="rId27" Type="http://schemas.openxmlformats.org/officeDocument/2006/relationships/slideLayout" Target="../slideLayouts/slideLayout18.xml"/><Relationship Id="rId28" Type="http://schemas.openxmlformats.org/officeDocument/2006/relationships/slideLayout" Target="../slideLayouts/slideLayout19.xml"/><Relationship Id="rId29" Type="http://schemas.openxmlformats.org/officeDocument/2006/relationships/slideLayout" Target="../slideLayouts/slideLayout20.xml"/><Relationship Id="rId30" Type="http://schemas.openxmlformats.org/officeDocument/2006/relationships/slideLayout" Target="../slideLayouts/slideLayout21.xml"/><Relationship Id="rId31" Type="http://schemas.openxmlformats.org/officeDocument/2006/relationships/slideLayout" Target="../slideLayouts/slideLayout22.xml"/><Relationship Id="rId32" Type="http://schemas.openxmlformats.org/officeDocument/2006/relationships/slideLayout" Target="../slideLayouts/slideLayout23.xml"/><Relationship Id="rId3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2.png"/><Relationship Id="rId16" Type="http://schemas.openxmlformats.org/officeDocument/2006/relationships/slideLayout" Target="../slideLayouts/slideLayout37.xml"/><Relationship Id="rId17" Type="http://schemas.openxmlformats.org/officeDocument/2006/relationships/slideLayout" Target="../slideLayouts/slideLayout38.xml"/><Relationship Id="rId18" Type="http://schemas.openxmlformats.org/officeDocument/2006/relationships/slideLayout" Target="../slideLayouts/slideLayout39.xml"/><Relationship Id="rId19" Type="http://schemas.openxmlformats.org/officeDocument/2006/relationships/slideLayout" Target="../slideLayouts/slideLayout40.xml"/><Relationship Id="rId20" Type="http://schemas.openxmlformats.org/officeDocument/2006/relationships/slideLayout" Target="../slideLayouts/slideLayout41.xml"/><Relationship Id="rId21" Type="http://schemas.openxmlformats.org/officeDocument/2006/relationships/slideLayout" Target="../slideLayouts/slideLayout42.xml"/><Relationship Id="rId22" Type="http://schemas.openxmlformats.org/officeDocument/2006/relationships/slideLayout" Target="../slideLayouts/slideLayout43.xml"/><Relationship Id="rId23" Type="http://schemas.openxmlformats.org/officeDocument/2006/relationships/slideLayout" Target="../slideLayouts/slideLayout44.xml"/><Relationship Id="rId24" Type="http://schemas.openxmlformats.org/officeDocument/2006/relationships/slideLayout" Target="../slideLayouts/slideLayout45.xml"/><Relationship Id="rId25" Type="http://schemas.openxmlformats.org/officeDocument/2006/relationships/slideLayout" Target="../slideLayouts/slideLayout46.xml"/><Relationship Id="rId26" Type="http://schemas.openxmlformats.org/officeDocument/2006/relationships/slideLayout" Target="../slideLayouts/slideLayout47.xml"/><Relationship Id="rId2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-6480"/>
            <a:ext cx="9156960" cy="1013040"/>
            <a:chOff x="-6480" y="-6480"/>
            <a:chExt cx="9156960" cy="1013040"/>
          </a:xfrm>
        </p:grpSpPr>
        <p:pic>
          <p:nvPicPr>
            <p:cNvPr id="1" name="Rectangle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914400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99" descr="star"/>
          <p:cNvPicPr/>
          <p:nvPr/>
        </p:nvPicPr>
        <p:blipFill>
          <a:blip r:embed="rId3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5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5a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8e7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5a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47840" y="6364440"/>
            <a:ext cx="21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97574-FC82-42BD-BA0C-44EE69AE01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266976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D61B3-27BC-4510-A0C9-82D8BF39D9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Rectangle 6"/>
          <p:cNvGrpSpPr/>
          <p:nvPr/>
        </p:nvGrpSpPr>
        <p:grpSpPr>
          <a:xfrm>
            <a:off x="-6480" y="-6480"/>
            <a:ext cx="9156960" cy="1013040"/>
            <a:chOff x="-6480" y="-6480"/>
            <a:chExt cx="9156960" cy="1013040"/>
          </a:xfrm>
        </p:grpSpPr>
        <p:pic>
          <p:nvPicPr>
            <p:cNvPr id="48" name="Rectangle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0" y="0"/>
              <a:ext cx="914400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9" descr="star"/>
          <p:cNvPicPr/>
          <p:nvPr/>
        </p:nvPicPr>
        <p:blipFill>
          <a:blip r:embed="rId3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52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54" name="Rectangle 6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76320" y="1066680"/>
            <a:ext cx="2590560" cy="1219320"/>
          </a:xfrm>
          <a:prstGeom prst="rect">
            <a:avLst/>
          </a:prstGeom>
          <a:blipFill rotWithShape="0">
            <a:blip r:embed="rId5">
              <a:alphaModFix amt="5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36" descr="star"/>
          <p:cNvPicPr/>
          <p:nvPr/>
        </p:nvPicPr>
        <p:blipFill>
          <a:blip r:embed="rId6"/>
          <a:stretch/>
        </p:blipFill>
        <p:spPr>
          <a:xfrm rot="20284800">
            <a:off x="8659800" y="5871960"/>
            <a:ext cx="542880" cy="5554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9" descr="star"/>
          <p:cNvPicPr/>
          <p:nvPr/>
        </p:nvPicPr>
        <p:blipFill>
          <a:blip r:embed="rId7"/>
          <a:stretch/>
        </p:blipFill>
        <p:spPr>
          <a:xfrm rot="9486000">
            <a:off x="152280" y="4724280"/>
            <a:ext cx="425520" cy="434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9" descr="star"/>
          <p:cNvPicPr/>
          <p:nvPr/>
        </p:nvPicPr>
        <p:blipFill>
          <a:blip r:embed="rId8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61" name="Straight Connector 12"/>
          <p:cNvSpPr/>
          <p:nvPr/>
        </p:nvSpPr>
        <p:spPr>
          <a:xfrm>
            <a:off x="12175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traight Connector 13"/>
          <p:cNvSpPr/>
          <p:nvPr/>
        </p:nvSpPr>
        <p:spPr>
          <a:xfrm>
            <a:off x="871380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traight Connector 14"/>
          <p:cNvSpPr/>
          <p:nvPr/>
        </p:nvSpPr>
        <p:spPr>
          <a:xfrm>
            <a:off x="26701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traight Connector 16"/>
          <p:cNvSpPr/>
          <p:nvPr/>
        </p:nvSpPr>
        <p:spPr>
          <a:xfrm>
            <a:off x="5788080" y="1069920"/>
            <a:ext cx="3355920" cy="18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Group 101" descr=""/>
          <p:cNvPicPr/>
          <p:nvPr/>
        </p:nvPicPr>
        <p:blipFill>
          <a:blip r:embed="rId9"/>
          <a:stretch/>
        </p:blipFill>
        <p:spPr>
          <a:xfrm>
            <a:off x="-66600" y="-109440"/>
            <a:ext cx="4114800" cy="4230720"/>
          </a:xfrm>
          <a:prstGeom prst="rect">
            <a:avLst/>
          </a:prstGeom>
          <a:ln w="0">
            <a:noFill/>
          </a:ln>
        </p:spPr>
      </p:pic>
      <p:grpSp>
        <p:nvGrpSpPr>
          <p:cNvPr id="67" name="Group 21"/>
          <p:cNvGrpSpPr/>
          <p:nvPr/>
        </p:nvGrpSpPr>
        <p:grpSpPr>
          <a:xfrm>
            <a:off x="3309480" y="1738080"/>
            <a:ext cx="6150600" cy="5135400"/>
            <a:chOff x="3309480" y="1738080"/>
            <a:chExt cx="6150600" cy="5135400"/>
          </a:xfrm>
        </p:grpSpPr>
        <p:grpSp>
          <p:nvGrpSpPr>
            <p:cNvPr id="68" name="Group 42"/>
            <p:cNvGrpSpPr/>
            <p:nvPr/>
          </p:nvGrpSpPr>
          <p:grpSpPr>
            <a:xfrm>
              <a:off x="3309480" y="1773360"/>
              <a:ext cx="6150600" cy="4765680"/>
              <a:chOff x="3309480" y="1773360"/>
              <a:chExt cx="6150600" cy="4765680"/>
            </a:xfrm>
          </p:grpSpPr>
          <p:grpSp>
            <p:nvGrpSpPr>
              <p:cNvPr id="69" name="Freeform 21"/>
              <p:cNvGrpSpPr/>
              <p:nvPr/>
            </p:nvGrpSpPr>
            <p:grpSpPr>
              <a:xfrm>
                <a:off x="3309480" y="1773360"/>
                <a:ext cx="6150600" cy="4765680"/>
                <a:chOff x="3309480" y="1773360"/>
                <a:chExt cx="6150600" cy="4765680"/>
              </a:xfrm>
            </p:grpSpPr>
            <p:pic>
              <p:nvPicPr>
                <p:cNvPr id="70" name="Freeform 21" descr=""/>
                <p:cNvPicPr/>
                <p:nvPr/>
              </p:nvPicPr>
              <p:blipFill>
                <a:blip r:embed="rId10"/>
                <a:stretch/>
              </p:blipFill>
              <p:spPr>
                <a:xfrm rot="21599400">
                  <a:off x="4155480" y="2958840"/>
                  <a:ext cx="5304240" cy="3064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1" name=""/>
                <p:cNvSpPr/>
                <p:nvPr/>
              </p:nvSpPr>
              <p:spPr>
                <a:xfrm rot="19693200">
                  <a:off x="3438720" y="3105000"/>
                  <a:ext cx="5655600" cy="21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" name="Freeform 22"/>
              <p:cNvGrpSpPr/>
              <p:nvPr/>
            </p:nvGrpSpPr>
            <p:grpSpPr>
              <a:xfrm>
                <a:off x="3313800" y="1781280"/>
                <a:ext cx="6119640" cy="4756680"/>
                <a:chOff x="3313800" y="1781280"/>
                <a:chExt cx="6119640" cy="4756680"/>
              </a:xfrm>
            </p:grpSpPr>
            <p:pic>
              <p:nvPicPr>
                <p:cNvPr id="73" name="Freeform 22" descr=""/>
                <p:cNvPicPr/>
                <p:nvPr/>
              </p:nvPicPr>
              <p:blipFill>
                <a:blip r:embed="rId11"/>
                <a:stretch/>
              </p:blipFill>
              <p:spPr>
                <a:xfrm rot="21599400">
                  <a:off x="4173840" y="2978280"/>
                  <a:ext cx="5259240" cy="3043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4" name=""/>
                <p:cNvSpPr/>
                <p:nvPr/>
              </p:nvSpPr>
              <p:spPr>
                <a:xfrm rot="19693200">
                  <a:off x="3444480" y="3108600"/>
                  <a:ext cx="5638320" cy="21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75" name="Straight Connector 8" descr=""/>
            <p:cNvPicPr/>
            <p:nvPr/>
          </p:nvPicPr>
          <p:blipFill>
            <a:blip r:embed="rId12"/>
            <a:stretch/>
          </p:blipFill>
          <p:spPr>
            <a:xfrm rot="21599400">
              <a:off x="5131080" y="2529720"/>
              <a:ext cx="2676240" cy="4189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6" name="Group 38"/>
            <p:cNvGrpSpPr/>
            <p:nvPr/>
          </p:nvGrpSpPr>
          <p:grpSpPr>
            <a:xfrm>
              <a:off x="5132160" y="2426040"/>
              <a:ext cx="3526920" cy="4214520"/>
              <a:chOff x="5132160" y="2426040"/>
              <a:chExt cx="3526920" cy="4214520"/>
            </a:xfrm>
          </p:grpSpPr>
          <p:grpSp>
            <p:nvGrpSpPr>
              <p:cNvPr id="77" name="Freeform 19"/>
              <p:cNvGrpSpPr/>
              <p:nvPr/>
            </p:nvGrpSpPr>
            <p:grpSpPr>
              <a:xfrm>
                <a:off x="5562000" y="2609280"/>
                <a:ext cx="2885760" cy="3539880"/>
                <a:chOff x="5562000" y="2609280"/>
                <a:chExt cx="2885760" cy="3539880"/>
              </a:xfrm>
            </p:grpSpPr>
            <p:pic>
              <p:nvPicPr>
                <p:cNvPr id="78" name="Freeform 19" descr=""/>
                <p:cNvPicPr/>
                <p:nvPr/>
              </p:nvPicPr>
              <p:blipFill>
                <a:blip r:embed="rId13"/>
                <a:stretch/>
              </p:blipFill>
              <p:spPr>
                <a:xfrm rot="21599400">
                  <a:off x="5857200" y="3380040"/>
                  <a:ext cx="2247480" cy="196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" name=""/>
                <p:cNvSpPr/>
                <p:nvPr/>
              </p:nvSpPr>
              <p:spPr>
                <a:xfrm rot="19693200">
                  <a:off x="6343560" y="2706840"/>
                  <a:ext cx="1322640" cy="334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" name="Freeform 20"/>
              <p:cNvGrpSpPr/>
              <p:nvPr/>
            </p:nvGrpSpPr>
            <p:grpSpPr>
              <a:xfrm>
                <a:off x="5132160" y="2426040"/>
                <a:ext cx="3526920" cy="4214520"/>
                <a:chOff x="5132160" y="2426040"/>
                <a:chExt cx="3526920" cy="4214520"/>
              </a:xfrm>
            </p:grpSpPr>
            <p:pic>
              <p:nvPicPr>
                <p:cNvPr id="81" name="Freeform 20" descr=""/>
                <p:cNvPicPr/>
                <p:nvPr/>
              </p:nvPicPr>
              <p:blipFill>
                <a:blip r:embed="rId14"/>
                <a:stretch/>
              </p:blipFill>
              <p:spPr>
                <a:xfrm rot="21599400">
                  <a:off x="5489640" y="3254040"/>
                  <a:ext cx="2721240" cy="2314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" name=""/>
                <p:cNvSpPr/>
                <p:nvPr/>
              </p:nvSpPr>
              <p:spPr>
                <a:xfrm rot="19693200">
                  <a:off x="6021360" y="2595600"/>
                  <a:ext cx="1748160" cy="38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3" name="Group 39"/>
            <p:cNvGrpSpPr/>
            <p:nvPr/>
          </p:nvGrpSpPr>
          <p:grpSpPr>
            <a:xfrm>
              <a:off x="4101120" y="3018240"/>
              <a:ext cx="3829680" cy="3753000"/>
              <a:chOff x="4101120" y="3018240"/>
              <a:chExt cx="3829680" cy="3753000"/>
            </a:xfrm>
          </p:grpSpPr>
          <p:grpSp>
            <p:nvGrpSpPr>
              <p:cNvPr id="84" name="Freeform 17"/>
              <p:cNvGrpSpPr/>
              <p:nvPr/>
            </p:nvGrpSpPr>
            <p:grpSpPr>
              <a:xfrm>
                <a:off x="4146840" y="3688920"/>
                <a:ext cx="2711880" cy="2883960"/>
                <a:chOff x="4146840" y="3688920"/>
                <a:chExt cx="2711880" cy="2883960"/>
              </a:xfrm>
            </p:grpSpPr>
            <p:pic>
              <p:nvPicPr>
                <p:cNvPr id="85" name="Freeform 17" descr=""/>
                <p:cNvPicPr/>
                <p:nvPr/>
              </p:nvPicPr>
              <p:blipFill>
                <a:blip r:embed="rId15"/>
                <a:stretch/>
              </p:blipFill>
              <p:spPr>
                <a:xfrm rot="21599400">
                  <a:off x="4975560" y="3688560"/>
                  <a:ext cx="676440" cy="2838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" name=""/>
                <p:cNvSpPr/>
                <p:nvPr/>
              </p:nvSpPr>
              <p:spPr>
                <a:xfrm rot="19693200">
                  <a:off x="4616280" y="3989520"/>
                  <a:ext cx="1772640" cy="228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" name="Freeform 18"/>
              <p:cNvGrpSpPr/>
              <p:nvPr/>
            </p:nvGrpSpPr>
            <p:grpSpPr>
              <a:xfrm>
                <a:off x="4101120" y="3018240"/>
                <a:ext cx="3829680" cy="3753000"/>
                <a:chOff x="4101120" y="3018240"/>
                <a:chExt cx="3829680" cy="3753000"/>
              </a:xfrm>
            </p:grpSpPr>
            <p:pic>
              <p:nvPicPr>
                <p:cNvPr id="88" name="Freeform 18" descr=""/>
                <p:cNvPicPr/>
                <p:nvPr/>
              </p:nvPicPr>
              <p:blipFill>
                <a:blip r:embed="rId16"/>
                <a:stretch/>
              </p:blipFill>
              <p:spPr>
                <a:xfrm rot="21599400">
                  <a:off x="5024880" y="3166200"/>
                  <a:ext cx="1343880" cy="3375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" name=""/>
                <p:cNvSpPr/>
                <p:nvPr/>
              </p:nvSpPr>
              <p:spPr>
                <a:xfrm rot="19693200">
                  <a:off x="4579560" y="3576960"/>
                  <a:ext cx="2872440" cy="263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0" name="Group 37"/>
            <p:cNvGrpSpPr/>
            <p:nvPr/>
          </p:nvGrpSpPr>
          <p:grpSpPr>
            <a:xfrm>
              <a:off x="4125600" y="1738080"/>
              <a:ext cx="3408840" cy="3309840"/>
              <a:chOff x="4125600" y="1738080"/>
              <a:chExt cx="3408840" cy="3309840"/>
            </a:xfrm>
          </p:grpSpPr>
          <p:grpSp>
            <p:nvGrpSpPr>
              <p:cNvPr id="91" name="Freeform 15"/>
              <p:cNvGrpSpPr/>
              <p:nvPr/>
            </p:nvGrpSpPr>
            <p:grpSpPr>
              <a:xfrm>
                <a:off x="4792680" y="2189880"/>
                <a:ext cx="2668680" cy="2799360"/>
                <a:chOff x="4792680" y="2189880"/>
                <a:chExt cx="2668680" cy="2799360"/>
              </a:xfrm>
            </p:grpSpPr>
            <p:pic>
              <p:nvPicPr>
                <p:cNvPr id="92" name="Freeform 15" descr=""/>
                <p:cNvPicPr/>
                <p:nvPr/>
              </p:nvPicPr>
              <p:blipFill>
                <a:blip r:embed="rId17"/>
                <a:stretch/>
              </p:blipFill>
              <p:spPr>
                <a:xfrm rot="21599400">
                  <a:off x="4792680" y="2682720"/>
                  <a:ext cx="2656440" cy="1806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" name=""/>
                <p:cNvSpPr/>
                <p:nvPr/>
              </p:nvSpPr>
              <p:spPr>
                <a:xfrm rot="11786400">
                  <a:off x="5142600" y="2430000"/>
                  <a:ext cx="2031840" cy="23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" name="Freeform 16"/>
              <p:cNvGrpSpPr/>
              <p:nvPr/>
            </p:nvGrpSpPr>
            <p:grpSpPr>
              <a:xfrm>
                <a:off x="4125600" y="1738080"/>
                <a:ext cx="3408840" cy="3309840"/>
                <a:chOff x="4125600" y="1738080"/>
                <a:chExt cx="3408840" cy="3309840"/>
              </a:xfrm>
            </p:grpSpPr>
            <p:pic>
              <p:nvPicPr>
                <p:cNvPr id="95" name="Freeform 16" descr=""/>
                <p:cNvPicPr/>
                <p:nvPr/>
              </p:nvPicPr>
              <p:blipFill>
                <a:blip r:embed="rId18"/>
                <a:stretch/>
              </p:blipFill>
              <p:spPr>
                <a:xfrm rot="21599400">
                  <a:off x="4125600" y="2389680"/>
                  <a:ext cx="3326040" cy="2061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" name=""/>
                <p:cNvSpPr/>
                <p:nvPr/>
              </p:nvSpPr>
              <p:spPr>
                <a:xfrm rot="11786400">
                  <a:off x="4528080" y="2063520"/>
                  <a:ext cx="2684880" cy="265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7" name="Group 36"/>
            <p:cNvGrpSpPr/>
            <p:nvPr/>
          </p:nvGrpSpPr>
          <p:grpSpPr>
            <a:xfrm>
              <a:off x="4183200" y="2099160"/>
              <a:ext cx="4903560" cy="4774320"/>
              <a:chOff x="4183200" y="2099160"/>
              <a:chExt cx="4903560" cy="4774320"/>
            </a:xfrm>
          </p:grpSpPr>
          <p:grpSp>
            <p:nvGrpSpPr>
              <p:cNvPr id="98" name="Freeform 13"/>
              <p:cNvGrpSpPr/>
              <p:nvPr/>
            </p:nvGrpSpPr>
            <p:grpSpPr>
              <a:xfrm>
                <a:off x="5141520" y="2754000"/>
                <a:ext cx="3838320" cy="4022280"/>
                <a:chOff x="5141520" y="2754000"/>
                <a:chExt cx="3838320" cy="4022280"/>
              </a:xfrm>
            </p:grpSpPr>
            <p:pic>
              <p:nvPicPr>
                <p:cNvPr id="99" name="Freeform 13" descr=""/>
                <p:cNvPicPr/>
                <p:nvPr/>
              </p:nvPicPr>
              <p:blipFill>
                <a:blip r:embed="rId19"/>
                <a:stretch/>
              </p:blipFill>
              <p:spPr>
                <a:xfrm rot="21599400">
                  <a:off x="5141520" y="3468960"/>
                  <a:ext cx="3810240" cy="2573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" name=""/>
                <p:cNvSpPr/>
                <p:nvPr/>
              </p:nvSpPr>
              <p:spPr>
                <a:xfrm rot="11786400">
                  <a:off x="5644080" y="3099600"/>
                  <a:ext cx="2924280" cy="333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" name="Freeform 14"/>
              <p:cNvGrpSpPr/>
              <p:nvPr/>
            </p:nvGrpSpPr>
            <p:grpSpPr>
              <a:xfrm>
                <a:off x="4183200" y="2099160"/>
                <a:ext cx="4903560" cy="4774320"/>
                <a:chOff x="4183200" y="2099160"/>
                <a:chExt cx="4903560" cy="4774320"/>
              </a:xfrm>
            </p:grpSpPr>
            <p:pic>
              <p:nvPicPr>
                <p:cNvPr id="102" name="Freeform 14" descr=""/>
                <p:cNvPicPr/>
                <p:nvPr/>
              </p:nvPicPr>
              <p:blipFill>
                <a:blip r:embed="rId20"/>
                <a:stretch/>
              </p:blipFill>
              <p:spPr>
                <a:xfrm rot="21599400">
                  <a:off x="4183200" y="3044520"/>
                  <a:ext cx="4781520" cy="296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" name=""/>
                <p:cNvSpPr/>
                <p:nvPr/>
              </p:nvSpPr>
              <p:spPr>
                <a:xfrm rot="11786400">
                  <a:off x="4757760" y="2567160"/>
                  <a:ext cx="3864600" cy="383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04" name="Picture 230" descr="star"/>
          <p:cNvPicPr/>
          <p:nvPr/>
        </p:nvPicPr>
        <p:blipFill>
          <a:blip r:embed="rId21"/>
          <a:stretch/>
        </p:blipFill>
        <p:spPr>
          <a:xfrm>
            <a:off x="4648320" y="4419720"/>
            <a:ext cx="895320" cy="9144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5a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8e7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5a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447840" y="6364440"/>
            <a:ext cx="21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382C8-0690-492F-BD74-290C03A992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5"/>
          </p:nvPr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C70B5-E27E-42E2-BE51-D00F736DAF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6"/>
          </p:nvPr>
        </p:nvSpPr>
        <p:spPr>
          <a:xfrm>
            <a:off x="266976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2"/>
    <p:sldLayoutId id="2147483663" r:id="rId23"/>
    <p:sldLayoutId id="2147483664" r:id="rId24"/>
    <p:sldLayoutId id="2147483665" r:id="rId25"/>
    <p:sldLayoutId id="2147483666" r:id="rId26"/>
    <p:sldLayoutId id="2147483667" r:id="rId27"/>
    <p:sldLayoutId id="2147483668" r:id="rId28"/>
    <p:sldLayoutId id="2147483669" r:id="rId29"/>
    <p:sldLayoutId id="2147483670" r:id="rId30"/>
    <p:sldLayoutId id="2147483671" r:id="rId31"/>
    <p:sldLayoutId id="2147483672" r:id="rId32"/>
    <p:sldLayoutId id="2147483673" r:id="rId3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Rectangle 6"/>
          <p:cNvGrpSpPr/>
          <p:nvPr/>
        </p:nvGrpSpPr>
        <p:grpSpPr>
          <a:xfrm>
            <a:off x="-6480" y="-6480"/>
            <a:ext cx="9156960" cy="1013040"/>
            <a:chOff x="-6480" y="-6480"/>
            <a:chExt cx="9156960" cy="1013040"/>
          </a:xfrm>
        </p:grpSpPr>
        <p:pic>
          <p:nvPicPr>
            <p:cNvPr id="147" name="Rectangle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0" y="0"/>
              <a:ext cx="914400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99" descr="star"/>
          <p:cNvPicPr/>
          <p:nvPr/>
        </p:nvPicPr>
        <p:blipFill>
          <a:blip r:embed="rId3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151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5a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8e7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5a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7"/>
          </p:nvPr>
        </p:nvSpPr>
        <p:spPr>
          <a:xfrm>
            <a:off x="447840" y="6364440"/>
            <a:ext cx="21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5B395-531D-4832-85AC-DD16092E68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8"/>
          </p:nvPr>
        </p:nvSpPr>
        <p:spPr>
          <a:xfrm>
            <a:off x="266976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sldNum" idx="9"/>
          </p:nvPr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86BC4-973E-4DB3-9DA2-4C239C159A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Rectangle 6"/>
          <p:cNvGrpSpPr/>
          <p:nvPr/>
        </p:nvGrpSpPr>
        <p:grpSpPr>
          <a:xfrm>
            <a:off x="-6480" y="-6480"/>
            <a:ext cx="9156960" cy="1013040"/>
            <a:chOff x="-6480" y="-6480"/>
            <a:chExt cx="9156960" cy="1013040"/>
          </a:xfrm>
        </p:grpSpPr>
        <p:pic>
          <p:nvPicPr>
            <p:cNvPr id="194" name="Rectangle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0" y="0"/>
              <a:ext cx="914400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99" descr="star"/>
          <p:cNvPicPr/>
          <p:nvPr/>
        </p:nvPicPr>
        <p:blipFill>
          <a:blip r:embed="rId3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198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21"/>
          <p:cNvGrpSpPr/>
          <p:nvPr/>
        </p:nvGrpSpPr>
        <p:grpSpPr>
          <a:xfrm>
            <a:off x="3309480" y="1738080"/>
            <a:ext cx="6150600" cy="5135400"/>
            <a:chOff x="3309480" y="1738080"/>
            <a:chExt cx="6150600" cy="5135400"/>
          </a:xfrm>
        </p:grpSpPr>
        <p:grpSp>
          <p:nvGrpSpPr>
            <p:cNvPr id="200" name="Group 42"/>
            <p:cNvGrpSpPr/>
            <p:nvPr/>
          </p:nvGrpSpPr>
          <p:grpSpPr>
            <a:xfrm>
              <a:off x="3309480" y="1773360"/>
              <a:ext cx="6150600" cy="4765680"/>
              <a:chOff x="3309480" y="1773360"/>
              <a:chExt cx="6150600" cy="4765680"/>
            </a:xfrm>
          </p:grpSpPr>
          <p:grpSp>
            <p:nvGrpSpPr>
              <p:cNvPr id="201" name="Freeform 21"/>
              <p:cNvGrpSpPr/>
              <p:nvPr/>
            </p:nvGrpSpPr>
            <p:grpSpPr>
              <a:xfrm>
                <a:off x="3309480" y="1773360"/>
                <a:ext cx="6150600" cy="4765680"/>
                <a:chOff x="3309480" y="1773360"/>
                <a:chExt cx="6150600" cy="4765680"/>
              </a:xfrm>
            </p:grpSpPr>
            <p:pic>
              <p:nvPicPr>
                <p:cNvPr id="202" name="Freeform 21" descr=""/>
                <p:cNvPicPr/>
                <p:nvPr/>
              </p:nvPicPr>
              <p:blipFill>
                <a:blip r:embed="rId4"/>
                <a:stretch/>
              </p:blipFill>
              <p:spPr>
                <a:xfrm rot="21599400">
                  <a:off x="4155480" y="2958840"/>
                  <a:ext cx="5304240" cy="3064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3" name=""/>
                <p:cNvSpPr/>
                <p:nvPr/>
              </p:nvSpPr>
              <p:spPr>
                <a:xfrm rot="19693200">
                  <a:off x="3438720" y="3105000"/>
                  <a:ext cx="5655600" cy="21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4" name="Freeform 22"/>
              <p:cNvGrpSpPr/>
              <p:nvPr/>
            </p:nvGrpSpPr>
            <p:grpSpPr>
              <a:xfrm>
                <a:off x="3313800" y="1781280"/>
                <a:ext cx="6119640" cy="4756680"/>
                <a:chOff x="3313800" y="1781280"/>
                <a:chExt cx="6119640" cy="4756680"/>
              </a:xfrm>
            </p:grpSpPr>
            <p:pic>
              <p:nvPicPr>
                <p:cNvPr id="205" name="Freeform 22" descr=""/>
                <p:cNvPicPr/>
                <p:nvPr/>
              </p:nvPicPr>
              <p:blipFill>
                <a:blip r:embed="rId5"/>
                <a:stretch/>
              </p:blipFill>
              <p:spPr>
                <a:xfrm rot="21599400">
                  <a:off x="4173840" y="2978280"/>
                  <a:ext cx="5259240" cy="3043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6" name=""/>
                <p:cNvSpPr/>
                <p:nvPr/>
              </p:nvSpPr>
              <p:spPr>
                <a:xfrm rot="19693200">
                  <a:off x="3444480" y="3108600"/>
                  <a:ext cx="5638320" cy="21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207" name="Straight Connector 8" descr=""/>
            <p:cNvPicPr/>
            <p:nvPr/>
          </p:nvPicPr>
          <p:blipFill>
            <a:blip r:embed="rId6"/>
            <a:stretch/>
          </p:blipFill>
          <p:spPr>
            <a:xfrm rot="21599400">
              <a:off x="5131080" y="2529720"/>
              <a:ext cx="2676240" cy="4189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8" name="Group 38"/>
            <p:cNvGrpSpPr/>
            <p:nvPr/>
          </p:nvGrpSpPr>
          <p:grpSpPr>
            <a:xfrm>
              <a:off x="5132160" y="2426040"/>
              <a:ext cx="3526920" cy="4214520"/>
              <a:chOff x="5132160" y="2426040"/>
              <a:chExt cx="3526920" cy="4214520"/>
            </a:xfrm>
          </p:grpSpPr>
          <p:grpSp>
            <p:nvGrpSpPr>
              <p:cNvPr id="209" name="Freeform 19"/>
              <p:cNvGrpSpPr/>
              <p:nvPr/>
            </p:nvGrpSpPr>
            <p:grpSpPr>
              <a:xfrm>
                <a:off x="5562000" y="2609280"/>
                <a:ext cx="2885760" cy="3539880"/>
                <a:chOff x="5562000" y="2609280"/>
                <a:chExt cx="2885760" cy="3539880"/>
              </a:xfrm>
            </p:grpSpPr>
            <p:pic>
              <p:nvPicPr>
                <p:cNvPr id="210" name="Freeform 19" descr=""/>
                <p:cNvPicPr/>
                <p:nvPr/>
              </p:nvPicPr>
              <p:blipFill>
                <a:blip r:embed="rId7"/>
                <a:stretch/>
              </p:blipFill>
              <p:spPr>
                <a:xfrm rot="21599400">
                  <a:off x="5857200" y="3380040"/>
                  <a:ext cx="2247480" cy="196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1" name=""/>
                <p:cNvSpPr/>
                <p:nvPr/>
              </p:nvSpPr>
              <p:spPr>
                <a:xfrm rot="19693200">
                  <a:off x="6343560" y="2706840"/>
                  <a:ext cx="1322640" cy="334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2" name="Freeform 20"/>
              <p:cNvGrpSpPr/>
              <p:nvPr/>
            </p:nvGrpSpPr>
            <p:grpSpPr>
              <a:xfrm>
                <a:off x="5132160" y="2426040"/>
                <a:ext cx="3526920" cy="4214520"/>
                <a:chOff x="5132160" y="2426040"/>
                <a:chExt cx="3526920" cy="4214520"/>
              </a:xfrm>
            </p:grpSpPr>
            <p:pic>
              <p:nvPicPr>
                <p:cNvPr id="213" name="Freeform 20" descr=""/>
                <p:cNvPicPr/>
                <p:nvPr/>
              </p:nvPicPr>
              <p:blipFill>
                <a:blip r:embed="rId8"/>
                <a:stretch/>
              </p:blipFill>
              <p:spPr>
                <a:xfrm rot="21599400">
                  <a:off x="5489640" y="3254040"/>
                  <a:ext cx="2721240" cy="2314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4" name=""/>
                <p:cNvSpPr/>
                <p:nvPr/>
              </p:nvSpPr>
              <p:spPr>
                <a:xfrm rot="19693200">
                  <a:off x="6021360" y="2595600"/>
                  <a:ext cx="1748160" cy="38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5" name="Group 39"/>
            <p:cNvGrpSpPr/>
            <p:nvPr/>
          </p:nvGrpSpPr>
          <p:grpSpPr>
            <a:xfrm>
              <a:off x="4101120" y="3018240"/>
              <a:ext cx="3829680" cy="3753000"/>
              <a:chOff x="4101120" y="3018240"/>
              <a:chExt cx="3829680" cy="3753000"/>
            </a:xfrm>
          </p:grpSpPr>
          <p:grpSp>
            <p:nvGrpSpPr>
              <p:cNvPr id="216" name="Freeform 17"/>
              <p:cNvGrpSpPr/>
              <p:nvPr/>
            </p:nvGrpSpPr>
            <p:grpSpPr>
              <a:xfrm>
                <a:off x="4146840" y="3688920"/>
                <a:ext cx="2711880" cy="2883960"/>
                <a:chOff x="4146840" y="3688920"/>
                <a:chExt cx="2711880" cy="2883960"/>
              </a:xfrm>
            </p:grpSpPr>
            <p:pic>
              <p:nvPicPr>
                <p:cNvPr id="217" name="Freeform 17" descr=""/>
                <p:cNvPicPr/>
                <p:nvPr/>
              </p:nvPicPr>
              <p:blipFill>
                <a:blip r:embed="rId9"/>
                <a:stretch/>
              </p:blipFill>
              <p:spPr>
                <a:xfrm rot="21599400">
                  <a:off x="4975560" y="3688560"/>
                  <a:ext cx="676440" cy="2838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8" name=""/>
                <p:cNvSpPr/>
                <p:nvPr/>
              </p:nvSpPr>
              <p:spPr>
                <a:xfrm rot="19693200">
                  <a:off x="4616280" y="3989520"/>
                  <a:ext cx="1772640" cy="228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Freeform 18"/>
              <p:cNvGrpSpPr/>
              <p:nvPr/>
            </p:nvGrpSpPr>
            <p:grpSpPr>
              <a:xfrm>
                <a:off x="4101120" y="3018240"/>
                <a:ext cx="3829680" cy="3753000"/>
                <a:chOff x="4101120" y="3018240"/>
                <a:chExt cx="3829680" cy="3753000"/>
              </a:xfrm>
            </p:grpSpPr>
            <p:pic>
              <p:nvPicPr>
                <p:cNvPr id="220" name="Freeform 18" descr=""/>
                <p:cNvPicPr/>
                <p:nvPr/>
              </p:nvPicPr>
              <p:blipFill>
                <a:blip r:embed="rId10"/>
                <a:stretch/>
              </p:blipFill>
              <p:spPr>
                <a:xfrm rot="21599400">
                  <a:off x="5024880" y="3166200"/>
                  <a:ext cx="1343880" cy="3375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1" name=""/>
                <p:cNvSpPr/>
                <p:nvPr/>
              </p:nvSpPr>
              <p:spPr>
                <a:xfrm rot="19693200">
                  <a:off x="4579560" y="3576960"/>
                  <a:ext cx="2872440" cy="263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2" name="Group 37"/>
            <p:cNvGrpSpPr/>
            <p:nvPr/>
          </p:nvGrpSpPr>
          <p:grpSpPr>
            <a:xfrm>
              <a:off x="4125600" y="1738080"/>
              <a:ext cx="3408840" cy="3309840"/>
              <a:chOff x="4125600" y="1738080"/>
              <a:chExt cx="3408840" cy="3309840"/>
            </a:xfrm>
          </p:grpSpPr>
          <p:grpSp>
            <p:nvGrpSpPr>
              <p:cNvPr id="223" name="Freeform 15"/>
              <p:cNvGrpSpPr/>
              <p:nvPr/>
            </p:nvGrpSpPr>
            <p:grpSpPr>
              <a:xfrm>
                <a:off x="4792680" y="2189880"/>
                <a:ext cx="2668680" cy="2799360"/>
                <a:chOff x="4792680" y="2189880"/>
                <a:chExt cx="2668680" cy="2799360"/>
              </a:xfrm>
            </p:grpSpPr>
            <p:pic>
              <p:nvPicPr>
                <p:cNvPr id="224" name="Freeform 15" descr=""/>
                <p:cNvPicPr/>
                <p:nvPr/>
              </p:nvPicPr>
              <p:blipFill>
                <a:blip r:embed="rId11"/>
                <a:stretch/>
              </p:blipFill>
              <p:spPr>
                <a:xfrm rot="21599400">
                  <a:off x="4792680" y="2682720"/>
                  <a:ext cx="2656440" cy="1806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5" name=""/>
                <p:cNvSpPr/>
                <p:nvPr/>
              </p:nvSpPr>
              <p:spPr>
                <a:xfrm rot="11786400">
                  <a:off x="5142600" y="2430000"/>
                  <a:ext cx="2031840" cy="23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6" name="Freeform 16"/>
              <p:cNvGrpSpPr/>
              <p:nvPr/>
            </p:nvGrpSpPr>
            <p:grpSpPr>
              <a:xfrm>
                <a:off x="4125600" y="1738080"/>
                <a:ext cx="3408840" cy="3309840"/>
                <a:chOff x="4125600" y="1738080"/>
                <a:chExt cx="3408840" cy="3309840"/>
              </a:xfrm>
            </p:grpSpPr>
            <p:pic>
              <p:nvPicPr>
                <p:cNvPr id="227" name="Freeform 16" descr=""/>
                <p:cNvPicPr/>
                <p:nvPr/>
              </p:nvPicPr>
              <p:blipFill>
                <a:blip r:embed="rId12"/>
                <a:stretch/>
              </p:blipFill>
              <p:spPr>
                <a:xfrm rot="21599400">
                  <a:off x="4125600" y="2389680"/>
                  <a:ext cx="3326040" cy="2061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8" name=""/>
                <p:cNvSpPr/>
                <p:nvPr/>
              </p:nvSpPr>
              <p:spPr>
                <a:xfrm rot="11786400">
                  <a:off x="4528080" y="2063520"/>
                  <a:ext cx="2684880" cy="265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Group 36"/>
            <p:cNvGrpSpPr/>
            <p:nvPr/>
          </p:nvGrpSpPr>
          <p:grpSpPr>
            <a:xfrm>
              <a:off x="4183200" y="2099160"/>
              <a:ext cx="4903560" cy="4774320"/>
              <a:chOff x="4183200" y="2099160"/>
              <a:chExt cx="4903560" cy="4774320"/>
            </a:xfrm>
          </p:grpSpPr>
          <p:grpSp>
            <p:nvGrpSpPr>
              <p:cNvPr id="230" name="Freeform 13"/>
              <p:cNvGrpSpPr/>
              <p:nvPr/>
            </p:nvGrpSpPr>
            <p:grpSpPr>
              <a:xfrm>
                <a:off x="5141520" y="2754000"/>
                <a:ext cx="3838320" cy="4022280"/>
                <a:chOff x="5141520" y="2754000"/>
                <a:chExt cx="3838320" cy="4022280"/>
              </a:xfrm>
            </p:grpSpPr>
            <p:pic>
              <p:nvPicPr>
                <p:cNvPr id="231" name="Freeform 13" descr=""/>
                <p:cNvPicPr/>
                <p:nvPr/>
              </p:nvPicPr>
              <p:blipFill>
                <a:blip r:embed="rId13"/>
                <a:stretch/>
              </p:blipFill>
              <p:spPr>
                <a:xfrm rot="21599400">
                  <a:off x="5141520" y="3468960"/>
                  <a:ext cx="3810240" cy="2573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2" name=""/>
                <p:cNvSpPr/>
                <p:nvPr/>
              </p:nvSpPr>
              <p:spPr>
                <a:xfrm rot="11786400">
                  <a:off x="5644080" y="3099600"/>
                  <a:ext cx="2924280" cy="333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" name="Freeform 14"/>
              <p:cNvGrpSpPr/>
              <p:nvPr/>
            </p:nvGrpSpPr>
            <p:grpSpPr>
              <a:xfrm>
                <a:off x="4183200" y="2099160"/>
                <a:ext cx="4903560" cy="4774320"/>
                <a:chOff x="4183200" y="2099160"/>
                <a:chExt cx="4903560" cy="4774320"/>
              </a:xfrm>
            </p:grpSpPr>
            <p:pic>
              <p:nvPicPr>
                <p:cNvPr id="234" name="Freeform 14" descr=""/>
                <p:cNvPicPr/>
                <p:nvPr/>
              </p:nvPicPr>
              <p:blipFill>
                <a:blip r:embed="rId14"/>
                <a:stretch/>
              </p:blipFill>
              <p:spPr>
                <a:xfrm rot="21599400">
                  <a:off x="4183200" y="3044520"/>
                  <a:ext cx="4781520" cy="296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5" name=""/>
                <p:cNvSpPr/>
                <p:nvPr/>
              </p:nvSpPr>
              <p:spPr>
                <a:xfrm rot="11786400">
                  <a:off x="4757760" y="2567160"/>
                  <a:ext cx="3864600" cy="383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236" name="Picture 230" descr="star"/>
          <p:cNvPicPr/>
          <p:nvPr/>
        </p:nvPicPr>
        <p:blipFill>
          <a:blip r:embed="rId15"/>
          <a:stretch/>
        </p:blipFill>
        <p:spPr>
          <a:xfrm>
            <a:off x="4648320" y="4419720"/>
            <a:ext cx="895320" cy="91440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5a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8e7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5a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dt" idx="10"/>
          </p:nvPr>
        </p:nvSpPr>
        <p:spPr>
          <a:xfrm>
            <a:off x="447840" y="6364440"/>
            <a:ext cx="21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3645A-8756-400F-A26C-A58942E083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ftr" idx="11"/>
          </p:nvPr>
        </p:nvSpPr>
        <p:spPr>
          <a:xfrm>
            <a:off x="266976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sldNum" idx="12"/>
          </p:nvPr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0E9B8-21CF-4FE1-9948-A1B1439FE3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6"/>
    <p:sldLayoutId id="2147483689" r:id="rId17"/>
    <p:sldLayoutId id="2147483690" r:id="rId18"/>
    <p:sldLayoutId id="2147483691" r:id="rId19"/>
    <p:sldLayoutId id="2147483692" r:id="rId20"/>
    <p:sldLayoutId id="2147483693" r:id="rId21"/>
    <p:sldLayoutId id="2147483694" r:id="rId22"/>
    <p:sldLayoutId id="2147483695" r:id="rId23"/>
    <p:sldLayoutId id="2147483696" r:id="rId24"/>
    <p:sldLayoutId id="2147483697" r:id="rId25"/>
    <p:sldLayoutId id="2147483698" r:id="rId26"/>
    <p:sldLayoutId id="2147483699" r:id="rId2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16080" y="1069920"/>
            <a:ext cx="74707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Современные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   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веб-технологии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2743200" y="384120"/>
            <a:ext cx="5943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дробный кур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Заголовок 1"/>
          <p:cNvSpPr/>
          <p:nvPr/>
        </p:nvSpPr>
        <p:spPr>
          <a:xfrm>
            <a:off x="214200" y="4286160"/>
            <a:ext cx="771552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Лекция 1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Семантический веб и микроформа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ример веб-фрагмента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189080"/>
            <a:ext cx="82296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еб-фрагмент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4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глядит следующим образо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50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Источник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Новые функции для веб-фрагментов, хранения и повышения производительности веб-приложений, http://msdn.microsoft.com/ru-ru/magazine/dd458804.asp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20924-CBF9-400A-BA51-5A5C7580A5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2" descr=""/>
          <p:cNvPicPr/>
          <p:nvPr/>
        </p:nvPicPr>
        <p:blipFill>
          <a:blip r:embed="rId1"/>
          <a:stretch/>
        </p:blipFill>
        <p:spPr>
          <a:xfrm>
            <a:off x="500040" y="1785960"/>
            <a:ext cx="8445600" cy="8571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3" descr="dd458804"/>
          <p:cNvPicPr/>
          <p:nvPr/>
        </p:nvPicPr>
        <p:blipFill>
          <a:blip r:embed="rId2"/>
          <a:stretch/>
        </p:blipFill>
        <p:spPr>
          <a:xfrm>
            <a:off x="2357280" y="3071880"/>
            <a:ext cx="3886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оиск в Интернете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1189080"/>
            <a:ext cx="82296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Поисковая система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– веб-сайт, предоставляющий возможность поиска информации в Интернете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Поисковые системы состоят из трех компонент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гент (паук или кроулер), который перемещается по Сети и собирает информацию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база данных, которая содержит всю информацию, собираемую паукам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исковый механизм, который люди используют как интерфейс для взаимодействия с базой данных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BF31C-4D1D-4540-BC8A-88B60F911F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Характеристики поисковых систем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82C15-DA52-4A2F-869F-6C0A81D75D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1" name="Object 1"/>
          <p:cNvGraphicFramePr/>
          <p:nvPr/>
        </p:nvGraphicFramePr>
        <p:xfrm>
          <a:off x="857160" y="1928880"/>
          <a:ext cx="7118280" cy="300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7160" y="1928880"/>
                    <a:ext cx="7118280" cy="30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Характеристики поисковых систем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32063-690A-43B1-8651-1E6DB675C5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6" name="Object 1"/>
          <p:cNvGraphicFramePr/>
          <p:nvPr/>
        </p:nvGraphicFramePr>
        <p:xfrm>
          <a:off x="1285920" y="1571760"/>
          <a:ext cx="6000840" cy="429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920" y="1571760"/>
                    <a:ext cx="6000840" cy="42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Рейтинг поисковых систем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7200" y="114264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мир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http://www.google.com/ – 46.2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http://www.yahoo.com/ – 22.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http://search.msn.com/ – 12.6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http://www.aol.com/ – 5.4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Росси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http://www.yandex.ru/ – 54.8267%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http://www.rambler.ru/ – 21.7645%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http://www.google.com/ – 15.6207%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http://www.mail.ru/ – 4.5466%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9AD30-061A-47F4-B3DF-4034E7E4B8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penSearch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57200" y="1189080"/>
            <a:ext cx="82296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OpenSearch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– набор технологий, позволяющих веб-сайтам и поисковым системам публиковать результаты поиска в форматах, удобных для распространения и сбора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В OpenSearch входят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XML-файлы с описанием поисковой систем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тандартизованный синтаксис запросов, описывающий, где и как получать результаты поиск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RSS (в OpenSearch 1.0) или более общий OpenSearch-ответ (в OpenSearch 1.1) – форматы, предоставляющие поисковые результат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OpenSearch-агрегаторы – сайты, позволяющие отображать OpenSearch-результат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элементы на веб-странице для автоматического обнаружения пользовательским клиентом возможности использования OpenSearch на данном сайт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86D7E-EC66-4E4F-B66D-1FD910F49E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Раскрутка сайтов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57200" y="1189080"/>
            <a:ext cx="82296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исковая оптимизац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earch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ngin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ptimization, SEO) – комплекс мер для поднятия позиций сайта в результатах выдачи поисковых систем по определенным запросам пользователе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етоды поисковой оптимизаци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елая оптимизац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ерая оптимизац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ерная оптимизац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4B31C-4762-439D-B4EB-D2AFA17A31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еб-аналитика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7200" y="1189080"/>
            <a:ext cx="82296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еб-аналитик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Web analytics) – это измерение, сбор, анализ, представление и интерпретация информации о посетителях веб-сайтов с целью их улучшения и оптимизаци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еб-аналитика помогает во многих аспектах развития сайт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витие функционала сайта, на основании тенденций в поведении посетите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ценка эффективности рекламных кампаний любого тип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явление проблемных мест в навигации сай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0CB58-77D8-46DE-BD29-92B9D42497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Инструменты веб-аналитики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57200" y="1189080"/>
            <a:ext cx="82296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75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Анализаторы логов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 (WebTrends, Webalizer, AWStats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75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Счетчики-рейтинги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 (Rambler’s TOP 100, Рейтинг@mail.ru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75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Системы интернет-статистики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(Google Analytics, SpyLog, Liveinternet, Яндекс.Метрика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75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Системы интернет-статистики с детализацией по просмотрам страниц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 (Woopra, Yahoo Web Analytics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75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Системы интернет-аналитики с детализацией поведения посетителя на странице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 (ClickTale, WebVisor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E1B5E-4B9A-452F-A779-8E04D9F3FE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Google Analytic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4262B-CDD2-465D-BBBC-FB5EB855C9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2" descr=""/>
          <p:cNvPicPr/>
          <p:nvPr/>
        </p:nvPicPr>
        <p:blipFill>
          <a:blip r:embed="rId1"/>
          <a:stretch/>
        </p:blipFill>
        <p:spPr>
          <a:xfrm>
            <a:off x="785880" y="1285920"/>
            <a:ext cx="764676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нятие «Семантическая паутина»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189080"/>
            <a:ext cx="8229600" cy="54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Семантическая паутина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Semantic Web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) – часть глобальной концепции развития сети Интернет, целью которой является реализация возможности машинной обработки информации, доступной во Всемирной паутин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Термин введен Тимом Бернерсом-Ли в 2001 году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Машинная обработка возможна в семантической паутине благодаря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всеместному использованию универсальных идентификаторов ресурсов (URI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всеместному использованию онтологий и языков описания метаданных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D256B-8B49-4F77-8A1E-A4A5C87BBC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13920" y="-360"/>
            <a:ext cx="747108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Яндекс.Метрика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C3AAF-BFCC-40B9-A8ED-E94F85D5C1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2" descr=""/>
          <p:cNvPicPr/>
          <p:nvPr/>
        </p:nvPicPr>
        <p:blipFill>
          <a:blip r:embed="rId1"/>
          <a:stretch/>
        </p:blipFill>
        <p:spPr>
          <a:xfrm>
            <a:off x="571680" y="1428840"/>
            <a:ext cx="81691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одель Семантической паутин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189080"/>
            <a:ext cx="82296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Оригинальная модель Semantic Web (2001 г.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Times New Roman"/>
              </a:rPr>
              <a:t>Источник: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 О стеке стандартов Semantic Web ,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http://www.osp.ru/cw/2006/12/1153946/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374"/>
              </a:spcBef>
              <a:buClr>
                <a:srgbClr val="c8e79e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2E868-60AA-44CE-84A3-E1C1C30C43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6" descr=""/>
          <p:cNvPicPr/>
          <p:nvPr/>
        </p:nvPicPr>
        <p:blipFill>
          <a:blip r:embed="rId1"/>
          <a:stretch/>
        </p:blipFill>
        <p:spPr>
          <a:xfrm>
            <a:off x="1500120" y="1714680"/>
            <a:ext cx="621180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одель Семантической паутин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189080"/>
            <a:ext cx="82296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Стек стандартов Semantic Web в редакции 2005 год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Times New Roman"/>
              </a:rPr>
              <a:t>Источник: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О стеке стандартов Semantic Web ,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http://www.osp.ru/cw/2006/12/1153946/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lnSpc>
                <a:spcPct val="80000"/>
              </a:lnSpc>
              <a:spcBef>
                <a:spcPts val="425"/>
              </a:spcBef>
              <a:buClr>
                <a:srgbClr val="c8e79e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631C4-FFBD-4CC2-ABA4-A199DF9C44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2" descr=""/>
          <p:cNvPicPr/>
          <p:nvPr/>
        </p:nvPicPr>
        <p:blipFill>
          <a:blip r:embed="rId1"/>
          <a:stretch/>
        </p:blipFill>
        <p:spPr>
          <a:xfrm>
            <a:off x="1714680" y="2000160"/>
            <a:ext cx="5897520" cy="36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омпоненты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емантической паутин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1189080"/>
            <a:ext cx="82296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Times New Roman"/>
              </a:rPr>
              <a:t>Источник: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Использование технологии Semantic Web в системе поиска несоответствий в текстах документов,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http://www.inteltec.ru/publish/articles/textan/rimar_RCDL2006.shtm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425"/>
              </a:spcBef>
              <a:buClr>
                <a:srgbClr val="c8e79e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83B1A-508C-42EC-BA79-CF705EDA56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2" descr=""/>
          <p:cNvPicPr/>
          <p:nvPr/>
        </p:nvPicPr>
        <p:blipFill>
          <a:blip r:embed="rId1"/>
          <a:stretch/>
        </p:blipFill>
        <p:spPr>
          <a:xfrm>
            <a:off x="928800" y="1785960"/>
            <a:ext cx="748008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итика Семантической паутин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1189080"/>
            <a:ext cx="82296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актическая реализуем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ублирование информа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блемы для бизнес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нонимность и сохранение авторских пра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1CDF0-7BDA-4614-B605-E3A3376586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онятие «Микроформата»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18872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Микроформаты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(microformats, μF или uF) – это способ семантически размечать сведения о разнообразных сущностях на веб-страницах, используя стандартные элементы языка HTML (или XHTML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Наиболее известные микроформаты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hCard – для публикации контактной информации людей, компаний, организаций и мес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hCalendar – микроформат для представления семантической информации о событиях в формате календаря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hAtom – ленты новосте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XFN – социальные взаимоотношения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22381-8B80-41D9-B0D1-A5FB546984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ример микроформата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189080"/>
            <a:ext cx="82296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HTML, описывающий контактную информацию о человеке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 добавлением микроформатов выглядит так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6391E-8C03-4F87-99ED-C6EE60DDCA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2" descr=""/>
          <p:cNvPicPr/>
          <p:nvPr/>
        </p:nvPicPr>
        <p:blipFill>
          <a:blip r:embed="rId1"/>
          <a:stretch/>
        </p:blipFill>
        <p:spPr>
          <a:xfrm>
            <a:off x="857160" y="2071800"/>
            <a:ext cx="5864400" cy="15192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3" descr=""/>
          <p:cNvPicPr/>
          <p:nvPr/>
        </p:nvPicPr>
        <p:blipFill>
          <a:blip r:embed="rId2"/>
          <a:stretch/>
        </p:blipFill>
        <p:spPr>
          <a:xfrm>
            <a:off x="857160" y="4286160"/>
            <a:ext cx="771048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онятие «Веб-фрагмента»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189080"/>
            <a:ext cx="82296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С помощью технологии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веб-фрагментов в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E8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льзователи могут просматривать наиболее часто используемую информацию без перехода с текущей страниц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азработчики могут помечать части веб-страниц как веб-фрагменты и облегчать пользователям отслеживание часто просматриваемой информации во время навигации по Интернету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Для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обозначения веб-фрагмента используется микроформат hsli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В панели «Избранное» обновленные веб-фрагменты выделяются полужирным шрифтом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DB105-EE74-4BBB-884B-2862ABEE07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0T13:06:53Z</dcterms:created>
  <dc:creator>Несвижский А.И., Рябов В.А.</dc:creator>
  <dc:description/>
  <dc:language>en-US</dc:language>
  <cp:lastModifiedBy>Bleff</cp:lastModifiedBy>
  <dcterms:modified xsi:type="dcterms:W3CDTF">2010-03-09T10:48:44Z</dcterms:modified>
  <cp:revision>18</cp:revision>
  <dc:subject> Лекция 15. Семантический веб и микроформаты </dc:subject>
  <dc:title>Современные веб-технологии. Подробный курс</dc:title>
</cp:coreProperties>
</file>