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D90-85C1-4A3A-BBEF-35F99E85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5D4-8D71-4799-BE1C-86DCAC4A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154-557C-467A-8C1B-81BF6FC4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218-0AA6-4CFA-BF31-CCA87EAF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4C693-4646-4CF5-96BC-E320CD96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17D35-3C2F-4702-8287-BC436A06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C1B71-6BA1-4F7B-A34A-F574E6FE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58AB1-AF89-4BFD-81A8-83AB1C29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6F17A-1C5F-4741-AF75-C7CF2B4E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941EE-4243-43E8-A719-E4FF1D09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A0C09-B90F-4106-974B-F70525CA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77F-8D3E-4E34-88A4-237C3F75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9BF26-EFD2-4827-9E49-0440806E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4813F-D4EE-4B2A-9D60-1C1849E0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6C7A8-F2D6-4816-AC08-F57A9FB3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BEDFA-197D-4CEC-B77C-6DBB4AD2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4E87C-9EB2-40A8-B6A3-017E2A50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21CED-A20F-4D68-9BD2-5AB9D87D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01C03-7AFB-4134-8131-0194DDD1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6A075-CA75-464A-9469-BE453CEA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13077-1D40-4BC8-8608-B443BC79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D16FA-7C36-44AA-A41F-B0DE2C38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57C4-11D8-4F14-8F8C-BF625D0F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FEC24-7FF7-4208-8C85-F1454E0E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67F1A-1767-484F-BF1A-ACD2DE0A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44FBF-F3C4-4395-BD4D-10800913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BD97F-0470-41E2-A52F-CB9A0627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2992F-F1D0-4404-B872-A5731F16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9D2C3-EF22-478E-ABC4-F7C45E0C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93B7A-923B-4C64-9050-B8857D3E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D6498-77F7-42A4-B99E-AEDDBCB7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1E5FB-1288-4C57-8210-F5C3C4E1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D61D8-DEC6-4AA7-A35F-2EB6A687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BEC-2B88-41B7-BB61-99E9DC44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828A0-93F3-4A0E-B00A-0B102868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54795-31C0-4AAE-AA0D-68602C41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68A9A-8098-4DF9-A548-EC9B8C73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50A6B-377D-4E81-8A3F-B5DDC892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416E2-D1F5-46E8-A596-99CF1FE9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E698A-16D6-4A3A-9F42-6908DF1F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0E464-ABE5-4D93-B0AE-B9615549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3D67D-3ADA-4D4D-BF03-EB6881DB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10795-63B0-4071-A03F-80FFAE5F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1894-F89A-4182-A374-4C978132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901-1079-4CA7-9570-EF5850D6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2DD-2855-4F65-9289-73E61840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295-02E0-41BB-9219-8411F5FE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463B-2DE1-4CCA-8261-DBE6B235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3.xml"/><Relationship Id="rId23" Type="http://schemas.openxmlformats.org/officeDocument/2006/relationships/slideLayout" Target="../slideLayouts/slideLayout14.xml"/><Relationship Id="rId24" Type="http://schemas.openxmlformats.org/officeDocument/2006/relationships/slideLayout" Target="../slideLayouts/slideLayout15.xml"/><Relationship Id="rId25" Type="http://schemas.openxmlformats.org/officeDocument/2006/relationships/slideLayout" Target="../slideLayouts/slideLayout16.xml"/><Relationship Id="rId26" Type="http://schemas.openxmlformats.org/officeDocument/2006/relationships/slideLayout" Target="../slideLayouts/slideLayout17.xml"/><Relationship Id="rId27" Type="http://schemas.openxmlformats.org/officeDocument/2006/relationships/slideLayout" Target="../slideLayouts/slideLayout18.xml"/><Relationship Id="rId28" Type="http://schemas.openxmlformats.org/officeDocument/2006/relationships/slideLayout" Target="../slideLayouts/slideLayout19.xml"/><Relationship Id="rId29" Type="http://schemas.openxmlformats.org/officeDocument/2006/relationships/slideLayout" Target="../slideLayouts/slideLayout20.xml"/><Relationship Id="rId30" Type="http://schemas.openxmlformats.org/officeDocument/2006/relationships/slideLayout" Target="../slideLayouts/slideLayout21.xml"/><Relationship Id="rId31" Type="http://schemas.openxmlformats.org/officeDocument/2006/relationships/slideLayout" Target="../slideLayouts/slideLayout22.xml"/><Relationship Id="rId32" Type="http://schemas.openxmlformats.org/officeDocument/2006/relationships/slideLayout" Target="../slideLayouts/slideLayout23.xml"/><Relationship Id="rId3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A4D9-A792-4423-88E5-510E3B1834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9A7B-D38A-4E6F-83E6-0F94BFE2D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48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4" name="Rectangle 6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6" descr="star"/>
          <p:cNvPicPr/>
          <p:nvPr/>
        </p:nvPicPr>
        <p:blipFill>
          <a:blip r:embed="rId6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9" descr="star"/>
          <p:cNvPicPr/>
          <p:nvPr/>
        </p:nvPicPr>
        <p:blipFill>
          <a:blip r:embed="rId7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9" descr="star"/>
          <p:cNvPicPr/>
          <p:nvPr/>
        </p:nvPicPr>
        <p:blipFill>
          <a:blip r:embed="rId8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oup 101" descr=""/>
          <p:cNvPicPr/>
          <p:nvPr/>
        </p:nvPicPr>
        <p:blipFill>
          <a:blip r:embed="rId9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68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69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0" name="Freeform 21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3" name="Freeform 22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" name="Straight Connector 8" descr=""/>
            <p:cNvPicPr/>
            <p:nvPr/>
          </p:nvPicPr>
          <p:blipFill>
            <a:blip r:embed="rId12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7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78" name="Freeform 19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1" name="Freeform 20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4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5" name="Freeform 17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88" name="Freeform 18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1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2" name="Freeform 15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98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99" name="Freeform 13" descr=""/>
                <p:cNvPicPr/>
                <p:nvPr/>
              </p:nvPicPr>
              <p:blipFill>
                <a:blip r:embed="rId19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2" name="Freeform 14" descr=""/>
                <p:cNvPicPr/>
                <p:nvPr/>
              </p:nvPicPr>
              <p:blipFill>
                <a:blip r:embed="rId20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4" name="Picture 230" descr="star"/>
          <p:cNvPicPr/>
          <p:nvPr/>
        </p:nvPicPr>
        <p:blipFill>
          <a:blip r:embed="rId21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48CA-78B3-4746-BB24-1A8706BF1F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5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5C56-070C-48C7-8818-C1480689E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2"/>
    <p:sldLayoutId id="2147483663" r:id="rId23"/>
    <p:sldLayoutId id="2147483664" r:id="rId24"/>
    <p:sldLayoutId id="2147483665" r:id="rId25"/>
    <p:sldLayoutId id="2147483666" r:id="rId26"/>
    <p:sldLayoutId id="2147483667" r:id="rId27"/>
    <p:sldLayoutId id="2147483668" r:id="rId28"/>
    <p:sldLayoutId id="2147483669" r:id="rId29"/>
    <p:sldLayoutId id="2147483670" r:id="rId30"/>
    <p:sldLayoutId id="2147483671" r:id="rId31"/>
    <p:sldLayoutId id="2147483672" r:id="rId32"/>
    <p:sldLayoutId id="2147483673" r:id="rId3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47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E318-99E5-4E1F-BCE5-CEB9333A3F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0843-37E9-4651-B001-9512EBE7E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94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98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20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20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202" name="Freeform 21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205" name="Freeform 22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7" name="Straight Connector 8" descr=""/>
            <p:cNvPicPr/>
            <p:nvPr/>
          </p:nvPicPr>
          <p:blipFill>
            <a:blip r:embed="rId6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20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210" name="Freeform 1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213" name="Freeform 2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21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217" name="Freeform 17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220" name="Freeform 18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22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224" name="Freeform 15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227" name="Freeform 16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23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231" name="Freeform 13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234" name="Freeform 14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36" name="Picture 230" descr="star"/>
          <p:cNvPicPr/>
          <p:nvPr/>
        </p:nvPicPr>
        <p:blipFill>
          <a:blip r:embed="rId15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D097-7594-42DE-80DE-B4775994E9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3AE8-7309-481A-953B-9A9AE548C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овременные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еб-технолог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робный кур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Заголовок 1"/>
          <p:cNvSpPr/>
          <p:nvPr/>
        </p:nvSpPr>
        <p:spPr>
          <a:xfrm>
            <a:off x="214200" y="4286160"/>
            <a:ext cx="81439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кция 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Основы тестирования и отладки Веб-прило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зор автоматизации тестирова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цесс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автоматизации тестировани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делится на три этапа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пис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лучшени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спроизведени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редства для автоматизации тестирования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P LoadRunner, HP QuickTest Professional, HP Quality Ce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Segue SilkPerfor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BM Rational FunctionalTester, IBM Rational PerformanceTester, IBM Rational TestStud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AutomatedQA TestComple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5F95-274B-4430-AB82-04D5E3D1E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ладка Веб-приложени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тлад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– этап разработки компьютерной программы, на котором обнаруживают, локализуют и устраняют ошибки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ществуют две взаимодополняющие технологии отладк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пользование отладчиков – программ, которые включают в себя пользовательский интерфейс для пошагового выполнения программ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вод текущего состояния программы с помощью расположенных в критических точках программы операторов вывода – на экран, принтер, громкоговоритель или в фай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B343-2950-43E4-8833-500115E1B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ладчики в браузерах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Internet Explorer – Microsoft Visual Studio, Microsoft Script Editor, Microsoft Script Debugger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Explorer 8 Develop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Opera – Opera Dragonf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Firefox – расширения Firebug и Venkm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Safari – JavaScript WebKit Web Inspector, который доступен и в других браузерах, использующих WebKit: Google Chrome, Arora, Rekonq, Midori 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3A47-7A4C-4F6D-B297-BE2A9C981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филирование Веб-приложени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филирование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сбор характеристик работы программы, таких как время выполнения отдельных фрагментов (обычно подпрограмм), число верно предсказанных условных переходов, число кэш промахов и т. 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истики могут бы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ппаратными (время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ными (функциональный запро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1977-5625-4D80-A30B-6FB798E79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равнение средств отладки разн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браузер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ADC0-FC3A-4C86-8F8A-F5B08C708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85840" y="1214280"/>
          <a:ext cx="8572320" cy="4937400"/>
        </p:xfrm>
        <a:graphic>
          <a:graphicData uri="http://schemas.openxmlformats.org/drawingml/2006/table">
            <a:tbl>
              <a:tblPr/>
              <a:tblGrid>
                <a:gridCol w="3500280"/>
                <a:gridCol w="857160"/>
                <a:gridCol w="1285920"/>
                <a:gridCol w="1000080"/>
                <a:gridCol w="928800"/>
                <a:gridCol w="1000080"/>
              </a:tblGrid>
              <a:tr h="549000"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раузер/фу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refox (Firebu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af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h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вка HT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лидатор HTML-к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 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истка кэ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ьювер/редактор C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светка синтаксиса C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ключение стилей C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ние новых стилей C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лидатор C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 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светка JavaScri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ладчик JavaScri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фили JavaScri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ек вызов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слеживание переме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ьювер для веб-серв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ключение режимов совместимости брауз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Rectangle 1"/>
          <p:cNvSpPr/>
          <p:nvPr/>
        </p:nvSpPr>
        <p:spPr>
          <a:xfrm>
            <a:off x="76680" y="6287040"/>
            <a:ext cx="43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*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ддерживается на стороннем веб-серви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тладка и профилирование в Internet Explorer 8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CB50-BF33-47AB-8207-C531A309A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214200" y="3071880"/>
            <a:ext cx="5932440" cy="35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2322360" y="1285920"/>
            <a:ext cx="654048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ладка и профилирование в Firebu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7C72-19C9-4D9A-B6FE-5FAADDDF6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214200" y="2357280"/>
            <a:ext cx="7132680" cy="424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8" name="Picture 4" descr=""/>
          <p:cNvPicPr/>
          <p:nvPr/>
        </p:nvPicPr>
        <p:blipFill>
          <a:blip r:embed="rId2"/>
          <a:stretch/>
        </p:blipFill>
        <p:spPr>
          <a:xfrm>
            <a:off x="5786280" y="2000160"/>
            <a:ext cx="299592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9" name="Picture 5" descr=""/>
          <p:cNvPicPr/>
          <p:nvPr/>
        </p:nvPicPr>
        <p:blipFill>
          <a:blip r:embed="rId3"/>
          <a:stretch/>
        </p:blipFill>
        <p:spPr>
          <a:xfrm>
            <a:off x="2286000" y="1285920"/>
            <a:ext cx="2986200" cy="221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ходы к тестированию Веб-приложени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ункциональное тест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стирование пользовательского интерфей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стирование удобства использова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грузочное тест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рка ссылок и HTML-к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стирование безопа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4BD0-4B33-478F-98FD-C1A77202F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ональное тестирование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б-приложени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Функциональное тестировани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(functional testing) – процесс верификации соответствия функционирования продукта его начальным спецификациям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етоды функционального тестирования веб-приложений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Record &amp; Pl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Functional Decompos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ata-driv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Keyword-driv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Object-driv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Model-based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F86F-40ED-4F0E-A13F-2A874DC79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стирование пользовательского интерфейс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Анализ требований к пользовательскому интерфейсу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Разработка тест-требований и тест-планов для проверки пользовательского интерфейса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ыполнение тестовых примеров и сбор информации о выполнении тестов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Определение полноты покрытия пользовательского интерфейса требованиям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оставление отчетов о проблемах в случае несовпадения поведения системы и требований, либо в случае отсутствия требований на отдельные интерфейсные элемент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0606-2FC1-45E0-86F9-6EBE3AB7C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стирование удобства пользова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деляют следующие этапы тестирования удобства использования пользовательского интерфей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тельск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ценоч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лидацион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внитель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AF0C-73C6-4852-A1F0-509D991FC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верка ссылок и HTML-код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верка ссыл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актуальна для внутренних ссылок (в случае больших и разветвленных порталов) и для внешних – если это, к примеру, каталог сайтов, или страница «Ссыл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верка HTML-кода страниц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оверка корректност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да, в том числе на соответствие стандарт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C693-4586-4DC2-8041-8E86F7B70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стирование  безопасно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стирование безопас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тестированию подвергается не только сам конкретный сайт или веб-приложение, а весь сервер полност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а «прикидывается» реальным пользователем-взломщиком и пытается применить к серверу все известные ей методы атаки и проверяет все уязвим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ультатом работы будет отчет о найденных уязвимостях и рекомендации по их устранен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3A00-3F35-43CE-AF33-6F76DFDD8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грузочное тестиров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189080"/>
            <a:ext cx="82296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Нагрузочное тестирование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имитирует одновременную работу нескольких сотен или тысяч посетителей, проверяя, будет ли устойчивой работа сайта под большой нагрузкой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Основные це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ценка производительности и работоспособности приложения на этапе разработки и передачи в эксплуатац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ценка производительности и работоспособности приложения на этапе выпуска новых релизов, патч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мизация производительности приложения, включая настройки серверов и оптимизацию к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бор соответствующей для данного приложения аппаратной (программной платформы) и конфигурации серв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4309-DEC7-4510-BA1D-6DA8CED67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грузочное тестиров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нагрузочное тестирование входят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стирование производительности (Performance testing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рессовое тестирование (Stress Test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ъемное тестирование (Volume Test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стирование стабильности или надежности (Stability / Reliability Testing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делирование Транзакци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Transaction Simulation, 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етод «Анализ данных на стороне клиента» (Client Capture, C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етод «Анализ Сетевого Трафика» (Network Sniffing, 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4501-1EDB-4743-A621-E1A57E551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3:06:53Z</dcterms:created>
  <dc:creator>Несвижский А.И., Рябов В.А.</dc:creator>
  <dc:description/>
  <dc:language>en-US</dc:language>
  <cp:lastModifiedBy>Bleff</cp:lastModifiedBy>
  <dcterms:modified xsi:type="dcterms:W3CDTF">2010-03-09T10:48:52Z</dcterms:modified>
  <cp:revision>20</cp:revision>
  <dc:subject> Лекция 14. Основы тестирования и отладки Веб-приложений </dc:subject>
  <dc:title>Современные веб-технологии. Подробный курс</dc:title>
</cp:coreProperties>
</file>