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0682-2776-4D59-ADF8-10CBA82E4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1AB-1345-4EC8-AC1B-0ECDB587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CF39-03A9-4DFF-9D59-0557864E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6D05-3FC2-4BFD-B867-7577EB56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1FA8C-F722-4A90-BD54-32B34006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F8C2B-464D-4FAD-803B-7B3564C1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0A38A-39C6-41B0-9ECF-07CAF5C9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7EA37-59FC-4A6F-8747-261A8F54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DA591-BFA2-47EC-8FE3-C0C8CB40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A2007-0F1C-4206-88AD-5B65FB9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CAE99-C885-4BAC-A4E6-D1EFB40E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855-1E22-45FF-83C5-D0127E79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99C5F-3BC2-410B-BF08-BE1F74E3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7AE41-B96A-47CD-8A07-C6DCBA05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D9E0C-46E8-4F59-BA00-87046299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6BEDD-4B12-45BD-9998-020C4702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4D372-F7DB-41AB-A106-5A2EF5D55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DF577-3464-4D44-A48E-BF5119B5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2C06A-2192-4E23-97CC-44133522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F719B-8D9E-41B2-B4C6-B24350D1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BB4C2-9755-4FB6-A1FB-83623172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E3FB-3B22-4F62-A18B-D79E63AE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387-FE30-49FA-9F2A-C9701D67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697E3-E6B3-4404-9E1D-8E2CC614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66162-0D92-4F33-B8A2-51A3A4F8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46E28-0D11-4365-93F5-96CCC8ED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A1A37-DAF5-4211-9071-12160226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65BB-52C2-455D-B719-8550AC3D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66D4A-838C-4A49-9F52-8B9F33A6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5E890-D54D-4EFD-B8E4-5B48EE72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221A-42DE-4EFD-BD41-D4635930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78D9F-F779-4B97-B843-D34F5686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C065-AEB0-40CD-A4B5-8DD033CB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B9D-0325-4D94-98E8-B323D4E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C2B61-130F-4CE3-8B50-300E2252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C1E99-6427-4C07-B077-CB05DA39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C0795-1A2E-4055-9D80-75F6620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D2680-9815-47EE-AB51-2A485709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CF7E5-1BD9-4A8E-A367-60B1DCD9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42128-5051-424C-B854-05D1621E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D52A9-7E40-450A-B524-DD4B512B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A11C-E892-43D4-9749-CA24BADB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0005D-C311-40C5-83B3-C3BE5DAA0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FB52-3A2B-48CB-BE65-EBA2B318C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D3B-B9F3-4B9E-A579-1685344B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E4A-808E-447F-9C8E-51A9F63C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83A-77AA-42D2-8973-F6F586B0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CB95-1566-459E-8682-A745AA7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AA4B-0B21-4C3A-A99E-6E0EEBDE76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29EB-DC02-4829-9DD4-856C67877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37BE-BB65-45A4-8B6A-A77FDA2350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7B4-E363-435C-A54B-4260C42C3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C7D-3BCD-4C2E-A827-36AF874E8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72F9-9C6E-4657-AD19-518369D2D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AAFA-0223-4965-A8CD-7FF5EA7435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4FB5-AAB3-4620-BB42-F12713C26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7715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Безопасность в Веб-разработ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таки на клиентов (Client-side Atta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мена содержимого (Content Spoof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сайтовое выполнение сценариев (Cross-site Scripting, X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щепление HTTP-запроса (HTTP Response Split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FA3A-14F9-438C-8512-C5826097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полнение кода (Command Execu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полнение буфера (Buffer Overf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ака на функции форматирования строк (Format String Attac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дрение операторов LDAP (LDAP In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ение команд ОС (OS Comman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дрение операторов SQL (SQL In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дрение серверных расширений (SSI In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дрение операторов XPath (XPath Inj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FD91-6786-4325-AFE6-E795B8280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зглашение информации (Information Disclos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ирование директорий (Directory Index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ентификация приложений (Web Server/Application Fingerprin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течка информации (Information Leak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ратный путь в директориях (Path Travers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казуемое расположение ресурсов (Predictable Resource Loc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6B7-3B8C-417D-8F54-D44AFBF59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гические атаки (Logical Attack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Злоупотребление функциональными возможностями (Abuse of Functionalit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каз в обслуживании (Denial of Servic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достаточное противодействие автоматизации (Insufficient Anti-automatio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достаточная проверка процесса (Insufficient Process Validatio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русы и приложения типа «троянский ко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9604-598B-4017-9EC1-7EF841812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XSS Fil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Архитектур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IE 8 XSS Filter Architecture / Implementation , http://blogs.technet.com/srd/archive/2008/08/19/ie-8-xss-filter-architecture-implementation.aspx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25"/>
              </a:spcBef>
              <a:buClr>
                <a:srgbClr val="c8e79e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09D4-EC06-4247-8D1F-5E859B105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pic1"/>
          <p:cNvPicPr/>
          <p:nvPr/>
        </p:nvPicPr>
        <p:blipFill>
          <a:blip r:embed="rId1"/>
          <a:stretch/>
        </p:blipFill>
        <p:spPr>
          <a:xfrm>
            <a:off x="2643120" y="1714680"/>
            <a:ext cx="3286080" cy="37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XSS Fil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едупреждение XSS-фильт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IE8 Security Part IV: The XSS Filter , http://www.securitylab.ru/analytics/275087.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577D-9F47-4044-B83A-782B93203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Безопасность IE8: XSS-фильтр"/>
          <p:cNvPicPr/>
          <p:nvPr/>
        </p:nvPicPr>
        <p:blipFill>
          <a:blip r:embed="rId1"/>
          <a:stretch/>
        </p:blipFill>
        <p:spPr>
          <a:xfrm>
            <a:off x="714240" y="2000160"/>
            <a:ext cx="78454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SmartScreen Fil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упреждение одного из фишинг-сайт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IE8 Security Part VIII: SmartScreen Filter Release Candidate Update , http://blogs.msdn.com/ie/archive/2009/02/09/ie8-security-part-viii-smartscreen-filter-release-candidate-update.asp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B090-9B15-4558-A8CA-8309062A2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000160" y="1643040"/>
            <a:ext cx="47293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SmartScreen Fil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Рейтинг блокировок фишинг-атак для разных браузеро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Real-World Protection With IE8’s SmartScreen Filter , http://blogs.msdn.com/ie/archive/2009/08/13/real-world-protection-with-ie8-s-smartscreen-filter.asp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33A7-961F-43EB-A69E-F9DC4B191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2" descr="ericlaw_smartscreenprotection_2"/>
          <p:cNvPicPr/>
          <p:nvPr/>
        </p:nvPicPr>
        <p:blipFill>
          <a:blip r:embed="rId1"/>
          <a:srcRect l="0" t="13902" r="0" b="0"/>
          <a:stretch/>
        </p:blipFill>
        <p:spPr>
          <a:xfrm>
            <a:off x="1143000" y="2071800"/>
            <a:ext cx="707076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ata Execution Preven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ata Execution Preven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функция безопасности, встроенная в семейство операционных систем Windows, которая не позволяет приложению исполнять код из области памяти, помеченной как «только для данных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DEP в Internet Explorer 8 помогает избежать атак путем предотвращения запуска кода, размещенного в участке памяти, помеченном как неисполняем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9123A-2800-46A3-BF54-6A5B955CC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SSL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Secure Sockets Layer, уровень защищенных сокетов) – криптографический протокол, который обеспечивает установление безопасного соединения между клиентом и сервером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SSL предоставляет канал, имеющий 3 основные свойства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Аутентификация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Сервер всегда аутентифицируется, в то время как клиент аутентифицируется в зависимости от алгоритма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Надежность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мен сообщениями включает в себя проверку целостности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Частность канала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Шифрование используется после установления соединения и используется для всех последующих сообщений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2C3D-DE0C-47F7-9E19-36646A09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«Информационная безопасность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Информационная безопасность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– состояние защищенности информации (данных), при котором обеспечены ее (их) конфиденциальность, доступность и целостност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конфиденциальность (confidentiality) – состояние информации, при котором доступ к ней осуществляют только субъекты, имеющие на него прав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целостность (integrity) – избежание несанкционированной модификации информаци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доступность (availability) – избежание временного или постоянного сокрытия информации от пользователей, получивших права доступ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24"/>
              </a:spcBef>
              <a:buClr>
                <a:srgbClr val="c8e7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FDBF-ADAC-4C9B-B90F-3191353B4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Диалог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Процедуры, диагностики и безопасность в Интернет , http://www.intuit.ru/department/network/pdsi/15/1.html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E462-8186-4982-BB6D-A43E4CC6B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" descr="Алгоритм работы SSL"/>
          <p:cNvPicPr/>
          <p:nvPr/>
        </p:nvPicPr>
        <p:blipFill>
          <a:blip r:embed="rId1"/>
          <a:stretch/>
        </p:blipFill>
        <p:spPr>
          <a:xfrm>
            <a:off x="2000160" y="1643040"/>
            <a:ext cx="471492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TTP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HTTPS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Hypertext Transfer Protocol Secure) – расширение протокола HTTP, поддерживающее шифрование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HTTPS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это обычный HTTP, работающий через шифрованные транспортные механизмы SSL и T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о умолчанию HTTPS URL использует 443 TCP-порт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ля обработки HTTPS -соединений, администратор должен получить и установить в систему сертификат для этого веб-сервера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Для шифрования используется длина ключа 40, 56, или 128 бит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675"/>
              </a:spcBef>
              <a:buClr>
                <a:srgbClr val="c8e79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F4DB-B988-4CB9-9F71-424CEB9FA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«Информационная безопасность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Times New Roman"/>
              </a:rPr>
              <a:t>Источник: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Информационная безопасность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http://ru.wikipedia.org/wiki/Информационная_безопасность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55D9-6A48-4153-AD90-53043E861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300px-Information_security_components_JMK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стемный подход к информационной безопас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EEC7-4445-472B-863F-F5D903FA2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конодательная, нормативно-правовая и научная база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Структура и задачи органов (подразделений), обеспечивающих безопасность И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Организационно-технические и режимные меры и методы (Политика информационной безопасности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ограммно-технические способы и средства обеспечения информационной безопас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одательная, нормативно-правовая и научная баз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E64-D9B5-4822-A75E-038CCEEE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еждународные договоры Р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Конституция Р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Законы федерального уровня (включая федеральные конституционные законы, кодексы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казы Президента Р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становления правительства РФ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федеральных министерств и ведомств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субъектов РФ, органов местного самоуправления и т. д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онно-технические и режимные меры и методы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7E7-4B18-4E81-9B5C-F29076613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литика безопасност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информации в организации) (Organizational security policy) – совокупность документированных правил, процедур, практических приемов или руководящих принципов в области безопасности информации, которыми руководствуется организация в своей деятельности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олитика безопасности информационно-телекоммуникационных технологий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(ІСТ security policy) – правила, директивы, сложившаяся практика, которые определяют, как в пределах организации и ее информационно-телекоммуникационных технологий управлять, защищать и распределять активы, в том числе критичную информацию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граммно-технические способы и средства обеспечения ИБ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ства защиты от несанкционированного доступа (НСД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 анализа и моделирования информационных потоков (CASE-системы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 мониторинга сете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ализаторы протокол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нтивирусные сред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жсетевые экран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иптографические средст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 резервного копир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 бесперебойного пит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 аутентификаци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ства предотвращения взлома корпусов и краж оборудова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ства контроля доступа в помещ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нструментальные средства анализа систем защиты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CF41-47DD-490C-8E80-BCF393B5D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утентификация (Authent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одбор (Brute Forc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достаточная аутентификация (Insufficient Authenticatio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Небезопасное восстановление паролей (Weak Password Recovery Validation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DDE7-D0A6-4B94-A80E-E75AEE54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угроз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ризация (Authoriz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сказуемое значение идентификатора сессии (Credential/Session Predi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авторизация (Insufficient Authoriz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сутствие таймаута сессии (Insufficient Session Expi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ксация сессии (Session Fixatio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507E-FB48-46C0-BA8D-8A351594F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48:59Z</dcterms:modified>
  <cp:revision>18</cp:revision>
  <dc:subject> Лекция 13. Безопасность в Веб-разработке </dc:subject>
  <dc:title>Современные веб-технологии. Подробный курс</dc:title>
</cp:coreProperties>
</file>