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3.png" ContentType="image/png"/>
  <Override PartName="/ppt/media/image21.wmf" ContentType="image/x-wmf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7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58B-3B5A-4262-883E-603C60CD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CD3-7F31-4626-AC22-FA8AB3B0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1C1-7635-4885-A525-4225F915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DB4-D33B-490D-BC04-72B12740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E6DBA-BE82-4763-98CD-BDBD791C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32C3D-FA2B-4EBC-9DD3-A8AD4C82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9D551-26C6-495B-9405-8ED2AD54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ED776-FA5C-401B-9CAB-925049CA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A28AC-B409-47DC-BF94-401C4E7E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F7F67-38DA-4681-82DB-C6C4D4E2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BAF5C-33FA-4473-9DBD-6C532DE9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CB49-37A7-4F0C-8F7E-47421340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742B4-C2A9-4703-AE7C-6E90BED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10D0D-8B8D-4E33-856F-99884BE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F5DE4-F9C8-40AA-B2ED-C92491A0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0BB7A-D1BE-4334-BB94-DF193DF6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BABB5-482B-44BF-870A-A0501FBB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9004-D3FE-442A-BC79-FFC2255A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B1EE-E70C-4F5E-BA77-EF2D447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F788-60FC-4100-9DA4-AF80BBC5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2EA0-B8F7-4850-9AA6-15BED3DE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2F47C-61E5-4B5A-984D-73FFFF8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EA1-4D8B-47BB-9182-FD03C616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AF06-E069-4F8E-8198-C580C7ED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B22F5-BA81-4E5C-AAB8-F795EDD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CDD7-C289-48EB-B326-E7128F2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16A4-9854-426F-ADE7-338B6B93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119B-4C27-4063-812C-BFC81F3E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B97A-553C-47C9-A21D-42C2A7A8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A237B-2643-44F3-87B9-9ED9D208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B48BD-4FFF-4AAF-9505-A2293C48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4D19-7B8F-44A3-9A80-433BAD0F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D55E5-DA35-43F7-B4F0-7F2007C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503-96EE-428B-ACA2-DB6508BC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F086-2D89-41DD-8818-7FBBA3C2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59FEB-F949-4B2E-8DF7-F4D62511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C702E-9FF1-44F7-A248-FFFA9B1A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1439-F274-414A-B64F-250EEE17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C53B-831D-489A-B46E-4DD95431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D675-7F64-4E1C-BBAB-23EB0E8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CE25-0086-4B95-8C5B-824460DF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6543B-9828-4237-8D9A-A78143F7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55BA-B888-4FE4-BD2E-12CB53FE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8FA-4788-4322-A6EF-EF9999AA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807-D015-41AF-86AA-094B25C7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AAD-0CFC-4D28-9846-71E422AA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785-025A-4DBB-BD0D-52755FDD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1F97-1661-49BA-B163-6B955FC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19FC-A0D1-4A84-9FBB-2666CC7DF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7385-42BD-4A51-9E89-7147FE175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48B1-EAD6-42D0-BD49-83CCA1DE1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A56-40F8-4344-9DF7-D3F671304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FF70-6A46-41CE-BB5A-5560FB65F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FF1C-D1FD-4F2F-9CF4-1CBA029AC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18F9-D3C4-4058-8F36-2FBB30512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2327-923A-4AE5-9538-B323C8490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8143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ch Internet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F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FA45-486C-4867-90CA-1DD61C456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75866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Fle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04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Adobe Flex Builder 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http://pshyama.files.wordpress.com/2009/06/flexbld2.jpg?w=455&amp;h=33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4310-F107-4710-BC20-44D81C6E1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1285920" y="1285920"/>
            <a:ext cx="6107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Fle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быстрый цикл освоения и разработ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звитое commun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ного учебных материалов и документ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нтеграция с дизайнерскими инструментами от Adob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адежная простая и эффективная платформ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едрассудок «Flex это для мультиков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ущественные (по сравнению с Java) ограничения «песочницы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ногие разработчики акцентированы на визуализации, как следствие плохой серверный код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805D-897D-473F-AB0B-D33AD36B8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A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BB8D-F8BD-4AA0-A6E8-A8CF18FF3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"/>
          <p:cNvGraphicFramePr/>
          <p:nvPr/>
        </p:nvGraphicFramePr>
        <p:xfrm>
          <a:off x="571680" y="1428840"/>
          <a:ext cx="8001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428840"/>
                    <a:ext cx="8001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 A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спользуя AIR, можно легко перенести готовое HTML или Adobe Flex приложение на компьютер пользовател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ложения имеют доступ к файловой системе, буферу обмена, имеется поддержка нескольких окон, технологии drag-and-dro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ограниченный доступ к SQLite и веб-сервиса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ложения, написанные на AIR, являются однопоточным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ложения, написанные на AIR, зависят от среды выполнения Adob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F7F9-C021-4DB4-9C3B-EBC36359B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JA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есть в любом браузере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ст в освоени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быстрый цикл разработк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развитый инструментарий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развитое сообщество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ногда кросс-браузерная несовместимост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ложно/дорого разрабатывать большие приложения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ложно отлаживать, дорого поддерживать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изкая производительност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8B21-D06F-4A97-B9A2-D30427B43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tive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сполняется native-код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только IE и Window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нетривиален в разработке и отладк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ольшой период освоения технолог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имеются некоторые проблемы с безопасностью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D1A-B859-4726-84A0-4851A9649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Windows Presentation Found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Windows Presentation Foundation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WPF, кодовое название – Avalon) – графическая (презентационная) подсистема в составе .NET Framework 3.0, имеющая прямое отношение к XAML (Extensible Application Markup Language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снова WPF – это независимый от разрешения экрана и основанный на векторной графике механизм отрисовки, который был построен для использования всех преимуществ современного графического оборудова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2C64-B4F9-4B83-A09B-3B3849B4C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lverl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1C3D-6CDC-4123-8BAA-1D4AA2F4F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Object 1"/>
          <p:cNvGraphicFramePr/>
          <p:nvPr/>
        </p:nvGraphicFramePr>
        <p:xfrm>
          <a:off x="2286000" y="1143000"/>
          <a:ext cx="40719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143000"/>
                    <a:ext cx="40719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lverligh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ехнология Deep Zo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мплексная поддержка работы в сет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Языковая поддержка .NET Framewor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щита контента – Silverlight D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росс-платформенная и кросс-браузерная поддержк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высококачественного видео и ауди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ехнология Smooth Stream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аппаратного ускорения при работе с трехмерной графико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Глубокое связывание (Deep linking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O-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ружелюбност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Возможности работы без браузер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оддержка устройств с multitouch-интерфейсо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2500-2EA3-4269-B7C3-EF063EE28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RIA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(Rich Internet application, Rich Interactive Applications) – это приложение, доступное через Интернет, богатое функциональностью традиционных настольных приложений, не поддерживаемой браузерами непосредственно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RI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ложение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ередает веб-клиенту необходимую часть пользовательского интерфейса, оставляя большую часть данных (ресурсы программы, данные и пр.) на сервер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пускается в браузере и не требует дополнительной установки П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запускается локально в среде безопасности, называемой «песочница» (sandbo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AA86-B874-43CA-BF40-DB0938238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004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JavaOne: Sun rolls out JavaF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http://news.cnet.com/8301-13953_3-9937054-80.htm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acle (Su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BC3C-AB0E-4D5A-9963-8BAA15EED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1357200" y="1357200"/>
            <a:ext cx="60724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авнение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-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7B5-2469-4FD4-9985-3B723BEC7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57120" y="1071720"/>
          <a:ext cx="8358120" cy="5364000"/>
        </p:xfrm>
        <a:graphic>
          <a:graphicData uri="http://schemas.openxmlformats.org/drawingml/2006/table">
            <a:tbl>
              <a:tblPr/>
              <a:tblGrid>
                <a:gridCol w="1571760"/>
                <a:gridCol w="1143000"/>
                <a:gridCol w="1143000"/>
                <a:gridCol w="1071360"/>
                <a:gridCol w="1143000"/>
                <a:gridCol w="1143000"/>
                <a:gridCol w="1143000"/>
              </a:tblGrid>
              <a:tr h="244440"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ilver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avaF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indo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n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рауз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, Safari, Ch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, Safari, Opera, Netscape, Ch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, Safari, Opera, Netscape, Ch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, Firefox, Safari, Opera, Netscape, Ch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AML+CLS (C#, VB…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AML+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avaScript/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S(C#, VB…)/DLR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Python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XML+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Scri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Scrip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XML/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Script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vaScript/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TM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avaFX Script, Java platform (Java, Groovy…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ео коде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Windows Media Play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MV, VC-1, H.264, ACC Video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renson Spark, On2 VP6-E, On2 VP6-S, H.264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renson Spark, On2 VP6-E, On2 VP6-S, H.264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renson Spark, On2 VP6-E, On2 VP6-S, H.264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аты зву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Windows Media Play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P3, WMA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R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P3, A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P3, A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P3, A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, AIFF, WAV, MID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15120" rIns="151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строенная поддержка 3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15120" rIns="15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держка микрофона и вебка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120" rIns="151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5120" marR="15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 (Flash/Flex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C0B8-910F-4094-9D89-BF0106889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5932440" cy="2933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2"/>
          <a:stretch/>
        </p:blipFill>
        <p:spPr>
          <a:xfrm>
            <a:off x="2571840" y="3286080"/>
            <a:ext cx="59324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 (Ajax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15DF-24D3-4097-9A0E-BA8A99911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5932440" cy="2967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Рис. 2. Редактирование документа в текстовом процессоре Google Docs"/>
          <p:cNvPicPr/>
          <p:nvPr/>
        </p:nvPicPr>
        <p:blipFill>
          <a:blip r:embed="rId2"/>
          <a:stretch/>
        </p:blipFill>
        <p:spPr>
          <a:xfrm>
            <a:off x="3643200" y="2786040"/>
            <a:ext cx="46040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 (Silverlight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1657-0FB6-4BBB-AE4D-CB363FD14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5986440" cy="3019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2714760" y="3214800"/>
            <a:ext cx="593244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A3FB-DF8A-40D2-9F93-946C024B2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1714680" y="1357200"/>
          <a:ext cx="5357520" cy="45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1357200"/>
                    <a:ext cx="535752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 развития приложе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38B7-BB6C-4165-8764-73A7C8E18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571760" y="1285920"/>
          <a:ext cx="628632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285920"/>
                    <a:ext cx="628632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A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классическое веб-прилож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9FB8-44F2-4DC9-92AE-2B225C1C6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1571760" y="1214280"/>
          <a:ext cx="57974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214280"/>
                    <a:ext cx="57974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«толстый» клиен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C7A2-76EC-47DA-832D-EF800AA29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3"/>
          <p:cNvGraphicFramePr/>
          <p:nvPr/>
        </p:nvGraphicFramePr>
        <p:xfrm>
          <a:off x="133200" y="1143000"/>
          <a:ext cx="429588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143000"/>
                    <a:ext cx="429588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5"/>
          <p:cNvGraphicFramePr/>
          <p:nvPr/>
        </p:nvGraphicFramePr>
        <p:xfrm>
          <a:off x="4500720" y="1143000"/>
          <a:ext cx="4257360" cy="514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43000"/>
                    <a:ext cx="42573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стоинст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«Богатый» интерфейс по сравнению с HTML-приложениями (drag-and-drop, использование ползунка для изменения данных, возможность производить вычисления, которые не отправляются обратно на сервер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ние вычислительных ресурсов клиента и сервера лучше сбалансирован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ложения доступны через браузер и не требуют установк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росс-платформены и кросс-браузерн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Автоматическое обновление верси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Меньше опасность заражения вирусами для пользователей за счет использования «песочницы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Частичная возможность работы в режиме offli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E4A2-FA94-4838-B175-090CC7AC6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достатк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Из-за «песочница» имеют ограниченный доступ к системным ресурса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 отключение активных сценариев в браузере RIA может не работат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фликты с X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исковые системы могут не проиндексировать содержимое приложения R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Требуют регулярного или постоянного подключения к Интернету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блем веб-совместимости с RI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ельзя расширять плагинами и модам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Сложность интеграции с браузером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орогая разработка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852-5654-4754-BDAB-A09A46A63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ob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004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Adobe Flash Platform ActionScript reference for RIA developmen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www.adobe.com/devnet/actionscript/articles/atp_ria_guide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c8e79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F32E-A664-42E5-92E5-DC6FB765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2643120" y="1000080"/>
            <a:ext cx="3357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Мохова</cp:lastModifiedBy>
  <dcterms:modified xsi:type="dcterms:W3CDTF">2010-03-29T18:25:05Z</dcterms:modified>
  <cp:revision>20</cp:revision>
  <dc:subject> Лекция 12. Rich Internet application</dc:subject>
  <dc:title>Современные веб-технологии. Подробный курс</dc:title>
</cp:coreProperties>
</file>