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78EE-6211-4DD1-AF02-A8569E4C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5419-B95E-47D3-B0CF-A4B9570B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797-119F-46E4-BA04-4232CA14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A51C-4DC5-45CA-8FB0-561D997E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A0A21-90E8-49AC-ACE2-3F68E516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B2EC6-A7A2-48C7-96B4-2908585D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EC86B-C611-4ECF-BAD2-BBF7BF45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67567-0579-49DA-B27A-058BD117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16B46-A505-4F29-8CEA-966543B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0962-6185-4926-9903-83008B4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E3478-24D9-4228-BE47-A86635BB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1643-F794-48FF-B260-A7C9DA1C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58FD4-A362-4156-868B-B1DDF926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15CBE-55E0-4CAE-9349-20F5E55E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2A76E-5D5D-4CB6-B93C-BF424480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59618-54D1-4189-86DA-847853B6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79CFF-710C-4951-A8A8-F5350204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934D0-5BFD-4E82-BDCD-D567FAEA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DD02-2668-4695-AB98-472C8AF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88CF7-3570-42D1-8A69-7877A3DD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D6B45-8A79-40F3-A736-002F23EF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AA28-3A6C-4B3C-9574-5C3009F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8D67-43B1-47D1-84D3-D4D2267F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53C30-E7CD-4C5A-A8B7-50351D0A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700E-F6D8-4902-BA5F-6B428F1C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E0EFD-261F-48DE-A34E-649C7CB3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32F53-A09D-4978-8DC5-750E68F2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42E25-4E1F-46F1-88FD-AF69000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3F3A0-5855-4CA2-9AE5-B419C7E2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8F7F3-DF02-49D0-B20D-60A30A22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C4303-FF9C-4608-8AF8-1D5460EB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7E412-8A4A-4AAF-AF8E-7B48170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33DE-D888-4BE9-83F0-2867912B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578-2062-433A-B039-E9C81583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0603-9B49-4681-8788-207DAB0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FCD30-6D81-40CB-99E6-04F03AAE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3FAED-4D42-4803-8848-F18F2919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8CCC4-5D59-46C8-B6A4-8E1B1DB4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D281D-3A09-4A60-8C86-A40735EF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0FAA-1234-467C-92E8-8531EA8D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A469F-970D-40C9-AB9E-3F3EC2EE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F997C-A2AF-4ED7-8C33-80CF86A8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15786-7C56-4018-9208-B917D1D4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4B6-C489-482D-96A2-53A2F2D5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A1F-DB79-4916-B264-022D0659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1CE1-FDB3-410F-B162-0A52053C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C9F-CDC9-4E8D-BB99-B3808645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5A1-6C42-4E29-8CF0-9E2775B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4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2.png"/><Relationship Id="rId22" Type="http://schemas.openxmlformats.org/officeDocument/2006/relationships/slideLayout" Target="../slideLayouts/slideLayout13.xml"/><Relationship Id="rId23" Type="http://schemas.openxmlformats.org/officeDocument/2006/relationships/slideLayout" Target="../slideLayouts/slideLayout14.xml"/><Relationship Id="rId24" Type="http://schemas.openxmlformats.org/officeDocument/2006/relationships/slideLayout" Target="../slideLayouts/slideLayout15.xml"/><Relationship Id="rId25" Type="http://schemas.openxmlformats.org/officeDocument/2006/relationships/slideLayout" Target="../slideLayouts/slideLayout16.xml"/><Relationship Id="rId26" Type="http://schemas.openxmlformats.org/officeDocument/2006/relationships/slideLayout" Target="../slideLayouts/slideLayout17.xml"/><Relationship Id="rId27" Type="http://schemas.openxmlformats.org/officeDocument/2006/relationships/slideLayout" Target="../slideLayouts/slideLayout18.xml"/><Relationship Id="rId28" Type="http://schemas.openxmlformats.org/officeDocument/2006/relationships/slideLayout" Target="../slideLayouts/slideLayout19.xml"/><Relationship Id="rId29" Type="http://schemas.openxmlformats.org/officeDocument/2006/relationships/slideLayout" Target="../slideLayouts/slideLayout20.xml"/><Relationship Id="rId30" Type="http://schemas.openxmlformats.org/officeDocument/2006/relationships/slideLayout" Target="../slideLayouts/slideLayout21.xml"/><Relationship Id="rId31" Type="http://schemas.openxmlformats.org/officeDocument/2006/relationships/slideLayout" Target="../slideLayouts/slideLayout22.xml"/><Relationship Id="rId32" Type="http://schemas.openxmlformats.org/officeDocument/2006/relationships/slideLayout" Target="../slideLayouts/slideLayout23.xml"/><Relationship Id="rId3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37.xml"/><Relationship Id="rId17" Type="http://schemas.openxmlformats.org/officeDocument/2006/relationships/slideLayout" Target="../slideLayouts/slideLayout38.xml"/><Relationship Id="rId18" Type="http://schemas.openxmlformats.org/officeDocument/2006/relationships/slideLayout" Target="../slideLayouts/slideLayout39.xml"/><Relationship Id="rId19" Type="http://schemas.openxmlformats.org/officeDocument/2006/relationships/slideLayout" Target="../slideLayouts/slideLayout40.xml"/><Relationship Id="rId20" Type="http://schemas.openxmlformats.org/officeDocument/2006/relationships/slideLayout" Target="../slideLayouts/slideLayout41.xml"/><Relationship Id="rId21" Type="http://schemas.openxmlformats.org/officeDocument/2006/relationships/slideLayout" Target="../slideLayouts/slideLayout42.xml"/><Relationship Id="rId22" Type="http://schemas.openxmlformats.org/officeDocument/2006/relationships/slideLayout" Target="../slideLayouts/slideLayout43.xml"/><Relationship Id="rId23" Type="http://schemas.openxmlformats.org/officeDocument/2006/relationships/slideLayout" Target="../slideLayouts/slideLayout44.xml"/><Relationship Id="rId24" Type="http://schemas.openxmlformats.org/officeDocument/2006/relationships/slideLayout" Target="../slideLayouts/slideLayout45.xml"/><Relationship Id="rId25" Type="http://schemas.openxmlformats.org/officeDocument/2006/relationships/slideLayout" Target="../slideLayouts/slideLayout46.xml"/><Relationship Id="rId26" Type="http://schemas.openxmlformats.org/officeDocument/2006/relationships/slideLayout" Target="../slideLayouts/slideLayout47.xml"/><Relationship Id="rId2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ED7F-FE15-4150-8C91-070346C0B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E1B0-E643-4DE9-A00E-B39A76886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48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4" name="Rectangle 6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5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6" descr="star"/>
          <p:cNvPicPr/>
          <p:nvPr/>
        </p:nvPicPr>
        <p:blipFill>
          <a:blip r:embed="rId6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9" descr="star"/>
          <p:cNvPicPr/>
          <p:nvPr/>
        </p:nvPicPr>
        <p:blipFill>
          <a:blip r:embed="rId7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9" descr="star"/>
          <p:cNvPicPr/>
          <p:nvPr/>
        </p:nvPicPr>
        <p:blipFill>
          <a:blip r:embed="rId8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1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101" descr=""/>
          <p:cNvPicPr/>
          <p:nvPr/>
        </p:nvPicPr>
        <p:blipFill>
          <a:blip r:embed="rId9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68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69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0" name="Freeform 21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3" name="Freeform 22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" name="Straight Connector 8" descr=""/>
            <p:cNvPicPr/>
            <p:nvPr/>
          </p:nvPicPr>
          <p:blipFill>
            <a:blip r:embed="rId12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7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78" name="Freeform 19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1" name="Freeform 20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4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5" name="Freeform 17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88" name="Freeform 18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1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2" name="Freeform 15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5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98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99" name="Freeform 13" descr=""/>
                <p:cNvPicPr/>
                <p:nvPr/>
              </p:nvPicPr>
              <p:blipFill>
                <a:blip r:embed="rId19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2" name="Freeform 14" descr=""/>
                <p:cNvPicPr/>
                <p:nvPr/>
              </p:nvPicPr>
              <p:blipFill>
                <a:blip r:embed="rId20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4" name="Picture 230" descr="star"/>
          <p:cNvPicPr/>
          <p:nvPr/>
        </p:nvPicPr>
        <p:blipFill>
          <a:blip r:embed="rId21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24AF-BEC3-4A78-8837-26EEE016F4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5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B882-2584-4C10-8F75-AF7DD31BC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2"/>
    <p:sldLayoutId id="2147483663" r:id="rId23"/>
    <p:sldLayoutId id="2147483664" r:id="rId24"/>
    <p:sldLayoutId id="2147483665" r:id="rId25"/>
    <p:sldLayoutId id="2147483666" r:id="rId26"/>
    <p:sldLayoutId id="2147483667" r:id="rId27"/>
    <p:sldLayoutId id="2147483668" r:id="rId28"/>
    <p:sldLayoutId id="2147483669" r:id="rId29"/>
    <p:sldLayoutId id="2147483670" r:id="rId30"/>
    <p:sldLayoutId id="2147483671" r:id="rId31"/>
    <p:sldLayoutId id="2147483672" r:id="rId32"/>
    <p:sldLayoutId id="2147483673" r:id="rId3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47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87AC-6693-4BC8-B8D5-05983B2D1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366-B1C4-498C-A2E9-D6F7110FC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Rectangle 6"/>
          <p:cNvGrpSpPr/>
          <p:nvPr/>
        </p:nvGrpSpPr>
        <p:grpSpPr>
          <a:xfrm>
            <a:off x="-6480" y="-6480"/>
            <a:ext cx="9156960" cy="1013040"/>
            <a:chOff x="-6480" y="-6480"/>
            <a:chExt cx="9156960" cy="1013040"/>
          </a:xfrm>
        </p:grpSpPr>
        <p:pic>
          <p:nvPicPr>
            <p:cNvPr id="19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0"/>
              <a:ext cx="91440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9" descr="star"/>
          <p:cNvPicPr/>
          <p:nvPr/>
        </p:nvPicPr>
        <p:blipFill>
          <a:blip r:embed="rId3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98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20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20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202" name="Freeform 21" descr=""/>
                <p:cNvPicPr/>
                <p:nvPr/>
              </p:nvPicPr>
              <p:blipFill>
                <a:blip r:embed="rId4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205" name="Freeform 22" descr=""/>
                <p:cNvPicPr/>
                <p:nvPr/>
              </p:nvPicPr>
              <p:blipFill>
                <a:blip r:embed="rId5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07" name="Straight Connector 8" descr=""/>
            <p:cNvPicPr/>
            <p:nvPr/>
          </p:nvPicPr>
          <p:blipFill>
            <a:blip r:embed="rId6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20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210" name="Freeform 19" descr=""/>
                <p:cNvPicPr/>
                <p:nvPr/>
              </p:nvPicPr>
              <p:blipFill>
                <a:blip r:embed="rId7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213" name="Freeform 20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21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217" name="Freeform 17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220" name="Freeform 18" descr=""/>
                <p:cNvPicPr/>
                <p:nvPr/>
              </p:nvPicPr>
              <p:blipFill>
                <a:blip r:embed="rId10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22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224" name="Freeform 15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227" name="Freeform 16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23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231" name="Freeform 13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234" name="Freeform 14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36" name="Picture 230" descr="star"/>
          <p:cNvPicPr/>
          <p:nvPr/>
        </p:nvPicPr>
        <p:blipFill>
          <a:blip r:embed="rId15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1553-9CF5-4645-B73B-FD75CDC574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D3E3-EA81-4673-AA68-A31DDFB8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6"/>
    <p:sldLayoutId id="2147483689" r:id="rId17"/>
    <p:sldLayoutId id="2147483690" r:id="rId18"/>
    <p:sldLayoutId id="2147483691" r:id="rId19"/>
    <p:sldLayoutId id="2147483692" r:id="rId20"/>
    <p:sldLayoutId id="2147483693" r:id="rId21"/>
    <p:sldLayoutId id="2147483694" r:id="rId22"/>
    <p:sldLayoutId id="2147483695" r:id="rId23"/>
    <p:sldLayoutId id="2147483696" r:id="rId24"/>
    <p:sldLayoutId id="2147483697" r:id="rId25"/>
    <p:sldLayoutId id="2147483698" r:id="rId26"/>
    <p:sldLayoutId id="2147483699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овременные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еб-технолог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робный кур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Заголовок 1"/>
          <p:cNvSpPr/>
          <p:nvPr/>
        </p:nvSpPr>
        <p:spPr>
          <a:xfrm>
            <a:off x="214200" y="4286160"/>
            <a:ext cx="77155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кция 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Применение Веб-методов. Технолог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sp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сурсы в Ja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загрузке страницы, Jasp определяет, какие ресурсы используются на страниц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CSS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JavaScript ресурс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ML ресурс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инарные ресурс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Jasp группирует все CSS и JavaScript файлы в один CSS и один JavaScript файл и добавляет специальные ссылки в HTML разметку, по которым они подгружаются браузе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14AD-9E9D-419A-BC75-F77823404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траницы и компоненты 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аниц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обходимо создать класс, наследующий от класса Jasp.Web.UI.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оздан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мпонен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обходимо создать класс, наследованный от класса Jasp.Web.UI.User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экземпляра компонент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но, на серверной стор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рез разметку, на серверной стор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нхронно или асинхронно на клиентской сторо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A32E-7C1A-4CF5-AC24-3E774454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следование компонент и страниц в Jas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Jasp поддерживает наследование компонент как на серверной стороне, так и на клиентско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ов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ов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ование JavaScr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компонента наследуются все ресурсы от базов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наследования компонент, достаточно унаследовать серверный 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E954-7532-42DD-953D-CA5BAEEB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фигурирование Ja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Jasp конфигурируется с помощью собственной секции в файле web.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 resourceFilter определяет класс, экземпляр которого будет заниматься фильтрацией текстовых ресурс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 exceptionFormatter используется для указания класса, экземпляр которого форматирует исключение при RPC-вызовах в JSON-объек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58EA-AFBD-4015-90B9-920F72DFA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еб-сервисы 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P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8872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Веб-службы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можно создавать, используя архитектуру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ASP.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При работе с Веб-сервисами существуют две фундаментальные роли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 Веб-серви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ение к Веб-сервис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ASP.NET позволяет создавать Веб-сервисы, к которым можно обращаться из клиентского сценария страниц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ницы взаимодействуют с сервером посредством уровня связи, использующего технолог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JA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вызова Веб-служ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ен данными между клиентом и сервером осуществляется асинхронно, как правило, в формат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J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2A5F-DC15-486B-9889-BC86472AD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заимодействие клиент-сервер для клиентов AJ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2496-F296-4E35-A366-535AD560F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5"/>
          <p:cNvGraphicFramePr/>
          <p:nvPr/>
        </p:nvGraphicFramePr>
        <p:xfrm>
          <a:off x="1928880" y="1071720"/>
          <a:ext cx="4429080" cy="551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071720"/>
                    <a:ext cx="442908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иентская архитектура технологии AJ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09A1-69F0-485F-A5EA-42C2505E7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5"/>
          <p:cNvGraphicFramePr/>
          <p:nvPr/>
        </p:nvGraphicFramePr>
        <p:xfrm>
          <a:off x="1285920" y="1214280"/>
          <a:ext cx="631044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14280"/>
                    <a:ext cx="631044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иентская архитектура технологии AJ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ет два подхода к вызовам методов Веб-серви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помощью команды POST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помощью команды GET HT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элементы уровня связи Веб-служб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Web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WebRequestMana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XmlHttpExecu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JSON-сериализ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B1B-33B2-46E3-82F7-528B54716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рверная архитектура AJAX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50BF-E365-4430-B41A-F7C647965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714240" y="1428840"/>
          <a:ext cx="7772400" cy="42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1428840"/>
                    <a:ext cx="777240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здание Веб-сервиса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б-сервисы создаются в управляемом коде с помощью платформы ASP.NE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ется файл с расширением AS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айл содержит класс, помеченный  атрибутом Web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асс содержит один или несколько открытых методов, перед которыми ставится атрибут Web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Веб-сервисы состоят из двух частей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ка входа Веб-сервиса (в ASP.NET – ASMX-фай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д, который реализует функциональность Веб-сервиса (ASMX-файл ссылается на код в предкомпилированных сборках, файл с выделенным кодом или на код, содержащийся в самом ASMX-файл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340-0AB8-483C-9D8D-3FECDF682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хнология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Jas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18908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Jas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библиотекой для разработки Веб-приложений с использованием платформ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icrosoft .NET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ное использование компонен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ледование, как серверной части, так и клиентских частей: JavaSctpt, CSS и размет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матическая загрузка ресурсов (синхронно или асинхронно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тся со всеми распространенными JavaScript-библиотеками: jQuery, Ext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Prototype и т.п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9F91-0D7C-4213-8A6C-7B4D8A4D8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ешение проблем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P.NE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18908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азличные трудности, возникающие при связи серверной и клиентской части компонента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громный размер ViewStat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спользование ASP.NET Ajax зачастую приводит к непредсказуемым результатам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Ресурсы, загружаемые с помощью WebResource.ax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большой вложенности компонент получаем огромные ClientI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Нет возможности полноценного наследования компонен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создании WebControl’ов создание дочерних компонент приходится делать вручну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 создании UserControl’ов, их нельзя использовать в других проекта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D07C-000E-45C9-849E-FA2438C13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3:06:53Z</dcterms:created>
  <dc:creator>Несвижский А.И., Рябов В.А.</dc:creator>
  <dc:description/>
  <dc:language>en-US</dc:language>
  <cp:lastModifiedBy>Bleff</cp:lastModifiedBy>
  <dcterms:modified xsi:type="dcterms:W3CDTF">2010-03-09T10:51:32Z</dcterms:modified>
  <cp:revision>19</cp:revision>
  <dc:subject> Лекция 11. Применение Веб-методов. Технология Jasp </dc:subject>
  <dc:title>Современные веб-технологии. Подробный курс</dc:title>
</cp:coreProperties>
</file>