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7D8-2A44-45D8-B2F2-4C08954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E54-699E-4563-83A1-16A5407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098-BE12-49F7-A328-DAE75B65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B46-4D29-40CB-B021-F1E63484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B43BA-C199-425D-9380-AE127E68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DA896-A359-4DBF-A94B-3A89488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006BF-A036-43AB-9B80-80DAE3BE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0D65B-EB70-4869-BF0F-5CD3C73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21C8-B15C-4BBA-9D10-161A66AA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AB8F7-C813-4671-AA21-BF093A1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2C1C0-B984-437C-B867-F047E35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32A-B786-4918-9BCB-8C62F2E1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EA493-2EFF-4D57-83FC-1EF3625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A3E3C-EB0E-42F6-A08A-0E1ED1C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AB08-0CF6-419E-9D3A-3ACB9D3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EFF93-28C9-4A29-A736-CF6ECA03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76851-DBC1-4943-ABF1-F7E0BA29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3C9E-DF5B-4619-87F1-79B56152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E0BD-0A57-43F1-9A81-4088F47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DCA2-FC61-4433-84A7-90446D5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A102-DB25-41F8-9DF4-F6863D1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481B-028C-4CDA-BDF7-98040B7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7C7-B654-4E17-BC11-FD1097A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CC52-1EB8-49F7-ADBE-DC57F335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FE23-A3B8-49A8-A6A2-C0F926A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EE59-D5AD-4FB7-86B5-FA3B6DE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E048-7247-4B92-89C1-882E0C0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D1BC-CD3A-4660-B713-704F8364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C7C6-7F4E-4362-9EF6-F7AF7145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BB70-4045-4250-A4DF-4C393754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69A3-CE20-46C3-90D1-4B4CE100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6FA4-6A70-40E2-BE8F-9EA95EDB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57AB-0DA2-4C32-8065-1C1E638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26E-AD70-4C4F-ADDF-5158808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AD04-8449-4145-BD82-8920034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1DB9-6266-4FDD-B4B3-BFFD883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EDD5-C331-4B6E-BD96-B7D48D3B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9CDC-EAB8-4F9E-A8FA-29EA944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0CB8-5F13-485A-9935-A212C36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E17A-AAFC-4CBA-8B7A-06F7B68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4224-4710-4EF1-BD41-EB8F7A0F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6A3F-C437-4F39-8495-BB15BC37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F124-E7A4-434E-A358-36EBD15B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7A1-E7CA-49C5-8DC8-246E1BD1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B50-D4DA-4534-84A3-CA89D88D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A84-D6CF-4E08-B1DC-A09AAD0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16F-62A7-409F-8A4E-DC64122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B28-41A6-4DF4-B5EE-ECBF0C4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73C-10D9-4B58-8080-A4C584508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A372-3A37-4952-90BF-398743AA2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69E-6CFC-44B7-A84A-74B216E5B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412-C0D5-4978-9265-83AB63218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D882-9791-4EAB-9310-9384C40C7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F9AD-C3B5-485C-A0A8-2A1A477E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466-F3AB-4C64-B5FF-91D16872F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B60-1965-4492-B164-237A60C8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4297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Создание динамического наполнения страницы. JavaScript-библиотеки и технология 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блиотек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Qu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jQuer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библиотека JavaScript, фокусирующаяся на взаимодействии JavaScript и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ход по дереву DOM, включая поддержку XPath как плаг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ы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уальные эфф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JAX-допол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JavaScript-плаг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8AE6-C181-450B-933C-043AFF39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ункция $()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Qu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$(html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озволяет создать html-элементы «на лету» из «чистого»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$(elems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озволяет «прицепить» всю функциональность jQuery к уже существующим элементам стра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$(expr[, context]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ервый параметр указывает выражение, которое позволит jQuery найти элемент на странице, второй параметр указывает, где искать этот элемен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C9B2-1641-4F9C-B076-CC9A465F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вление элементами документов и их свойствами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Qu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F895-BF45-46DD-A63E-B2D12F93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28760" y="1428840"/>
          <a:ext cx="8215200" cy="4694040"/>
        </p:xfrm>
        <a:graphic>
          <a:graphicData uri="http://schemas.openxmlformats.org/drawingml/2006/table">
            <a:tbl>
              <a:tblPr/>
              <a:tblGrid>
                <a:gridCol w="2571480"/>
                <a:gridCol w="5643720"/>
              </a:tblGrid>
              <a:tr h="335520">
                <a:tc>
                  <a:txBody>
                    <a:bodyPr lIns="6120" rIns="6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ppend(content)/prepend(conten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авить переданный элемент или выражение в конец/в начало выбранного элемен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ppendTo(expr)/prependTo(exp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авить выбранный элемент в конец/в начало переданного элемен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tr(na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ить значение атрибу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tr(param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ть значение атрибутов. Атрибуты передаются в виде {ключ1:значение1[, ключ2:значение2[, …]]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tr(name, valu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ть значение одного атрибу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ss(name)/css(params)/css(name, valu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ить/установить значение отдельных параметров C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xt()/text(va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ить/задать текст элемен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mpty(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далить все подэлементы текущего элемен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имация 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Qu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nimate(params, speed, easing, callback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arams – свойства, которые участвуют в анимации в виде пар {ключ: значение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peed – скорость в миллисекунд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asing – замедление ани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allback – функция, которая будет вызвана после завершения ани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ффекты jQu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w([speed[, callback]]) – показать эле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adeOut(speed[, callback]) – скрыть элемент путем изменения его прозра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lideDown(speed, callback) – показать элемент, спустив его свер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C22-9ECD-46A0-A30F-EBE73037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Com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ехнология Comet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модель работы Веб-приложения, при которой постоянное HTTP-соединение позволяет Веб-серверу отправлять (push) данные браузеру без дополнительного запроса со стороны браузер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HTTP server push (HTTP streaming) – механизм отправки данных с Веб-сервера к Веб-браузер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б-сервер не закрывает соединение после отправки ответа клиент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нные составляются в очередь до следующего запроса клиен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E3A6-995A-4D2E-9CFE-F6F2FD34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хема работ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omet – HTTP-strea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E149-ED76-4B3E-9703-36695E4F9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"/>
          <p:cNvGraphicFramePr/>
          <p:nvPr/>
        </p:nvGraphicFramePr>
        <p:xfrm>
          <a:off x="285840" y="2143080"/>
          <a:ext cx="885816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43080"/>
                    <a:ext cx="885816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ng 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хема работ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omet – Pol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59BD-4044-488F-9226-EB03AA96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1285920" y="1785960"/>
          <a:ext cx="63673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785960"/>
                    <a:ext cx="636732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1285920" y="4286160"/>
          <a:ext cx="635796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4286160"/>
                    <a:ext cx="635796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JS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JavaScript Object Notation) – текстовый формат обмена данными, основанный 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обычно используемый именно с этим язы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т считается независимым от языка и может использоваться практически с любым языком программ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ая польза использования JSON открывается при использовании технолог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AJ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400-9DE5-4BF8-BBE9-B3C85417E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На языке XML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irstNam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irst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stNam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last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Address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сковское ш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, 101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в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101&lt;/street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ity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нингра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JSON-представление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firstName":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lastName":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ванов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ddress"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streetAddress": "Московское ш., 101, кв.101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ity": "Ленинград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625-F179-4333-91E7-542771E2D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иблиоте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ExtJ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J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библиотека JavaScript для разработки веб-приложений и пользовательских интерфейсов, изначально задуманная как расширенная версия Yahoo! UI Library, однако, преобразовавшаяся затем в отдельный фреймвор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ет адаптеры для доступа к библиотекам YUI, jQuery или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ивает технологию AJAX, анимацию, работу с DOM, реализацию таблиц, вкладок, обработку событий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CBD5-065C-4390-A01E-29FE84E5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но-ориентированное программирование н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ранство имен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.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определение мет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.over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ова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.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.apply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копирование каждого члена объекта config в объект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xt.applyI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ирование каждого члена объекта config в объект obj, но только в том случае, когда этот член еще не существует в объекте назна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001D-6BAD-442E-B01E-3ABFFFCD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сновные компоненты ExtJ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88720"/>
            <a:ext cx="81867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амый нижний сл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– низкоуровневые функции по работе с DOM-деревом, событиями, стилями и другие функ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– основные базовые модули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для работы визуальных компон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и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росс-браузерного Drag&amp;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 Stat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Работа с данным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компонент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 (или набор объектов)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B5A-AF50-455B-A3DA-87E29B0E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зуальные компонент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J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намическая подсказка или Toolt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ж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-пан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или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ADA-F7F6-44E6-9F41-853BEC6E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блиотека Proto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JavaScript-фреймворк, упрощающий работу с Ajax и некоторыми другими функци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о используется вместе с Ruby on Rails, script.aculo.us и 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ивает О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ивается следующими браузерами: Internet Explorer 6.0+, Mozilla Firefox 1.5+, Apple Safari 2.0+ и Opera 9.25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B88-B9AF-4BB6-8B25-2EBFD1638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можности Proto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Функция $(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обращение к DOM элементу HTML-страниц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Функция $$(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для разделения CSS от контент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Функция $F(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возвращение значения определенного элемента HTML форм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Функция $A(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преобразование аргумента в объект Arr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Функция $H(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преобразование объектов в перечислимые Хэш-объект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Объект Ajax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методы инициализации и работы с функцией XMLHttpRequ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Класс Element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методы класса предназначены для работы с элементами 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13CD-B57C-46EB-8987-C3946473A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52:14Z</dcterms:modified>
  <cp:revision>25</cp:revision>
  <dc:subject> Лекция 10. Создание динамического наполнения страницы. JavaScript-библиотеки и технология Comet </dc:subject>
  <dc:title>Современные веб-технологии. Подробный курс</dc:title>
</cp:coreProperties>
</file>