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19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7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8E4A-D709-4DF8-BD22-4C5FACDB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F100-3599-42BE-BB77-2F01C5D2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264-4D15-406D-A0A6-7B0E4B74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DB01-8C07-4FF4-894D-0684B953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AB28-4910-421A-BB27-45AD6D38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BDD1-8EC7-4262-AC40-6CA7D66A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39C0-4BE3-4208-905B-8385A8AE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E4C6-F8B9-43A9-93BC-E62072A8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959E-DFE6-4BD6-A177-931F2576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3992-BBF1-4C89-A312-BE8CA386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51CD-6D8E-4B8E-B0B6-8FC00737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4F76-34E4-4A0C-A787-01B5B0FB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542D-0DB7-4477-BE0F-2A6CCD1C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2C19-3BD2-4543-A145-77002FA3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3DC2-96D8-4A78-807B-E27D1598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1074-2BAF-407E-8C65-8A7DBDB2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F31D-C2F0-42BE-8D5C-66D49EFA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5A6FE-3ECB-4FD1-AB04-B51EBD1E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E39C5-94BF-4123-89D3-3D9A9E42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AA68D-6FC3-4971-A0C4-CCAC0FCB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E3E5B-1904-4CC3-98B6-C99F2FA5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A63A4-6E08-4E58-9280-57D1D0A2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DAA-F6A8-4BDE-9382-5278527C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267E1-CFAE-401D-BD45-DA9E090D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67129-84D6-451A-99D4-13552F5C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D7935-8B41-43E8-8374-77A4078B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106B7-6D93-4993-8381-2A98831B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0F3A3-A7A3-41B3-9267-1F04C3DA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09586-38DB-4410-B5FA-FE7174F1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1CAC4-0600-49BD-9D7D-16E7A88A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5E146-DD35-4455-91D5-CC044744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EE833-9784-4F33-928D-FC5C5F11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6C698-61B3-4F14-BE3D-39C0D3E8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556C-3943-4E8A-A747-1B3D81F7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9F064-9624-40CE-B72D-935F1A4D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F6F15-FA24-41A1-A514-CF25F8C3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FD9FC-8642-46A1-AEE8-DCD3876E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5B81E-9977-47B2-8167-7DB409C6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77FE1-17D3-47FF-A81E-ADC29248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6C32B-4998-4749-AE55-2DD6841D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E18F8-DA60-46F9-96F9-494D3CFE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C325C-5C5D-4097-B5E3-2516757C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59CFD-C69A-46A6-87FC-EB66E4C7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E766E-7B7D-417D-866D-E299326B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FA6-31DD-4AD9-A206-0A1596E0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384E5-B648-43E8-8CF2-D84D3464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56C5F-5507-42D0-81EF-7DAC4FA2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17FAB-C184-498B-B04E-58A84F81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FDC47-A509-4FD6-A8E8-33065DDD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0065B-DDC6-4CC1-A52C-0929BD18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AE70E-C9E2-456E-BF9E-4EE25795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904FC-283E-472D-82A2-20FD0310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D206D-AF54-4C1F-8176-64E8597B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CCD4B-FC5B-4992-8B50-F8113075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1A952-F7A5-4539-8575-FC79063C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753-AC02-4D79-A20D-3E8AE8CB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AB9DA-398B-413D-8D2F-14C3B26B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8D128-35B3-4B49-8C0E-937C3976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21475-763B-4FBB-8B81-26ACFBE9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59738-ABA0-4EEA-9538-3525EE70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05A76-57EB-48DF-9765-0134648B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08651-36AE-4308-B598-C6A187CF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0E3BE-0EC9-4D54-B9FB-8DC6A658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0DE66-0558-4060-B7E8-88FB619F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091C4-3D85-4D57-A55A-5BD4008D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9D97D-B6B3-4BFE-956A-C9A1DC24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ACD-B24F-4167-848D-98403CC7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F9896-928C-4E6C-A0C6-A9631100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D1AAF-EE12-44BA-BD49-C113E4FE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FEA52-0322-4D92-A7AE-F7D9F9CA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8F7-5096-4C7D-ACAA-3B3C8561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4B0E-922A-4444-A9EC-B24C1122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31FE-7F97-44D6-8190-D94F2EE7E576}" type="datetime">
              <a:rPr b="0" lang="en-US" sz="1400" spc="-1" strike="noStrike">
                <a:solidFill>
                  <a:srgbClr val="464653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874F-5400-41BA-AAD5-AC0E4B507807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9798-FA48-4137-B07C-E536CC986338}" type="datetime">
              <a:rPr b="0" lang="en-US" sz="1400" spc="-1" strike="noStrike">
                <a:solidFill>
                  <a:srgbClr val="dde9ec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5729-09D8-40E8-B6DA-748953B06078}" type="slidenum">
              <a:rPr b="0" lang="en-US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A56B-F2F8-4682-B9D1-5D0E8B64D470}" type="datetime">
              <a:rPr b="0" lang="en-US" sz="1400" spc="-1" strike="noStrike">
                <a:solidFill>
                  <a:srgbClr val="464653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00EC-3D7C-4089-9C7A-966804353707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1CD5-4500-4FAE-BE0B-44B9412679D6}" type="datetime">
              <a:rPr b="0" lang="en-US" sz="1400" spc="-1" strike="noStrike">
                <a:solidFill>
                  <a:srgbClr val="464653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1E89-FF08-40F8-A6DB-FFED09A493F7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1968-FC5B-451E-A57A-696E54089C40}" type="datetime">
              <a:rPr b="0" lang="en-US" sz="1400" spc="-1" strike="noStrike">
                <a:solidFill>
                  <a:srgbClr val="dde9ec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8DB7-E356-4825-90D7-EC01AFE16AB7}" type="slidenum">
              <a:rPr b="0" lang="en-US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7267-3FBE-4814-B1BB-AFAF9B5886FC}" type="datetime">
              <a:rPr b="0" lang="en-US" sz="1400" spc="-1" strike="noStrike">
                <a:solidFill>
                  <a:srgbClr val="464653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F559-E561-4B6B-8B9E-EC7A102385CB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jpe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jpe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jpeg"/><Relationship Id="rId16" Type="http://schemas.openxmlformats.org/officeDocument/2006/relationships/image" Target="../media/image25.png"/><Relationship Id="rId17" Type="http://schemas.openxmlformats.org/officeDocument/2006/relationships/image" Target="../media/image26.jpe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image" Target="../media/image1.jpeg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33336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Лаборатория Системного ПРограммирован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ИНформационных Технологий СПб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134136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84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ие в разработку приложе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встроенных систем на платформ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ntel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58920" y="3860640"/>
            <a:ext cx="70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ничин Олег Николаевич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яев Владимир Ильич – общая реда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E6D-BA5A-4323-891F-0BAC7565A3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47628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87280" y="260280"/>
            <a:ext cx="72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Платформы с процессором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tel® Atom™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 продающиеся сего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image010"/>
          <p:cNvPicPr/>
          <p:nvPr/>
        </p:nvPicPr>
        <p:blipFill>
          <a:blip r:embed="rId1"/>
          <a:stretch/>
        </p:blipFill>
        <p:spPr>
          <a:xfrm>
            <a:off x="7262640" y="4071960"/>
            <a:ext cx="1614600" cy="73188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5"/>
          <p:cNvSpPr/>
          <p:nvPr/>
        </p:nvSpPr>
        <p:spPr>
          <a:xfrm>
            <a:off x="7301520" y="4875120"/>
            <a:ext cx="1524600" cy="51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e9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Sharp / Will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8" descr="laptop"/>
          <p:cNvPicPr/>
          <p:nvPr/>
        </p:nvPicPr>
        <p:blipFill>
          <a:blip r:embed="rId2"/>
          <a:stretch/>
        </p:blipFill>
        <p:spPr>
          <a:xfrm>
            <a:off x="298440" y="2235240"/>
            <a:ext cx="1511280" cy="112536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9"/>
          <p:cNvSpPr/>
          <p:nvPr/>
        </p:nvSpPr>
        <p:spPr>
          <a:xfrm>
            <a:off x="923040" y="3214800"/>
            <a:ext cx="768600" cy="51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e9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Fujit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5986080" y="1878120"/>
            <a:ext cx="799200" cy="51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e9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Clar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1" descr="benq1-sm copy"/>
          <p:cNvPicPr/>
          <p:nvPr/>
        </p:nvPicPr>
        <p:blipFill>
          <a:blip r:embed="rId3"/>
          <a:stretch/>
        </p:blipFill>
        <p:spPr>
          <a:xfrm>
            <a:off x="3692520" y="932040"/>
            <a:ext cx="1739880" cy="116172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12"/>
          <p:cNvSpPr/>
          <p:nvPr/>
        </p:nvSpPr>
        <p:spPr>
          <a:xfrm>
            <a:off x="1391400" y="1855800"/>
            <a:ext cx="579600" cy="3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e9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Ai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3" descr="KJS"/>
          <p:cNvPicPr/>
          <p:nvPr/>
        </p:nvPicPr>
        <p:blipFill>
          <a:blip r:embed="rId4"/>
          <a:stretch/>
        </p:blipFill>
        <p:spPr>
          <a:xfrm>
            <a:off x="5477040" y="2274840"/>
            <a:ext cx="1566720" cy="1273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6" descr="Lenovo2"/>
          <p:cNvPicPr/>
          <p:nvPr/>
        </p:nvPicPr>
        <p:blipFill>
          <a:blip r:embed="rId5"/>
          <a:stretch/>
        </p:blipFill>
        <p:spPr>
          <a:xfrm>
            <a:off x="7416720" y="2529000"/>
            <a:ext cx="1478160" cy="92376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17"/>
          <p:cNvSpPr/>
          <p:nvPr/>
        </p:nvSpPr>
        <p:spPr>
          <a:xfrm>
            <a:off x="7680240" y="3503520"/>
            <a:ext cx="816120" cy="3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e9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Leno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18" descr="lluon_mobbit_ps400_1"/>
          <p:cNvPicPr/>
          <p:nvPr/>
        </p:nvPicPr>
        <p:blipFill>
          <a:blip r:embed="rId6"/>
          <a:stretch/>
        </p:blipFill>
        <p:spPr>
          <a:xfrm>
            <a:off x="461880" y="5226120"/>
            <a:ext cx="1257480" cy="7938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0" descr="aigoMID碟照 拷贝"/>
          <p:cNvPicPr/>
          <p:nvPr/>
        </p:nvPicPr>
        <p:blipFill>
          <a:blip r:embed="rId7"/>
          <a:stretch/>
        </p:blipFill>
        <p:spPr>
          <a:xfrm>
            <a:off x="396720" y="1125360"/>
            <a:ext cx="1503360" cy="9590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21"/>
          <p:cNvSpPr/>
          <p:nvPr/>
        </p:nvSpPr>
        <p:spPr>
          <a:xfrm>
            <a:off x="4185720" y="1967040"/>
            <a:ext cx="1015560" cy="3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e9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BenQ/T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2" descr=""/>
          <p:cNvPicPr/>
          <p:nvPr/>
        </p:nvPicPr>
        <p:blipFill>
          <a:blip r:embed="rId8"/>
          <a:stretch/>
        </p:blipFill>
        <p:spPr>
          <a:xfrm>
            <a:off x="5678640" y="1041480"/>
            <a:ext cx="1338120" cy="9158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3" descr="gigabyte_m528_zoomin"/>
          <p:cNvPicPr/>
          <p:nvPr/>
        </p:nvPicPr>
        <p:blipFill>
          <a:blip r:embed="rId9"/>
          <a:stretch/>
        </p:blipFill>
        <p:spPr>
          <a:xfrm>
            <a:off x="5694480" y="4017960"/>
            <a:ext cx="1025280" cy="91440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24"/>
          <p:cNvSpPr/>
          <p:nvPr/>
        </p:nvSpPr>
        <p:spPr>
          <a:xfrm>
            <a:off x="5627880" y="4975200"/>
            <a:ext cx="1242720" cy="3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e9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SFR/Comp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6"/>
          <p:cNvSpPr/>
          <p:nvPr/>
        </p:nvSpPr>
        <p:spPr>
          <a:xfrm>
            <a:off x="1909800" y="3227400"/>
            <a:ext cx="1535040" cy="51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e9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Gigabyte / 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8" descr=""/>
          <p:cNvPicPr/>
          <p:nvPr/>
        </p:nvPicPr>
        <p:blipFill>
          <a:blip r:embed="rId10"/>
          <a:stretch/>
        </p:blipFill>
        <p:spPr>
          <a:xfrm>
            <a:off x="7194600" y="1041480"/>
            <a:ext cx="1949400" cy="93348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9"/>
          <p:cNvSpPr/>
          <p:nvPr/>
        </p:nvSpPr>
        <p:spPr>
          <a:xfrm>
            <a:off x="7747200" y="1982880"/>
            <a:ext cx="1107000" cy="3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e9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4653"/>
                </a:solidFill>
                <a:latin typeface="Calibri"/>
                <a:ea typeface="Arial"/>
              </a:rPr>
              <a:t>Dell 12”/10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5383800" y="3525840"/>
            <a:ext cx="1828080" cy="48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e9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Kojinsha (Invent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0" descr="asus-sm copy"/>
          <p:cNvPicPr/>
          <p:nvPr/>
        </p:nvPicPr>
        <p:blipFill>
          <a:blip r:embed="rId11"/>
          <a:stretch/>
        </p:blipFill>
        <p:spPr>
          <a:xfrm>
            <a:off x="2185920" y="1023840"/>
            <a:ext cx="1517760" cy="101592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10"/>
          <p:cNvSpPr/>
          <p:nvPr/>
        </p:nvSpPr>
        <p:spPr>
          <a:xfrm>
            <a:off x="2668680" y="4756320"/>
            <a:ext cx="547920" cy="51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e9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4653"/>
                </a:solidFill>
                <a:latin typeface="Calibri"/>
                <a:ea typeface="Arial"/>
              </a:rPr>
              <a:t>OQ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3" descr="openatangle_dk.jpg"/>
          <p:cNvPicPr/>
          <p:nvPr/>
        </p:nvPicPr>
        <p:blipFill>
          <a:blip r:embed="rId12"/>
          <a:stretch/>
        </p:blipFill>
        <p:spPr>
          <a:xfrm>
            <a:off x="2403360" y="3927600"/>
            <a:ext cx="997200" cy="82044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0"/>
          <p:cNvSpPr/>
          <p:nvPr/>
        </p:nvSpPr>
        <p:spPr>
          <a:xfrm>
            <a:off x="2615040" y="1890720"/>
            <a:ext cx="532440" cy="51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e9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4653"/>
                </a:solidFill>
                <a:latin typeface="Calibri"/>
                <a:ea typeface="Arial"/>
              </a:rPr>
              <a:t>A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43" descr="gb mid"/>
          <p:cNvPicPr/>
          <p:nvPr/>
        </p:nvPicPr>
        <p:blipFill>
          <a:blip r:embed="rId13"/>
          <a:stretch/>
        </p:blipFill>
        <p:spPr>
          <a:xfrm>
            <a:off x="2270160" y="2463840"/>
            <a:ext cx="911160" cy="701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8" descr="VIIV_CUBE INTERFACE2"/>
          <p:cNvPicPr/>
          <p:nvPr/>
        </p:nvPicPr>
        <p:blipFill>
          <a:blip r:embed="rId14"/>
          <a:stretch/>
        </p:blipFill>
        <p:spPr>
          <a:xfrm>
            <a:off x="7286760" y="5311800"/>
            <a:ext cx="1143000" cy="78732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10"/>
          <p:cNvSpPr/>
          <p:nvPr/>
        </p:nvSpPr>
        <p:spPr>
          <a:xfrm>
            <a:off x="8111880" y="5794200"/>
            <a:ext cx="831240" cy="51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e9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4653"/>
                </a:solidFill>
                <a:latin typeface="Calibri"/>
                <a:ea typeface="Arial"/>
              </a:rPr>
              <a:t>YuKy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1" descr="wibrain"/>
          <p:cNvPicPr/>
          <p:nvPr/>
        </p:nvPicPr>
        <p:blipFill>
          <a:blip r:embed="rId15"/>
          <a:stretch/>
        </p:blipFill>
        <p:spPr>
          <a:xfrm>
            <a:off x="5803920" y="5445000"/>
            <a:ext cx="990720" cy="65592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6"/>
          <p:cNvSpPr/>
          <p:nvPr/>
        </p:nvSpPr>
        <p:spPr>
          <a:xfrm>
            <a:off x="3885480" y="4648320"/>
            <a:ext cx="1074960" cy="51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e9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Panaso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7" descr="mid2"/>
          <p:cNvPicPr/>
          <p:nvPr/>
        </p:nvPicPr>
        <p:blipFill>
          <a:blip r:embed="rId16"/>
          <a:stretch/>
        </p:blipFill>
        <p:spPr>
          <a:xfrm>
            <a:off x="3760920" y="3666960"/>
            <a:ext cx="1468440" cy="1151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2" descr="USI"/>
          <p:cNvPicPr/>
          <p:nvPr/>
        </p:nvPicPr>
        <p:blipFill>
          <a:blip r:embed="rId17"/>
          <a:stretch/>
        </p:blipFill>
        <p:spPr>
          <a:xfrm>
            <a:off x="4075200" y="5230800"/>
            <a:ext cx="833400" cy="5968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9"/>
          <p:cNvSpPr/>
          <p:nvPr/>
        </p:nvSpPr>
        <p:spPr>
          <a:xfrm>
            <a:off x="4340880" y="5959440"/>
            <a:ext cx="425880" cy="3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e9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  <a:ea typeface="Arial"/>
              </a:rPr>
              <a:t>U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09" descr="mbook.png"/>
          <p:cNvPicPr/>
          <p:nvPr/>
        </p:nvPicPr>
        <p:blipFill>
          <a:blip r:embed="rId18"/>
          <a:stretch/>
        </p:blipFill>
        <p:spPr>
          <a:xfrm rot="731400">
            <a:off x="2293920" y="5027400"/>
            <a:ext cx="1038240" cy="98568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19"/>
          <p:cNvSpPr/>
          <p:nvPr/>
        </p:nvSpPr>
        <p:spPr>
          <a:xfrm>
            <a:off x="2646000" y="5997600"/>
            <a:ext cx="605520" cy="3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e9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  <a:ea typeface="Arial"/>
              </a:rPr>
              <a:t>UM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51" descr="pad3-black(2)"/>
          <p:cNvPicPr/>
          <p:nvPr/>
        </p:nvPicPr>
        <p:blipFill>
          <a:blip r:embed="rId19"/>
          <a:stretch/>
        </p:blipFill>
        <p:spPr>
          <a:xfrm rot="892800">
            <a:off x="3825720" y="2388960"/>
            <a:ext cx="1328760" cy="10094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"/>
          <p:cNvSpPr/>
          <p:nvPr/>
        </p:nvSpPr>
        <p:spPr>
          <a:xfrm>
            <a:off x="4208040" y="3262320"/>
            <a:ext cx="685080" cy="51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e9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4653"/>
                </a:solidFill>
                <a:latin typeface="Calibri"/>
                <a:ea typeface="Arial"/>
              </a:rPr>
              <a:t>Han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19" descr="msi.png"/>
          <p:cNvPicPr/>
          <p:nvPr/>
        </p:nvPicPr>
        <p:blipFill>
          <a:blip r:embed="rId20"/>
          <a:stretch/>
        </p:blipFill>
        <p:spPr>
          <a:xfrm>
            <a:off x="430200" y="3768840"/>
            <a:ext cx="1403280" cy="102528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0"/>
          <p:cNvSpPr/>
          <p:nvPr/>
        </p:nvSpPr>
        <p:spPr>
          <a:xfrm>
            <a:off x="812880" y="4699080"/>
            <a:ext cx="471600" cy="51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e9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4653"/>
                </a:solidFill>
                <a:latin typeface="Calibri"/>
                <a:ea typeface="Arial"/>
              </a:rPr>
              <a:t>M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45" name="" descr=""/>
            <p:cNvPicPr/>
            <p:nvPr/>
          </p:nvPicPr>
          <p:blipFill>
            <a:blip r:embed="rId2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A2D-13CA-496D-AFA3-5004921F98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116000" y="333360"/>
            <a:ext cx="72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Специфика мобильного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42920" y="83664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16"/>
          <p:cNvGrpSpPr/>
          <p:nvPr/>
        </p:nvGrpSpPr>
        <p:grpSpPr>
          <a:xfrm>
            <a:off x="1042920" y="1413000"/>
            <a:ext cx="6939000" cy="4488840"/>
            <a:chOff x="1042920" y="1413000"/>
            <a:chExt cx="6939000" cy="4488840"/>
          </a:xfrm>
        </p:grpSpPr>
        <p:pic>
          <p:nvPicPr>
            <p:cNvPr id="451" name="Picture 5" descr="leftbottompoie"/>
            <p:cNvPicPr/>
            <p:nvPr/>
          </p:nvPicPr>
          <p:blipFill>
            <a:blip r:embed="rId1"/>
            <a:stretch/>
          </p:blipFill>
          <p:spPr>
            <a:xfrm>
              <a:off x="1042920" y="3533760"/>
              <a:ext cx="3592440" cy="23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6" descr="leftoppie2"/>
            <p:cNvPicPr/>
            <p:nvPr/>
          </p:nvPicPr>
          <p:blipFill>
            <a:blip r:embed="rId2"/>
            <a:stretch/>
          </p:blipFill>
          <p:spPr>
            <a:xfrm>
              <a:off x="1047600" y="1428480"/>
              <a:ext cx="359244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7" descr="rightbottompie"/>
            <p:cNvPicPr/>
            <p:nvPr/>
          </p:nvPicPr>
          <p:blipFill>
            <a:blip r:embed="rId3"/>
            <a:stretch/>
          </p:blipFill>
          <p:spPr>
            <a:xfrm>
              <a:off x="4346640" y="3555720"/>
              <a:ext cx="3593880" cy="23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8" descr="righttoppie2"/>
            <p:cNvPicPr/>
            <p:nvPr/>
          </p:nvPicPr>
          <p:blipFill>
            <a:blip r:embed="rId4"/>
            <a:stretch/>
          </p:blipFill>
          <p:spPr>
            <a:xfrm>
              <a:off x="4387680" y="1413000"/>
              <a:ext cx="3594240" cy="23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Text Box 9"/>
            <p:cNvSpPr/>
            <p:nvPr/>
          </p:nvSpPr>
          <p:spPr>
            <a:xfrm rot="21597000">
              <a:off x="4641840" y="3106440"/>
              <a:ext cx="297180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Impact"/>
                  <a:ea typeface="Arial"/>
                </a:rPr>
                <a:t>Энергопотребл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10"/>
            <p:cNvSpPr/>
            <p:nvPr/>
          </p:nvSpPr>
          <p:spPr>
            <a:xfrm>
              <a:off x="4376520" y="4689360"/>
              <a:ext cx="20466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Impact"/>
                  <a:ea typeface="Arial"/>
                </a:rPr>
                <a:t>Размеры, форм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1"/>
            <p:cNvSpPr/>
            <p:nvPr/>
          </p:nvSpPr>
          <p:spPr>
            <a:xfrm>
              <a:off x="1727280" y="4655880"/>
              <a:ext cx="2530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Impact"/>
                  <a:ea typeface="Arial"/>
                </a:rPr>
                <a:t>Беспроводное взаимодейств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4"/>
            <p:cNvSpPr/>
            <p:nvPr/>
          </p:nvSpPr>
          <p:spPr>
            <a:xfrm>
              <a:off x="1355760" y="3095640"/>
              <a:ext cx="30240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Impact"/>
                  <a:ea typeface="Arial"/>
                </a:rPr>
                <a:t>Производительност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62" name="" descr=""/>
            <p:cNvPicPr/>
            <p:nvPr/>
          </p:nvPicPr>
          <p:blipFill>
            <a:blip r:embed="rId5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361-33DF-4A63-854A-F65DEF4778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221160" cy="58428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История создания ОС Android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6291360" cy="36673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4000"/>
          </a:bodyPr>
          <a:p>
            <a:pPr marL="254880" indent="-254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мпания Google в 2002 году заинтересовалась разработками Э. Руби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54880" indent="-254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2005 году Google купила Android In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54880" indent="-254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ноябре 2007 года состоялся анонс Androi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54880" indent="-254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Google создала альянс под названием Open Handset Alliance, объединивший всех ведущих производителей мобильных устройств и разработчиков програм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69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11280" y="355320"/>
            <a:ext cx="6221520" cy="58428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История версий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16000" y="1484280"/>
            <a:ext cx="7128000" cy="40212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6000"/>
          </a:bodyPr>
          <a:p>
            <a:pPr marL="260280" indent="-2602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0 Eclair — включает новый браузер, расширяет API камер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0280" indent="-2602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1 Eclair — поддержка голосового контрол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0280" indent="-2602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3 Gingerbread — улучшенный UI, добавлением программной клавиатуры. Добавлена поддержка соединения между устройства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0280" indent="-2602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2 Honeycomb — оптимизация для широкого диапазона экранов (планшеты), новый «зум-заполнитель» экра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02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76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31040" cy="52416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Cambria"/>
              </a:rPr>
              <a:t>Архитектура Android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480680"/>
            <a:ext cx="5746680" cy="49942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Ядро - модифицированный Linu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бор системных С++ библиоте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Android Runtime – среда выполнения Java на основе виртуальной машины Dalvik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Application Framework — набор Java библиотек для прикладного программис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Уровень приложений, включая предустановленны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5540400" y="1106640"/>
            <a:ext cx="3483000" cy="4967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7446960" y="4032360"/>
            <a:ext cx="270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85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31040" cy="99216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Android – не Linux!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91720" y="1757160"/>
            <a:ext cx="7202520" cy="23684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2000"/>
          </a:bodyPr>
          <a:p>
            <a:pPr marL="249480" indent="-24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Android — это не очередной дистрибутив Linux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49480" indent="-24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Ядро Adroid очень похоже на ядро Linux, но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49480" indent="-24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Android сильно модифицирован glib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49480" indent="-24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Android радикально сокращен набор утилит Linu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49480" indent="-24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Android нет встроенной оконной систем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704880" y="4057560"/>
            <a:ext cx="7866000" cy="18208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31040" cy="99216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Особенности ядра Android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525680" y="2057040"/>
            <a:ext cx="6565680" cy="36464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Binder — межпроцессное взаимодейств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держка логирования log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правление памятью (ashmem, pmem, oo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быточная сетевая безопасност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айловая система YAFFS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00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31040" cy="99216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Схема ОС Android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289160" y="1143000"/>
            <a:ext cx="6377040" cy="50976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07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31040" cy="99216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Bionic – </a:t>
            </a: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«</a:t>
            </a: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исправленный</a:t>
            </a: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»</a:t>
            </a: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 glibc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68160" y="1619280"/>
            <a:ext cx="6056280" cy="4238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Bionic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—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библиотека стандартных вызовов языка C для Android, замена glib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обенност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6120" indent="-273240">
              <a:spcBef>
                <a:spcPts val="499"/>
              </a:spcBef>
              <a:buClr>
                <a:srgbClr val="9fb8cd"/>
              </a:buClr>
              <a:buSzPct val="4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BSD лицензия вместо GPL </a:t>
            </a:r>
            <a:endParaRPr b="0" lang="en-US" sz="2600" spc="-1" strike="noStrike">
              <a:solidFill>
                <a:srgbClr val="464653"/>
              </a:solidFill>
              <a:latin typeface="Calibri"/>
            </a:endParaRPr>
          </a:p>
          <a:p>
            <a:pPr lvl="1" marL="546120" indent="-273240">
              <a:spcBef>
                <a:spcPts val="499"/>
              </a:spcBef>
              <a:buClr>
                <a:srgbClr val="9fb8cd"/>
              </a:buClr>
              <a:buSzPct val="4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лые размеры объектного кода</a:t>
            </a:r>
            <a:endParaRPr b="0" lang="en-US" sz="2600" spc="-1" strike="noStrike">
              <a:solidFill>
                <a:srgbClr val="464653"/>
              </a:solidFill>
              <a:latin typeface="Calibri"/>
            </a:endParaRPr>
          </a:p>
          <a:p>
            <a:pPr lvl="1" marL="546120" indent="-273240">
              <a:spcBef>
                <a:spcPts val="499"/>
              </a:spcBef>
              <a:buClr>
                <a:srgbClr val="9fb8cd"/>
              </a:buClr>
              <a:buSzPct val="4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риентация на процессоры с низкими частотами</a:t>
            </a:r>
            <a:endParaRPr b="0" lang="en-US" sz="26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11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14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411280" y="165240"/>
            <a:ext cx="6221520" cy="79992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Java – машина Dalvik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5072040" cy="50007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8000"/>
          </a:bodyPr>
          <a:p>
            <a:pPr marL="265680" indent="-265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иртуальная машина Dalvik является частью мобильной платформы Andro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5680" indent="-265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Dalvik является регистр-ориентированной, а не стек-ориентированной машино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5680" indent="-265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Dalvik использует JIT компиляци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5680" indent="-265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Dalvik использует свой собственный байт-код, но умеет конвертировать оригинальный байт-код в сво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56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4879800" y="1484280"/>
            <a:ext cx="4264200" cy="354636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22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16000" y="0"/>
            <a:ext cx="72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Введение в разработку приложений для встроенных сис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на платформе 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Intel </a:t>
            </a: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87280" y="98100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94880" y="148428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ограмма кур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5640" y="2205000"/>
            <a:ext cx="838836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ный континуум, процессо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 Andro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Программирование для встроенных сист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Математические принципы реализации автоматического управл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Автоматизированное управление мобильным робот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Основы технического зр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Разработка ПО бортового микрокомпьютера БП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71640" y="5084640"/>
            <a:ext cx="66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www.math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bu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/user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om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/index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283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BB0B-3368-4D7A-9467-59F6F0569C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31040" cy="99216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Обзор Java API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90480" y="1371600"/>
            <a:ext cx="6097320" cy="42372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Java: java.io, java.lang.*, java.util, java.security, 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ширения Java: javax.net.*, javax.xml.*, 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org.apache.http.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ругие расширения: org.json, org.w3c.dom.*, org.xml.sax.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Android API: android.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29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31040" cy="99216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Обзор Android API – график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618920" y="1341000"/>
            <a:ext cx="6164280" cy="38466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7000"/>
          </a:bodyPr>
          <a:p>
            <a:pPr marL="263160" indent="-2631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android.view, android.widget — элементы GUI, взаимодействие с пользователе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3160" indent="-2631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android.graphics — примитивы двумерной графики, графические файл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3160" indent="-2631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android.animation — анимация, в т.ч. в GU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3160" indent="-2631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android.opengl — OpenGL ES 2.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3160" indent="-2631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android.gesture — поддержка управления жеста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36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31040" cy="99216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Обзор Android API – сеть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91920" y="1810800"/>
            <a:ext cx="6164280" cy="3984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1000"/>
          </a:bodyPr>
          <a:p>
            <a:pPr marL="246960" indent="-2469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android.net — сетевые протоколы высокого уровня, Wi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android.webkit — движок веб-браузе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android.bluetooth — стек BlueToo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android.nfc — стек Near Field Commun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android.telephony — примитивы телефонной  связи и S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android.drm — управление правами контен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31040" cy="99216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Обзор Android API – разное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6164280" cy="42433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2000"/>
          </a:bodyPr>
          <a:p>
            <a:pPr marL="249480" indent="-24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android.app — модель приложений Andro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49480" indent="-24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android.os — межпроцессное взаимодейств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49480" indent="-24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android.hardware — камера и датчик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49480" indent="-24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android.location — геолокац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49480" indent="-24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android.media — кодирование звуковых и видео поток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49480" indent="-24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android.database — базы данных, включая SQLi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49480" indent="-24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многое другое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50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180360" cy="760572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 txBox="1"/>
          <p:nvPr/>
        </p:nvSpPr>
        <p:spPr>
          <a:xfrm>
            <a:off x="1692360" y="907920"/>
            <a:ext cx="5802120" cy="468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8440">
                  <a:solidFill>
                    <a:srgbClr val="666699"/>
                  </a:solidFill>
                  <a:miter/>
                </a:ln>
                <a:solidFill>
                  <a:srgbClr val="000080">
                    <a:alpha val="86000"/>
                  </a:srgbClr>
                </a:solidFill>
                <a:latin typeface="Souvenir Lt BT"/>
              </a:rPr>
              <a:t>САНКТ-ПЕТЕРБУРГСКИЙ ГОСУДАРСТВЕННЫЙ УНИВЕРСИТЕТ</a:t>
            </a:r>
            <a:endParaRPr b="1" lang="en-US" sz="4000" spc="1" strike="noStrike">
              <a:ln w="28440">
                <a:solidFill>
                  <a:srgbClr val="666699"/>
                </a:solidFill>
                <a:miter/>
              </a:ln>
              <a:solidFill>
                <a:srgbClr val="000080">
                  <a:alpha val="86000"/>
                </a:srgbClr>
              </a:solidFill>
              <a:latin typeface="Souvenir Lt BT"/>
              <a:ea typeface="Souvenir Lt BT"/>
            </a:endParaRPr>
          </a:p>
        </p:txBody>
      </p:sp>
      <p:sp>
        <p:nvSpPr>
          <p:cNvPr id="554" name=""/>
          <p:cNvSpPr/>
          <p:nvPr/>
        </p:nvSpPr>
        <p:spPr>
          <a:xfrm>
            <a:off x="2007360" y="4437000"/>
            <a:ext cx="523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58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71640" y="333360"/>
            <a:ext cx="72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Структура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8000" y="76500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30240" y="206064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Лекция или Лаборатор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050920" y="2997360"/>
            <a:ext cx="547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ные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23FE-88F9-4781-A689-F20FFDCFBE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26028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Лабораторные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90792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1080" y="161604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ие лабораторной рабо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16000" y="2133720"/>
            <a:ext cx="82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лаборатор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кция для выполн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боратор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ходные к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й рабо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71F-5440-4295-AA84-8364D9F5E8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42920" y="260280"/>
            <a:ext cx="72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Общие сведения о платформе Inte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Atom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ОС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Android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03280" y="90792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4320" y="119700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Лекция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6200" y="1773360"/>
            <a:ext cx="849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ьютерный континуум In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ор Intel  At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ные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13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454-AB5F-4136-8AB5-BD2251CA0D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4360" y="189000"/>
            <a:ext cx="82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Уже сей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908000" y="76500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definition of innovation_no text version"/>
          <p:cNvPicPr/>
          <p:nvPr/>
        </p:nvPicPr>
        <p:blipFill>
          <a:blip r:embed="rId1"/>
          <a:stretch/>
        </p:blipFill>
        <p:spPr>
          <a:xfrm>
            <a:off x="1258920" y="1052640"/>
            <a:ext cx="7129440" cy="4443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Atom logo new look&amp;feel_reflection"/>
          <p:cNvPicPr/>
          <p:nvPr/>
        </p:nvPicPr>
        <p:blipFill>
          <a:blip r:embed="rId2"/>
          <a:stretch/>
        </p:blipFill>
        <p:spPr>
          <a:xfrm>
            <a:off x="6804000" y="1484280"/>
            <a:ext cx="1596960" cy="196704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6"/>
          <p:cNvSpPr/>
          <p:nvPr/>
        </p:nvSpPr>
        <p:spPr>
          <a:xfrm>
            <a:off x="1332000" y="2349360"/>
            <a:ext cx="404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Neo Sans Intel Medium"/>
                <a:ea typeface="Arial"/>
              </a:rPr>
              <a:t>Самый маленький процессор </a:t>
            </a:r>
            <a:r>
              <a:rPr b="0" lang="en-US" sz="2000" spc="-1" strike="noStrike">
                <a:solidFill>
                  <a:srgbClr val="ffffff"/>
                </a:solidFill>
                <a:latin typeface="Neo Sans Intel Medium"/>
                <a:ea typeface="Arial"/>
              </a:rPr>
              <a:t>Intel</a:t>
            </a:r>
            <a:r>
              <a:rPr b="0" lang="ru-RU" sz="2000" spc="-1" strike="noStrike">
                <a:solidFill>
                  <a:srgbClr val="ffffff"/>
                </a:solidFill>
                <a:latin typeface="Neo Sans Intel Medium"/>
                <a:ea typeface="Arial"/>
              </a:rPr>
              <a:t> построен на самых маленьких транзисторах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1332000" y="4437000"/>
            <a:ext cx="404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Neo Sans Intel Medium"/>
                <a:ea typeface="Arial"/>
              </a:rPr>
              <a:t>Низкое энергопотребление</a:t>
            </a:r>
            <a:r>
              <a:rPr b="0" lang="en-US" sz="2000" spc="-1" strike="noStrike">
                <a:solidFill>
                  <a:srgbClr val="ffffff"/>
                </a:solidFill>
                <a:latin typeface="Neo Sans Intel Medium"/>
                <a:ea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Neo Sans Intel Medium"/>
                <a:ea typeface="Arial"/>
              </a:rPr>
              <a:t>полноценная архитектура </a:t>
            </a:r>
            <a:r>
              <a:rPr b="0" lang="en-US" sz="2000" spc="-1" strike="noStrike">
                <a:solidFill>
                  <a:srgbClr val="ffffff"/>
                </a:solidFill>
                <a:latin typeface="Neo Sans Intel Medium"/>
                <a:ea typeface="Arial"/>
              </a:rPr>
              <a:t>x86 </a:t>
            </a:r>
            <a:r>
              <a:rPr b="0" lang="ru-RU" sz="2000" spc="-1" strike="noStrike">
                <a:solidFill>
                  <a:srgbClr val="ffffff"/>
                </a:solidFill>
                <a:latin typeface="Neo Sans Intel Medium"/>
                <a:ea typeface="Arial"/>
              </a:rPr>
              <a:t>размером с рисинку</a:t>
            </a:r>
            <a:r>
              <a:rPr b="0" lang="en-US" sz="2000" spc="-1" strike="noStrike">
                <a:solidFill>
                  <a:srgbClr val="ffffff"/>
                </a:solidFill>
                <a:latin typeface="Neo Sans Intel Medium"/>
                <a:ea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24000" y="5516640"/>
            <a:ext cx="7920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изводится по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32 нм технологии. Каждое ядро состоит из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47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миллионов транзисторов. Новый двухядерный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Intel® Atom™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аботает на 1.6GHz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меет память1MB второго уровня, потребляет не более 8W TD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26" name="" descr=""/>
            <p:cNvPicPr/>
            <p:nvPr/>
          </p:nvPicPr>
          <p:blipFill>
            <a:blip r:embed="rId3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CAB-7315-4C83-822F-FF96410007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189000"/>
            <a:ext cx="83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tom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основа нескольких сег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08000" y="76500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829640" cy="47149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35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CAD-3606-4B91-B772-B9DE0B4CDF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260280"/>
            <a:ext cx="72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Миниатюрные плат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87280" y="83664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3"/>
          <p:cNvSpPr/>
          <p:nvPr/>
        </p:nvSpPr>
        <p:spPr>
          <a:xfrm>
            <a:off x="6227640" y="1341360"/>
            <a:ext cx="2589480" cy="4896000"/>
          </a:xfrm>
          <a:custGeom>
            <a:avLst/>
            <a:gdLst>
              <a:gd name="textAreaLeft" fmla="*/ 75600 w 2589480"/>
              <a:gd name="textAreaRight" fmla="*/ 2513880 w 2589480"/>
              <a:gd name="textAreaTop" fmla="*/ 75600 h 4896000"/>
              <a:gd name="textAreaBottom" fmla="*/ 4820400 h 4896000"/>
            </a:gdLst>
            <a:ahLst/>
            <a:rect l="textAreaLeft" t="textAreaTop" r="textAreaRight" b="textAreaBottom"/>
            <a:pathLst>
              <a:path w="21600" h="40837">
                <a:moveTo>
                  <a:pt x="2160" y="0"/>
                </a:moveTo>
                <a:arcTo wR="2160" hR="2160" stAng="16200000" swAng="-5400000"/>
                <a:lnTo>
                  <a:pt x="0" y="38677"/>
                </a:lnTo>
                <a:arcTo wR="2160" hR="2160" stAng="10800000" swAng="-5400000"/>
                <a:lnTo>
                  <a:pt x="19440" y="40837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"/>
          <p:cNvSpPr/>
          <p:nvPr/>
        </p:nvSpPr>
        <p:spPr>
          <a:xfrm>
            <a:off x="3348000" y="1341360"/>
            <a:ext cx="2589120" cy="4896000"/>
          </a:xfrm>
          <a:custGeom>
            <a:avLst/>
            <a:gdLst>
              <a:gd name="textAreaLeft" fmla="*/ 75600 w 2589120"/>
              <a:gd name="textAreaRight" fmla="*/ 2513520 w 2589120"/>
              <a:gd name="textAreaTop" fmla="*/ 75600 h 4896000"/>
              <a:gd name="textAreaBottom" fmla="*/ 4820400 h 4896000"/>
            </a:gdLst>
            <a:ahLst/>
            <a:rect l="textAreaLeft" t="textAreaTop" r="textAreaRight" b="textAreaBottom"/>
            <a:pathLst>
              <a:path w="21600" h="40843">
                <a:moveTo>
                  <a:pt x="2160" y="0"/>
                </a:moveTo>
                <a:arcTo wR="2160" hR="2160" stAng="16200000" swAng="-5400000"/>
                <a:lnTo>
                  <a:pt x="0" y="38683"/>
                </a:lnTo>
                <a:arcTo wR="2160" hR="2160" stAng="10800000" swAng="-5400000"/>
                <a:lnTo>
                  <a:pt x="19440" y="40843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"/>
          <p:cNvSpPr/>
          <p:nvPr/>
        </p:nvSpPr>
        <p:spPr>
          <a:xfrm>
            <a:off x="468360" y="1341360"/>
            <a:ext cx="2589120" cy="4896000"/>
          </a:xfrm>
          <a:custGeom>
            <a:avLst/>
            <a:gdLst>
              <a:gd name="textAreaLeft" fmla="*/ 75600 w 2589120"/>
              <a:gd name="textAreaRight" fmla="*/ 2513520 w 2589120"/>
              <a:gd name="textAreaTop" fmla="*/ 75600 h 4896000"/>
              <a:gd name="textAreaBottom" fmla="*/ 4820400 h 4896000"/>
            </a:gdLst>
            <a:ahLst/>
            <a:rect l="textAreaLeft" t="textAreaTop" r="textAreaRight" b="textAreaBottom"/>
            <a:pathLst>
              <a:path w="21600" h="40843">
                <a:moveTo>
                  <a:pt x="2160" y="0"/>
                </a:moveTo>
                <a:arcTo wR="2160" hR="2160" stAng="16200000" swAng="-5400000"/>
                <a:lnTo>
                  <a:pt x="0" y="38683"/>
                </a:lnTo>
                <a:arcTo wR="2160" hR="2160" stAng="10800000" swAng="-5400000"/>
                <a:lnTo>
                  <a:pt x="19440" y="40843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9" descr=""/>
          <p:cNvPicPr/>
          <p:nvPr/>
        </p:nvPicPr>
        <p:blipFill>
          <a:blip r:embed="rId1"/>
          <a:stretch/>
        </p:blipFill>
        <p:spPr>
          <a:xfrm>
            <a:off x="0" y="1557360"/>
            <a:ext cx="8964720" cy="66996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900000" y="1557360"/>
            <a:ext cx="1676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3924720" y="1557360"/>
            <a:ext cx="1532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009/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5"/>
          <p:cNvSpPr/>
          <p:nvPr/>
        </p:nvSpPr>
        <p:spPr>
          <a:xfrm>
            <a:off x="7164720" y="1557360"/>
            <a:ext cx="799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8" descr="Picture1 copy.png"/>
          <p:cNvPicPr/>
          <p:nvPr/>
        </p:nvPicPr>
        <p:blipFill>
          <a:blip r:embed="rId2"/>
          <a:stretch/>
        </p:blipFill>
        <p:spPr>
          <a:xfrm>
            <a:off x="395280" y="2492280"/>
            <a:ext cx="2782800" cy="1676520"/>
          </a:xfrm>
          <a:prstGeom prst="rect">
            <a:avLst/>
          </a:prstGeom>
          <a:ln w="0">
            <a:noFill/>
          </a:ln>
          <a:effectLst>
            <a:outerShdw dist="279505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48" name="Picture 25" descr="costco-american-express"/>
          <p:cNvPicPr/>
          <p:nvPr/>
        </p:nvPicPr>
        <p:blipFill>
          <a:blip r:embed="rId3"/>
          <a:stretch/>
        </p:blipFill>
        <p:spPr>
          <a:xfrm>
            <a:off x="4021200" y="2281320"/>
            <a:ext cx="2109600" cy="2109600"/>
          </a:xfrm>
          <a:prstGeom prst="rect">
            <a:avLst/>
          </a:prstGeom>
          <a:ln w="0">
            <a:noFill/>
          </a:ln>
        </p:spPr>
      </p:pic>
      <p:grpSp>
        <p:nvGrpSpPr>
          <p:cNvPr id="349" name="Rounded Rectangle 26"/>
          <p:cNvGrpSpPr/>
          <p:nvPr/>
        </p:nvGrpSpPr>
        <p:grpSpPr>
          <a:xfrm>
            <a:off x="3112920" y="2448000"/>
            <a:ext cx="2139840" cy="1280880"/>
            <a:chOff x="3112920" y="2448000"/>
            <a:chExt cx="2139840" cy="1280880"/>
          </a:xfrm>
        </p:grpSpPr>
        <p:pic>
          <p:nvPicPr>
            <p:cNvPr id="350" name="Rounded Rectangle 26" descr=""/>
            <p:cNvPicPr/>
            <p:nvPr/>
          </p:nvPicPr>
          <p:blipFill>
            <a:blip r:embed="rId4"/>
            <a:stretch/>
          </p:blipFill>
          <p:spPr>
            <a:xfrm>
              <a:off x="3112920" y="2448000"/>
              <a:ext cx="213984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6"/>
            <p:cNvSpPr/>
            <p:nvPr/>
          </p:nvSpPr>
          <p:spPr>
            <a:xfrm>
              <a:off x="3492360" y="2487600"/>
              <a:ext cx="1724040" cy="9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2" name="Picture 25" descr="costco-american-express"/>
          <p:cNvPicPr/>
          <p:nvPr/>
        </p:nvPicPr>
        <p:blipFill>
          <a:blip r:embed="rId5"/>
          <a:stretch/>
        </p:blipFill>
        <p:spPr>
          <a:xfrm>
            <a:off x="6840360" y="2281320"/>
            <a:ext cx="2109960" cy="2109600"/>
          </a:xfrm>
          <a:prstGeom prst="rect">
            <a:avLst/>
          </a:prstGeom>
          <a:ln w="0">
            <a:noFill/>
          </a:ln>
        </p:spPr>
      </p:pic>
      <p:grpSp>
        <p:nvGrpSpPr>
          <p:cNvPr id="353" name="Rounded Rectangle 27"/>
          <p:cNvGrpSpPr/>
          <p:nvPr/>
        </p:nvGrpSpPr>
        <p:grpSpPr>
          <a:xfrm>
            <a:off x="6032520" y="2619360"/>
            <a:ext cx="1433520" cy="993600"/>
            <a:chOff x="6032520" y="2619360"/>
            <a:chExt cx="1433520" cy="993600"/>
          </a:xfrm>
        </p:grpSpPr>
        <p:pic>
          <p:nvPicPr>
            <p:cNvPr id="354" name="Rounded Rectangle 27" descr=""/>
            <p:cNvPicPr/>
            <p:nvPr/>
          </p:nvPicPr>
          <p:blipFill>
            <a:blip r:embed="rId6"/>
            <a:stretch/>
          </p:blipFill>
          <p:spPr>
            <a:xfrm>
              <a:off x="6032520" y="2619360"/>
              <a:ext cx="14335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Text Box 10"/>
            <p:cNvSpPr/>
            <p:nvPr/>
          </p:nvSpPr>
          <p:spPr>
            <a:xfrm>
              <a:off x="6410520" y="2654280"/>
              <a:ext cx="10303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6" name="Straight Arrow Connector 23"/>
          <p:cNvCxnSpPr/>
          <p:nvPr/>
        </p:nvCxnSpPr>
        <p:spPr>
          <a:xfrm>
            <a:off x="5468760" y="2232000"/>
            <a:ext cx="3177360" cy="2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57" name="TextBox 24"/>
          <p:cNvSpPr/>
          <p:nvPr/>
        </p:nvSpPr>
        <p:spPr>
          <a:xfrm>
            <a:off x="4427640" y="2052720"/>
            <a:ext cx="1003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Прогно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31"/>
          <p:cNvSpPr/>
          <p:nvPr/>
        </p:nvSpPr>
        <p:spPr>
          <a:xfrm>
            <a:off x="6372360" y="257796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Medfield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Penwell SoC and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Avantele Passag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MS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4"/>
          <p:cNvSpPr/>
          <p:nvPr/>
        </p:nvSpPr>
        <p:spPr>
          <a:xfrm>
            <a:off x="3561840" y="2421000"/>
            <a:ext cx="11757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Moorestown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Lincroft Processor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Langwell Platform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Controller Hub, and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Briertown MS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44"/>
          <p:cNvSpPr/>
          <p:nvPr/>
        </p:nvSpPr>
        <p:spPr>
          <a:xfrm>
            <a:off x="826200" y="2708280"/>
            <a:ext cx="17305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Menlow: 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Silverthorne Processor and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Poulsbo System Controller 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68360" y="3933720"/>
            <a:ext cx="26384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Arial"/>
              </a:rPr>
              <a:t>Menlow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45n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Board Size: 8,500 sq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PU/CS: 667 sq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art Count: 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tandby Power  1.4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2.4-4.3W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1X graphics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4-6 hrs video/brow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3419640" y="3933720"/>
            <a:ext cx="2557440" cy="24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Arial"/>
              </a:rPr>
              <a:t>Moores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45n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Board Size: 4,200 sq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PU+PCH387 sq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art Count: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tandby Power: &gt;50x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2-4X reduction in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2X graphics performance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Longer life with smaller batte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nabling smaller 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6300720" y="3933720"/>
            <a:ext cx="2363760" cy="24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Arial"/>
              </a:rPr>
              <a:t>Med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32n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Board Size: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C: 144 sq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art count: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tandby Power: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Highly integrated S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Up to 4X graphics performance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Further reduction in pow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and improved batter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67" name="" descr=""/>
            <p:cNvPicPr/>
            <p:nvPr/>
          </p:nvPicPr>
          <p:blipFill>
            <a:blip r:embed="rId7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CB8-6775-4B8A-934E-C994F06F15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16000" y="260280"/>
            <a:ext cx="72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Миниатюрные плат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32000" y="765000"/>
            <a:ext cx="72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3"/>
          <p:cNvSpPr/>
          <p:nvPr/>
        </p:nvSpPr>
        <p:spPr>
          <a:xfrm>
            <a:off x="6227640" y="1341360"/>
            <a:ext cx="2589480" cy="4896000"/>
          </a:xfrm>
          <a:custGeom>
            <a:avLst/>
            <a:gdLst>
              <a:gd name="textAreaLeft" fmla="*/ 75600 w 2589480"/>
              <a:gd name="textAreaRight" fmla="*/ 2513880 w 2589480"/>
              <a:gd name="textAreaTop" fmla="*/ 75600 h 4896000"/>
              <a:gd name="textAreaBottom" fmla="*/ 4820400 h 4896000"/>
            </a:gdLst>
            <a:ahLst/>
            <a:rect l="textAreaLeft" t="textAreaTop" r="textAreaRight" b="textAreaBottom"/>
            <a:pathLst>
              <a:path w="21600" h="40837">
                <a:moveTo>
                  <a:pt x="2160" y="0"/>
                </a:moveTo>
                <a:arcTo wR="2160" hR="2160" stAng="16200000" swAng="-5400000"/>
                <a:lnTo>
                  <a:pt x="0" y="38677"/>
                </a:lnTo>
                <a:arcTo wR="2160" hR="2160" stAng="10800000" swAng="-5400000"/>
                <a:lnTo>
                  <a:pt x="19440" y="40837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3"/>
          <p:cNvSpPr/>
          <p:nvPr/>
        </p:nvSpPr>
        <p:spPr>
          <a:xfrm>
            <a:off x="3348000" y="1341360"/>
            <a:ext cx="2589120" cy="4896000"/>
          </a:xfrm>
          <a:custGeom>
            <a:avLst/>
            <a:gdLst>
              <a:gd name="textAreaLeft" fmla="*/ 75600 w 2589120"/>
              <a:gd name="textAreaRight" fmla="*/ 2513520 w 2589120"/>
              <a:gd name="textAreaTop" fmla="*/ 75600 h 4896000"/>
              <a:gd name="textAreaBottom" fmla="*/ 4820400 h 4896000"/>
            </a:gdLst>
            <a:ahLst/>
            <a:rect l="textAreaLeft" t="textAreaTop" r="textAreaRight" b="textAreaBottom"/>
            <a:pathLst>
              <a:path w="21600" h="40843">
                <a:moveTo>
                  <a:pt x="2160" y="0"/>
                </a:moveTo>
                <a:arcTo wR="2160" hR="2160" stAng="16200000" swAng="-5400000"/>
                <a:lnTo>
                  <a:pt x="0" y="38683"/>
                </a:lnTo>
                <a:arcTo wR="2160" hR="2160" stAng="10800000" swAng="-5400000"/>
                <a:lnTo>
                  <a:pt x="19440" y="40843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"/>
          <p:cNvSpPr/>
          <p:nvPr/>
        </p:nvSpPr>
        <p:spPr>
          <a:xfrm>
            <a:off x="468360" y="1341360"/>
            <a:ext cx="2589120" cy="4896000"/>
          </a:xfrm>
          <a:custGeom>
            <a:avLst/>
            <a:gdLst>
              <a:gd name="textAreaLeft" fmla="*/ 75600 w 2589120"/>
              <a:gd name="textAreaRight" fmla="*/ 2513520 w 2589120"/>
              <a:gd name="textAreaTop" fmla="*/ 75600 h 4896000"/>
              <a:gd name="textAreaBottom" fmla="*/ 4820400 h 4896000"/>
            </a:gdLst>
            <a:ahLst/>
            <a:rect l="textAreaLeft" t="textAreaTop" r="textAreaRight" b="textAreaBottom"/>
            <a:pathLst>
              <a:path w="21600" h="40843">
                <a:moveTo>
                  <a:pt x="2160" y="0"/>
                </a:moveTo>
                <a:arcTo wR="2160" hR="2160" stAng="16200000" swAng="-5400000"/>
                <a:lnTo>
                  <a:pt x="0" y="38683"/>
                </a:lnTo>
                <a:arcTo wR="2160" hR="2160" stAng="10800000" swAng="-5400000"/>
                <a:lnTo>
                  <a:pt x="19440" y="40843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9" descr=""/>
          <p:cNvPicPr/>
          <p:nvPr/>
        </p:nvPicPr>
        <p:blipFill>
          <a:blip r:embed="rId1"/>
          <a:stretch/>
        </p:blipFill>
        <p:spPr>
          <a:xfrm>
            <a:off x="0" y="1557360"/>
            <a:ext cx="8964720" cy="66996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13"/>
          <p:cNvSpPr/>
          <p:nvPr/>
        </p:nvSpPr>
        <p:spPr>
          <a:xfrm>
            <a:off x="900000" y="1557360"/>
            <a:ext cx="1676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4"/>
          <p:cNvSpPr/>
          <p:nvPr/>
        </p:nvSpPr>
        <p:spPr>
          <a:xfrm>
            <a:off x="3924720" y="1557360"/>
            <a:ext cx="1532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009/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5"/>
          <p:cNvSpPr/>
          <p:nvPr/>
        </p:nvSpPr>
        <p:spPr>
          <a:xfrm>
            <a:off x="7164720" y="1557360"/>
            <a:ext cx="799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8" descr="Picture1 copy.png"/>
          <p:cNvPicPr/>
          <p:nvPr/>
        </p:nvPicPr>
        <p:blipFill>
          <a:blip r:embed="rId2"/>
          <a:stretch/>
        </p:blipFill>
        <p:spPr>
          <a:xfrm>
            <a:off x="395280" y="2492280"/>
            <a:ext cx="2782800" cy="1676520"/>
          </a:xfrm>
          <a:prstGeom prst="rect">
            <a:avLst/>
          </a:prstGeom>
          <a:ln w="0">
            <a:noFill/>
          </a:ln>
          <a:effectLst>
            <a:outerShdw dist="279505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80" name="Picture 25" descr="costco-american-express"/>
          <p:cNvPicPr/>
          <p:nvPr/>
        </p:nvPicPr>
        <p:blipFill>
          <a:blip r:embed="rId3"/>
          <a:stretch/>
        </p:blipFill>
        <p:spPr>
          <a:xfrm>
            <a:off x="4021200" y="2281320"/>
            <a:ext cx="2109600" cy="2109600"/>
          </a:xfrm>
          <a:prstGeom prst="rect">
            <a:avLst/>
          </a:prstGeom>
          <a:ln w="0">
            <a:noFill/>
          </a:ln>
        </p:spPr>
      </p:pic>
      <p:grpSp>
        <p:nvGrpSpPr>
          <p:cNvPr id="381" name="Rounded Rectangle 26"/>
          <p:cNvGrpSpPr/>
          <p:nvPr/>
        </p:nvGrpSpPr>
        <p:grpSpPr>
          <a:xfrm>
            <a:off x="3112920" y="2448000"/>
            <a:ext cx="2139840" cy="1280880"/>
            <a:chOff x="3112920" y="2448000"/>
            <a:chExt cx="2139840" cy="1280880"/>
          </a:xfrm>
        </p:grpSpPr>
        <p:pic>
          <p:nvPicPr>
            <p:cNvPr id="382" name="Rounded Rectangle 26" descr=""/>
            <p:cNvPicPr/>
            <p:nvPr/>
          </p:nvPicPr>
          <p:blipFill>
            <a:blip r:embed="rId4"/>
            <a:stretch/>
          </p:blipFill>
          <p:spPr>
            <a:xfrm>
              <a:off x="3112920" y="2448000"/>
              <a:ext cx="213984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 Box 6"/>
            <p:cNvSpPr/>
            <p:nvPr/>
          </p:nvSpPr>
          <p:spPr>
            <a:xfrm>
              <a:off x="3492360" y="2487600"/>
              <a:ext cx="1724040" cy="9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25" descr="costco-american-express"/>
          <p:cNvPicPr/>
          <p:nvPr/>
        </p:nvPicPr>
        <p:blipFill>
          <a:blip r:embed="rId5"/>
          <a:stretch/>
        </p:blipFill>
        <p:spPr>
          <a:xfrm>
            <a:off x="6840360" y="2281320"/>
            <a:ext cx="2109960" cy="2109600"/>
          </a:xfrm>
          <a:prstGeom prst="rect">
            <a:avLst/>
          </a:prstGeom>
          <a:ln w="0">
            <a:noFill/>
          </a:ln>
        </p:spPr>
      </p:pic>
      <p:grpSp>
        <p:nvGrpSpPr>
          <p:cNvPr id="385" name="Rounded Rectangle 27"/>
          <p:cNvGrpSpPr/>
          <p:nvPr/>
        </p:nvGrpSpPr>
        <p:grpSpPr>
          <a:xfrm>
            <a:off x="6032520" y="2619360"/>
            <a:ext cx="1433520" cy="993600"/>
            <a:chOff x="6032520" y="2619360"/>
            <a:chExt cx="1433520" cy="993600"/>
          </a:xfrm>
        </p:grpSpPr>
        <p:pic>
          <p:nvPicPr>
            <p:cNvPr id="386" name="Rounded Rectangle 27" descr=""/>
            <p:cNvPicPr/>
            <p:nvPr/>
          </p:nvPicPr>
          <p:blipFill>
            <a:blip r:embed="rId6"/>
            <a:stretch/>
          </p:blipFill>
          <p:spPr>
            <a:xfrm>
              <a:off x="6032520" y="2619360"/>
              <a:ext cx="14335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Text Box 10"/>
            <p:cNvSpPr/>
            <p:nvPr/>
          </p:nvSpPr>
          <p:spPr>
            <a:xfrm>
              <a:off x="6410520" y="2654280"/>
              <a:ext cx="10303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88" name="Straight Arrow Connector 23"/>
          <p:cNvCxnSpPr/>
          <p:nvPr/>
        </p:nvCxnSpPr>
        <p:spPr>
          <a:xfrm>
            <a:off x="5468760" y="2232000"/>
            <a:ext cx="3177360" cy="2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89" name="TextBox 24"/>
          <p:cNvSpPr/>
          <p:nvPr/>
        </p:nvSpPr>
        <p:spPr>
          <a:xfrm>
            <a:off x="4427640" y="2052720"/>
            <a:ext cx="1003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Прогно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1"/>
          <p:cNvSpPr/>
          <p:nvPr/>
        </p:nvSpPr>
        <p:spPr>
          <a:xfrm>
            <a:off x="6372360" y="257796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Medfield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Penwell SoC and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Avantele Passag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MS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4"/>
          <p:cNvSpPr/>
          <p:nvPr/>
        </p:nvSpPr>
        <p:spPr>
          <a:xfrm>
            <a:off x="3561840" y="2421000"/>
            <a:ext cx="11757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Moorestown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Lincroft Processor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Langwell Platform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Controller Hub, and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Briertown MS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44"/>
          <p:cNvSpPr/>
          <p:nvPr/>
        </p:nvSpPr>
        <p:spPr>
          <a:xfrm>
            <a:off x="826200" y="2708280"/>
            <a:ext cx="17305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Menlow: 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Silverthorne Processor and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Poulsbo System Controller 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468360" y="3933720"/>
            <a:ext cx="26384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Arial"/>
              </a:rPr>
              <a:t>Menlow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45n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Board Size: 8,500 sq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PU/CS: 667 sq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art Count: 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tandby Power  1.4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2.4-4.3W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1X graphics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4-6 hrs video/brow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3419640" y="3933720"/>
            <a:ext cx="2557440" cy="24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Arial"/>
              </a:rPr>
              <a:t>Moores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45n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Board Size: 4,200 sq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PU+PCH387 sq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art Count: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tandby Power: &gt;50x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2-4X reduction in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2X graphics performance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Longer life with smaller batte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nabling smaller 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6300720" y="3933720"/>
            <a:ext cx="2363760" cy="24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Arial"/>
              </a:rPr>
              <a:t>Med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32n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Board Size: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C: 144 sq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art count: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tandby Power: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Highly integrated S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Up to 4X graphics performance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Further reduction in pow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and improved batter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ounded Rectangle 27"/>
          <p:cNvSpPr/>
          <p:nvPr/>
        </p:nvSpPr>
        <p:spPr>
          <a:xfrm>
            <a:off x="0" y="1052640"/>
            <a:ext cx="9144000" cy="52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Intel® Atom™ E600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Intel объявила о выпуске семейства «систем-на-чипе» Intel® Atom™ E600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(кодовое наименование Tunnel Creek) для встраиваемых сист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Intel® Atom™ CE420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- Известное под кодовым наименованием Groveland семейство «систем-на-чипе»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коления, базирующ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еся на архитектуре Intel, предназначено для использования в «умном» телевидении, в системах, объединяющих стандартное телевещание с интернетом, библиотекой контента и мощными функциями поиска. В состав решений входят интегрированные ядро Intel Atom™ с частотой 1,2 ГГц и кэш-память второго уровня объемом 512 КБ. Оно предлагает широкие возможности для разработки интерактивных, открытых и персонализированных приложений для запуске на экране телевизора. Планы по созданию цифровых приставок нового поколения на базе компонентов Intel озвучили ADB*, Sagemcom,* Samsung* и Technicolor*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ешения на базе Intel® Atom™ CE4200 для потребительской электроник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– «Система-на-чипе» осуществляет многопоточное декодирование и обработку HD-видео, поддерживает 3D, MPEG2, MPEG4-2 и VC-1</a:t>
            </a:r>
            <a:r>
              <a:rPr b="0" lang="ru-RU" sz="1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. Решение оснащено интегрированным декодером HD-видео (H.264), позволяет осуществлять видеозвонки, потоковую передачу материалов на другие устройства, в том числе портативную электронику. Благодаря поддержке различных режимов питания новые решения помогают снизить энергопотребление и создавать устройства, удовлетворяющие промышленным стандартам по энергопотреблен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16000" y="638172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для встроенных систем на платформе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l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00" name="" descr=""/>
            <p:cNvPicPr/>
            <p:nvPr/>
          </p:nvPicPr>
          <p:blipFill>
            <a:blip r:embed="rId7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551-D1E6-42CD-A269-60B513B395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3:03:25Z</dcterms:created>
  <dc:creator>Андрей</dc:creator>
  <dc:description/>
  <dc:language>en-US</dc:language>
  <cp:lastModifiedBy>Oleg</cp:lastModifiedBy>
  <dcterms:modified xsi:type="dcterms:W3CDTF">2012-12-30T14:01:36Z</dcterms:modified>
  <cp:revision>497</cp:revision>
  <dc:subject/>
  <dc:title>Training services</dc:title>
</cp:coreProperties>
</file>