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dt" idx="19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sldImg"/>
          </p:nvPr>
        </p:nvSpPr>
        <p:spPr>
          <a:xfrm>
            <a:off x="992160" y="767880"/>
            <a:ext cx="5114880" cy="3837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9000" rIns="99000" tIns="49680" bIns="496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 type="ftr" idx="20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 type="sldNum" idx="21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621CB-30B4-4454-AD43-7C2A6DFEF0C2}" type="slidenum"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1FF31-911B-40D5-80B5-8C0F0307DEAC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D5DBC-0A8E-428C-BEB4-D10C305EC015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0E446-89CB-413D-8C81-F4EABF4B3491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791EB-B8F9-432A-AC29-814F0BB34EF4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8F321-C587-4D14-A4BD-2ED0FF1DF3C3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54071-BE3C-4062-B882-55F1A759E5C1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CBE53-B32A-40B5-97B3-7AEE26D80EAC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AE3ED-36D5-4B2A-92A4-2BDB2317B553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95786-2BDA-46EA-B710-B2D1E4ECB427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0215A-C402-43BD-B901-06C2E5355CF1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F0445-F9BF-433B-B3A9-995FA76CFF2B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E3F8D-2AFE-4CE8-B19E-CD6DD602F2EF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28A4D-1745-4B45-A73B-296165CBDE35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E9094-3188-4069-A044-E1F23DA8C971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89080" y="982800"/>
            <a:ext cx="4721040" cy="354168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1068480" y="5175360"/>
            <a:ext cx="477360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E66A1-08A9-4B6C-828B-A35B12CE4819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2F936-DB71-4B39-80CA-91CEC6669C9E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784AB-B36C-4DB9-B0A2-C6F24AEF1C5C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B9CB5-CA03-4134-A3D6-0C4F52173A8D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0CAA1-DB9F-446F-89CF-5CCE17B526BC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89080" y="982800"/>
            <a:ext cx="4721040" cy="354168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1068480" y="5175360"/>
            <a:ext cx="477360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1010F-116C-4F46-8624-56721E38CE71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BAD59-8B60-43FE-8AED-79996BCB983B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89080" y="982800"/>
            <a:ext cx="4721040" cy="354168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1068480" y="5175360"/>
            <a:ext cx="477360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C0B4D-8985-4E0F-AB0B-F5064AA684C0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79FD0-1FD2-4371-A6EB-62271E311F98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0CF95-E35C-4C61-83E4-4F339F5A02CF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89080" y="982800"/>
            <a:ext cx="4721040" cy="354168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1068480" y="5175360"/>
            <a:ext cx="477360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72457-7968-4746-A3E1-D7326DA8A375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2A474-4D2C-420A-8776-777068D59689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3F0B6-9235-4641-AD8E-7A1534BF541B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89080" y="982800"/>
            <a:ext cx="4721040" cy="354168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1068480" y="5175360"/>
            <a:ext cx="477360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48C94-A998-4893-8741-8B186704832F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595EB-4342-41A6-A8F2-60220E06826B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71081-0DE0-4295-B453-ECF55C3BF1F7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0276F-FD6A-47E3-8B39-C0D293C1D472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CE172-34E3-4044-9000-9CD5B4880C8A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6FA75-AAA6-4FFE-8E0C-83FED22D10A8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89080" y="982800"/>
            <a:ext cx="4721040" cy="354168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1068480" y="5175360"/>
            <a:ext cx="477360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8845E-0B9C-44B0-AAF5-96EE63ACD765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FA165-3E1E-4C66-B968-EC9CC6D86497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19DE7-E98C-4414-AF78-B953EAF8A3BB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9997-63EF-40B1-A5C3-4667A426E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978D-539E-4608-9456-84E1E5A55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3F14-C817-4984-88EA-0BB460D06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3E02-90CE-4DDC-959F-9958642F9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BDBBE-E3C5-4E9E-9F35-6248C2362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B2403-B8F4-4642-9E17-00DD20423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0CBE5-49D5-4B1F-BC53-F294DE463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D6567-D18B-4505-891E-AC8C8C804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C5F95-5191-44F0-BB3C-8E8B8C0C0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02807-B6CA-40E2-8650-4F14E4F4B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655A7-EE2A-436A-BC1D-F90E77A58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3E8D-11CE-4CD5-AF68-E41973E26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DA024-BE49-4F04-8755-B16808B70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11EE1-D60C-4DF4-8932-07B812CDB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013AC-19EE-4A32-A294-1BD08BA26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61842-2FF5-468B-96E6-34B4549CC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DFF3C-CCFB-4005-8A79-8BA795783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59DF39-B3A6-48B5-A518-89E3F2FE3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2D964F-583F-4C2F-82C3-96B03AB05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F73985-2637-4EAD-B5C9-B55A47E6E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0EB819-2C2D-4923-81AC-62CC5F699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F82CB6-21D9-4346-A002-EF46887B8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81AA-485D-4C0B-B6C9-20908EE42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A5D1B2-E658-42C7-A7B9-651AE85C5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14CD8B-DECF-4705-A4F7-7CBE42B45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E73594-9EE8-490C-B093-541ABBA3D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6B23BB-8377-437C-8BE7-FFFA01062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FA1A8F-2F5B-4B8B-9935-F887BF698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2C79A9-470A-4649-B6F3-3D6F94902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8FF524-8D9D-48F1-B22F-0466124BA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9B958E-6CB1-4C63-BDB5-A7D639EA2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96F30D-EE27-48BC-ABE8-F53BA4708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D02817-8EC3-463C-A526-21CB7D943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CAB4-8998-4647-84B1-BE9A4873F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03590C-52CD-4E4A-9C73-7ABFAF05E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9051EA-71B7-467F-9D9C-0A2007051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8DA71F-9E16-40DF-B33E-EE0430FC5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BE7CA8-98DC-4DA0-9631-E5D7F4956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59FBEC-54F8-48DD-8D1C-C2D0584F3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FE98AD-040A-407C-BEDE-7C573340A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E66A23-C2A5-405D-9817-9E4E00E4C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726873-85BF-4E26-B72D-37EDA8198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439729-03E5-4CE2-9D03-7B0A57AE6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16D97B-BCE9-4573-A8DF-AEF4B3467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8659-0D2A-47D6-822B-CDF1FE3C2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ED6D14-EA58-4DBC-B222-56176CDEA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2CF2C4-55D8-44ED-B84B-244689370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EFA387-A382-4BFE-B95B-5BEFC8C0F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1852E6-F83F-4BE2-99BC-D082C1928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614433-656A-4BC9-9963-724471BA9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227B46-AA3A-4D4F-9514-3A253F1BD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75267B-FEDC-4A80-A3AD-C920D0C85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BF94AA-E28B-42EE-AC8F-3B9C341D0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E90B70-055B-405B-9F8F-981DBAF07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DFAE47-8325-441B-9C6E-F8A8D4AB1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9A18-3DBD-47D5-9384-6B7D5683D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79550B-B003-48D8-B87F-25013184C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C532F2-5764-4C63-A340-832145E4B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62307D-1C86-40FD-A19C-120D69161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F223FF-DB19-49CA-8885-F8A56BDDF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F6ABD3-45F6-43C4-9040-58FCB57E0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D53A92-6F57-409D-8A2D-CA39592D3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4CE696-B5C0-4A32-ACF8-54A7719E6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584915-7DBB-432A-A934-B1CD86A19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6D48F5-3146-4002-9721-441ED77DC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69EAB0-1F54-4627-9152-BCD712853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03CF-4FF3-4F54-A1E0-973B781C1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C40F7C-3481-4C1B-861E-AAD5BA6DA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7C6824-BE86-47A7-B424-260530441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FAE947-FFD8-4CF4-A6BD-135F4F723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45E5-092F-4118-9795-C76984EA0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92E2-4542-4179-AB05-DDD1785BC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688"/>
            </a:gs>
            <a:gs pos="100000">
              <a:srgbClr val="ffec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ECD2D-7B79-4448-95BE-35EAC44BC1EF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688"/>
            </a:gs>
            <a:gs pos="100000">
              <a:srgbClr val="ffec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51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54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57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60" name="Прямая соединительная линия 12" descr=""/>
            <p:cNvPicPr/>
            <p:nvPr/>
          </p:nvPicPr>
          <p:blipFill>
            <a:blip r:embed="rId5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16BD0-6CF8-4CE8-BE12-200A55401CD1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688"/>
            </a:gs>
            <a:gs pos="100000">
              <a:srgbClr val="ffec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04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07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10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1F61A-0719-464F-8C21-FB44D405559B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688"/>
            </a:gs>
            <a:gs pos="100000">
              <a:srgbClr val="ffec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54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57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60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63" name="Прямая соединительная линия 12" descr=""/>
            <p:cNvPicPr/>
            <p:nvPr/>
          </p:nvPicPr>
          <p:blipFill>
            <a:blip r:embed="rId5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0E2F0-1792-419A-B91A-CAE1279F171E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688"/>
            </a:gs>
            <a:gs pos="100000">
              <a:srgbClr val="ffec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07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10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213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216" name="Прямая соединительная линия 12" descr=""/>
            <p:cNvPicPr/>
            <p:nvPr/>
          </p:nvPicPr>
          <p:blipFill>
            <a:blip r:embed="rId5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1AA7A-FA6C-47BC-8A4A-11D936AC1B78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688"/>
            </a:gs>
            <a:gs pos="100000">
              <a:srgbClr val="ffec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60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63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266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69" name="Прямая соединительная линия 12" descr=""/>
            <p:cNvPicPr/>
            <p:nvPr/>
          </p:nvPicPr>
          <p:blipFill>
            <a:blip r:embed="rId5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5ADE8-DBA4-4ED3-862B-3ECB86653190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intel.com/software/products/cluster" TargetMode="Externa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380520" y="35002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43329"/>
                </a:solidFill>
                <a:latin typeface="Times New Roman"/>
                <a:ea typeface="Times New Roman"/>
              </a:rPr>
              <a:t>С.А.Немнюгин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43329"/>
                </a:solidFill>
                <a:latin typeface="Times New Roman"/>
                <a:ea typeface="Times New Roman"/>
              </a:rPr>
              <a:t>Санкт-Петербургский государственный университет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0" name="Прямоугольник 4"/>
          <p:cNvSpPr/>
          <p:nvPr/>
        </p:nvSpPr>
        <p:spPr>
          <a:xfrm>
            <a:off x="395280" y="4676760"/>
            <a:ext cx="864072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l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®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luster Tools. Основной курс</a:t>
            </a:r>
            <a:br>
              <a:rPr sz="3600"/>
            </a:br>
            <a:br>
              <a:rPr sz="36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ция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l® Trace Analyzer and Coll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 txBox="1"/>
          <p:nvPr/>
        </p:nvSpPr>
        <p:spPr>
          <a:xfrm>
            <a:off x="250560" y="1341360"/>
            <a:ext cx="871524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华文楷体"/>
              </a:rPr>
              <a:t>Сборка исполняемого файла для трассировки </a:t>
            </a:r>
            <a:r>
              <a:rPr b="0" lang="en-US" sz="2000" spc="-1" strike="noStrike">
                <a:solidFill>
                  <a:srgbClr val="4e3b30"/>
                </a:solidFill>
                <a:latin typeface="Times New Roman"/>
                <a:ea typeface="华文楷体"/>
              </a:rPr>
              <a:t>MPI-</a:t>
            </a: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华文楷体"/>
              </a:rPr>
              <a:t>приложения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e3b30"/>
                </a:solidFill>
                <a:latin typeface="Times New Roman"/>
                <a:ea typeface="华文楷体"/>
              </a:rPr>
              <a:t>Linux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Courier New"/>
                <a:ea typeface="华文楷体"/>
              </a:rPr>
              <a:t>mpicc app.o -L$VT_LIB_DIR -lVT $VT_ADD_LIBS -o app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Courier New"/>
                <a:ea typeface="华文楷体"/>
              </a:rPr>
              <a:t>mpif77 app.o -L$VT_LIB_DIR -lVT $VT_ADD_LIBS -o app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e3b30"/>
                </a:solidFill>
                <a:latin typeface="Times New Roman"/>
                <a:ea typeface="华文楷体"/>
              </a:rPr>
              <a:t>Microsoft* Windows*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Courier New"/>
                <a:ea typeface="华文楷体"/>
              </a:rPr>
              <a:t>mpiicc app.obj /link /LIBPATH:%VT_LIB_DIR% VT.lib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Courier New"/>
                <a:ea typeface="华文楷体"/>
              </a:rPr>
              <a:t>mpiifort app.obj /link /LIBPATH:%VT_LIB_DIR% VT.lib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107640" y="1341000"/>
            <a:ext cx="889164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华文楷体"/>
              </a:rPr>
              <a:t>Запуск файла для трассировки </a:t>
            </a:r>
            <a:r>
              <a:rPr b="0" lang="en-US" sz="2000" spc="-1" strike="noStrike">
                <a:solidFill>
                  <a:srgbClr val="4e3b30"/>
                </a:solidFill>
                <a:latin typeface="Times New Roman"/>
                <a:ea typeface="华文楷体"/>
              </a:rPr>
              <a:t>MPI-</a:t>
            </a: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华文楷体"/>
              </a:rPr>
              <a:t>приложения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华文楷体"/>
              </a:rPr>
              <a:t>Задать значения переменных окружения</a:t>
            </a:r>
            <a:r>
              <a:rPr b="0" lang="en-US" sz="2000" spc="-1" strike="noStrike">
                <a:solidFill>
                  <a:srgbClr val="4e3b30"/>
                </a:solidFill>
                <a:latin typeface="Times New Roman"/>
                <a:ea typeface="华文楷体"/>
              </a:rPr>
              <a:t>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Courier New"/>
                <a:ea typeface="华文楷体"/>
              </a:rPr>
              <a:t>VT_CONFIG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华文楷体"/>
              </a:rPr>
              <a:t>путь к каталогу, где находится конфигурационный файл трассировки</a:t>
            </a:r>
            <a:r>
              <a:rPr b="0" lang="en-US" sz="2000" spc="-1" strike="noStrike">
                <a:solidFill>
                  <a:srgbClr val="4e3b30"/>
                </a:solidFill>
                <a:latin typeface="Times New Roman"/>
                <a:ea typeface="华文楷体"/>
              </a:rPr>
              <a:t>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Courier New"/>
                <a:ea typeface="华文楷体"/>
              </a:rPr>
              <a:t>VT_CONFIG_RANK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华文楷体"/>
              </a:rPr>
              <a:t>ранг процесса (относительно </a:t>
            </a:r>
            <a:r>
              <a:rPr b="0" lang="en-US" sz="2000" spc="-1" strike="noStrike">
                <a:solidFill>
                  <a:srgbClr val="4e3b30"/>
                </a:solidFill>
                <a:latin typeface="Times New Roman"/>
                <a:ea typeface="华文楷体"/>
              </a:rPr>
              <a:t>MPI_COMM_WORLD), </a:t>
            </a: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华文楷体"/>
              </a:rPr>
              <a:t>который должен считывать конфигурационный файл трассировки</a:t>
            </a:r>
            <a:r>
              <a:rPr b="0" lang="en-US" sz="2000" spc="-1" strike="noStrike">
                <a:solidFill>
                  <a:srgbClr val="4e3b30"/>
                </a:solidFill>
                <a:latin typeface="Times New Roman"/>
                <a:ea typeface="华文楷体"/>
              </a:rPr>
              <a:t>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华文楷体"/>
              </a:rPr>
              <a:t>Приложение запускается как обычное </a:t>
            </a:r>
            <a:r>
              <a:rPr b="0" lang="en-US" sz="2000" spc="-1" strike="noStrike">
                <a:solidFill>
                  <a:srgbClr val="4e3b30"/>
                </a:solidFill>
                <a:latin typeface="Times New Roman"/>
                <a:ea typeface="华文楷体"/>
              </a:rPr>
              <a:t>MPI-</a:t>
            </a: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华文楷体"/>
              </a:rPr>
              <a:t>приложение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华文楷体"/>
              </a:rPr>
              <a:t>Файл трассировки формируется в памяти и сохраняется на диске после завершения вызова </a:t>
            </a:r>
            <a:r>
              <a:rPr b="0" lang="en-US" sz="2000" spc="-1" strike="noStrike">
                <a:solidFill>
                  <a:srgbClr val="4e3b30"/>
                </a:solidFill>
                <a:latin typeface="Times New Roman"/>
                <a:ea typeface="华文楷体"/>
              </a:rPr>
              <a:t>MPI_Finalize. </a:t>
            </a: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华文楷体"/>
              </a:rPr>
              <a:t>Имя файла </a:t>
            </a:r>
            <a:r>
              <a:rPr b="1" lang="en-US" sz="2000" spc="-1" strike="noStrike">
                <a:solidFill>
                  <a:srgbClr val="4e3b30"/>
                </a:solidFill>
                <a:latin typeface="Times New Roman"/>
                <a:ea typeface="华文楷体"/>
              </a:rPr>
              <a:t>&lt;</a:t>
            </a:r>
            <a:r>
              <a:rPr b="1" lang="ru-RU" sz="2000" spc="-1" strike="noStrike">
                <a:solidFill>
                  <a:srgbClr val="4e3b30"/>
                </a:solidFill>
                <a:latin typeface="Times New Roman"/>
                <a:ea typeface="华文楷体"/>
              </a:rPr>
              <a:t>маршрутное имя исполняемого файла</a:t>
            </a:r>
            <a:r>
              <a:rPr b="1" lang="en-US" sz="2000" spc="-1" strike="noStrike">
                <a:solidFill>
                  <a:srgbClr val="4e3b30"/>
                </a:solidFill>
                <a:latin typeface="Times New Roman"/>
                <a:ea typeface="华文楷体"/>
              </a:rPr>
              <a:t>&gt;.stf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 txBox="1"/>
          <p:nvPr/>
        </p:nvSpPr>
        <p:spPr>
          <a:xfrm>
            <a:off x="107640" y="1197000"/>
            <a:ext cx="88916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华文楷体"/>
              </a:rPr>
              <a:t>Идентификация событий в файле трассировки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华文楷体"/>
              </a:rPr>
              <a:t>Стандартные коммуникаторы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Times New Roman"/>
                <a:ea typeface="华文楷体"/>
              </a:rPr>
              <a:t>COMM_WORLD </a:t>
            </a: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华文楷体"/>
              </a:rPr>
              <a:t>для </a:t>
            </a:r>
            <a:r>
              <a:rPr b="0" lang="en-US" sz="2000" spc="-1" strike="noStrike">
                <a:solidFill>
                  <a:srgbClr val="4e3b30"/>
                </a:solidFill>
                <a:latin typeface="Times New Roman"/>
                <a:ea typeface="华文楷体"/>
              </a:rPr>
              <a:t>MPI_COMM_WORLD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Times New Roman"/>
                <a:ea typeface="华文楷体"/>
              </a:rPr>
              <a:t>COMM_SELF </a:t>
            </a: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华文楷体"/>
              </a:rPr>
              <a:t>для </a:t>
            </a:r>
            <a:r>
              <a:rPr b="0" lang="en-US" sz="2000" spc="-1" strike="noStrike">
                <a:solidFill>
                  <a:srgbClr val="4e3b30"/>
                </a:solidFill>
                <a:latin typeface="Times New Roman"/>
                <a:ea typeface="华文楷体"/>
              </a:rPr>
              <a:t>MPI_COMM_SELF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华文楷体"/>
              </a:rPr>
              <a:t>Пользовательские коммуникаторы - имя формируется из префикса и имени «старого» коммуникатора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华文楷体"/>
              </a:rPr>
              <a:t>Для </a:t>
            </a:r>
            <a:r>
              <a:rPr b="0" lang="en-US" sz="2000" spc="-1" strike="noStrike">
                <a:solidFill>
                  <a:srgbClr val="4e3b30"/>
                </a:solidFill>
                <a:latin typeface="Times New Roman"/>
                <a:ea typeface="华文楷体"/>
              </a:rPr>
              <a:t>MPI_Comm_create() </a:t>
            </a: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华文楷体"/>
              </a:rPr>
              <a:t>префикс </a:t>
            </a:r>
            <a:r>
              <a:rPr b="0" lang="en-US" sz="2000" spc="-1" strike="noStrike">
                <a:solidFill>
                  <a:srgbClr val="4e3b30"/>
                </a:solidFill>
                <a:latin typeface="Times New Roman"/>
                <a:ea typeface="华文楷体"/>
              </a:rPr>
              <a:t>CREATE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华文楷体"/>
              </a:rPr>
              <a:t>Для </a:t>
            </a:r>
            <a:r>
              <a:rPr b="0" lang="en-US" sz="2000" spc="-1" strike="noStrike">
                <a:solidFill>
                  <a:srgbClr val="4e3b30"/>
                </a:solidFill>
                <a:latin typeface="Times New Roman"/>
                <a:ea typeface="华文楷体"/>
              </a:rPr>
              <a:t>MPI_Comm_dup() </a:t>
            </a: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华文楷体"/>
              </a:rPr>
              <a:t>префикс </a:t>
            </a:r>
            <a:r>
              <a:rPr b="0" lang="en-US" sz="2000" spc="-1" strike="noStrike">
                <a:solidFill>
                  <a:srgbClr val="4e3b30"/>
                </a:solidFill>
                <a:latin typeface="Times New Roman"/>
                <a:ea typeface="华文楷体"/>
              </a:rPr>
              <a:t>DUP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华文楷体"/>
              </a:rPr>
              <a:t>Для </a:t>
            </a:r>
            <a:r>
              <a:rPr b="0" lang="en-US" sz="2000" spc="-1" strike="noStrike">
                <a:solidFill>
                  <a:srgbClr val="4e3b30"/>
                </a:solidFill>
                <a:latin typeface="Times New Roman"/>
                <a:ea typeface="华文楷体"/>
              </a:rPr>
              <a:t>MPI_Comm_split() </a:t>
            </a: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华文楷体"/>
              </a:rPr>
              <a:t>префикс </a:t>
            </a:r>
            <a:r>
              <a:rPr b="0" lang="en-US" sz="2000" spc="-1" strike="noStrike">
                <a:solidFill>
                  <a:srgbClr val="4e3b30"/>
                </a:solidFill>
                <a:latin typeface="Times New Roman"/>
                <a:ea typeface="华文楷体"/>
              </a:rPr>
              <a:t>SPLIT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华文楷体"/>
              </a:rPr>
              <a:t>Для </a:t>
            </a:r>
            <a:r>
              <a:rPr b="0" lang="en-US" sz="2000" spc="-1" strike="noStrike">
                <a:solidFill>
                  <a:srgbClr val="4e3b30"/>
                </a:solidFill>
                <a:latin typeface="Times New Roman"/>
                <a:ea typeface="华文楷体"/>
              </a:rPr>
              <a:t>MPI_Cart_sub() </a:t>
            </a: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华文楷体"/>
              </a:rPr>
              <a:t>префикс </a:t>
            </a:r>
            <a:r>
              <a:rPr b="0" lang="en-US" sz="2000" spc="-1" strike="noStrike">
                <a:solidFill>
                  <a:srgbClr val="4e3b30"/>
                </a:solidFill>
                <a:latin typeface="Times New Roman"/>
                <a:ea typeface="华文楷体"/>
              </a:rPr>
              <a:t>CART_SUB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华文楷体"/>
              </a:rPr>
              <a:t>Для </a:t>
            </a:r>
            <a:r>
              <a:rPr b="0" lang="en-US" sz="2000" spc="-1" strike="noStrike">
                <a:solidFill>
                  <a:srgbClr val="4e3b30"/>
                </a:solidFill>
                <a:latin typeface="Times New Roman"/>
                <a:ea typeface="华文楷体"/>
              </a:rPr>
              <a:t>MPI_Cart_create() </a:t>
            </a: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华文楷体"/>
              </a:rPr>
              <a:t>префикс </a:t>
            </a:r>
            <a:r>
              <a:rPr b="0" lang="en-US" sz="2000" spc="-1" strike="noStrike">
                <a:solidFill>
                  <a:srgbClr val="4e3b30"/>
                </a:solidFill>
                <a:latin typeface="Times New Roman"/>
                <a:ea typeface="华文楷体"/>
              </a:rPr>
              <a:t>CART_CREATE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华文楷体"/>
              </a:rPr>
              <a:t>Для </a:t>
            </a:r>
            <a:r>
              <a:rPr b="0" lang="en-US" sz="2000" spc="-1" strike="noStrike">
                <a:solidFill>
                  <a:srgbClr val="4e3b30"/>
                </a:solidFill>
                <a:latin typeface="Times New Roman"/>
                <a:ea typeface="华文楷体"/>
              </a:rPr>
              <a:t>MPI_Graph_create() </a:t>
            </a: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华文楷体"/>
              </a:rPr>
              <a:t>префикс </a:t>
            </a:r>
            <a:r>
              <a:rPr b="0" lang="en-US" sz="2000" spc="-1" strike="noStrike">
                <a:solidFill>
                  <a:srgbClr val="4e3b30"/>
                </a:solidFill>
                <a:latin typeface="Times New Roman"/>
                <a:ea typeface="华文楷体"/>
              </a:rPr>
              <a:t>GRAPH_CREATE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华文楷体"/>
              </a:rPr>
              <a:t>Для </a:t>
            </a:r>
            <a:r>
              <a:rPr b="0" lang="en-US" sz="2000" spc="-1" strike="noStrike">
                <a:solidFill>
                  <a:srgbClr val="4e3b30"/>
                </a:solidFill>
                <a:latin typeface="Times New Roman"/>
                <a:ea typeface="华文楷体"/>
              </a:rPr>
              <a:t>MPI_Intercomm_merge() </a:t>
            </a: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华文楷体"/>
              </a:rPr>
              <a:t>префикс </a:t>
            </a:r>
            <a:r>
              <a:rPr b="0" lang="en-US" sz="2000" spc="-1" strike="noStrike">
                <a:solidFill>
                  <a:srgbClr val="4e3b30"/>
                </a:solidFill>
                <a:latin typeface="Times New Roman"/>
                <a:ea typeface="华文楷体"/>
              </a:rPr>
              <a:t>MERGE</a:t>
            </a: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华文楷体"/>
              </a:rPr>
              <a:t> (</a:t>
            </a:r>
            <a:r>
              <a:rPr b="0" lang="en-US" sz="2000" spc="-1" strike="noStrike">
                <a:solidFill>
                  <a:srgbClr val="4e3b30"/>
                </a:solidFill>
                <a:latin typeface="Times New Roman"/>
                <a:ea typeface="华文楷体"/>
              </a:rPr>
              <a:t>&lt;oldname 1&gt;/&lt;oldname 2&gt;</a:t>
            </a: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华文楷体"/>
              </a:rPr>
              <a:t>)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107640" y="1197000"/>
            <a:ext cx="88916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华文楷体"/>
              </a:rPr>
              <a:t>Аварийное завершение </a:t>
            </a:r>
            <a:r>
              <a:rPr b="0" lang="en-US" sz="2000" spc="-1" strike="noStrike">
                <a:solidFill>
                  <a:srgbClr val="4e3b30"/>
                </a:solidFill>
                <a:latin typeface="Times New Roman"/>
                <a:ea typeface="华文楷体"/>
              </a:rPr>
              <a:t>MPI-</a:t>
            </a: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华文楷体"/>
              </a:rPr>
              <a:t>приложения приводит к потере результатов трассировки, если используется библиотека </a:t>
            </a:r>
            <a:r>
              <a:rPr b="0" lang="en-US" sz="2000" spc="-1" strike="noStrike">
                <a:solidFill>
                  <a:srgbClr val="4e3b30"/>
                </a:solidFill>
                <a:latin typeface="Times New Roman"/>
                <a:ea typeface="华文楷体"/>
              </a:rPr>
              <a:t>libVT</a:t>
            </a: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华文楷体"/>
              </a:rPr>
              <a:t>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华文楷体"/>
              </a:rPr>
              <a:t>Аварийное завершение </a:t>
            </a:r>
            <a:r>
              <a:rPr b="0" lang="en-US" sz="2000" spc="-1" strike="noStrike">
                <a:solidFill>
                  <a:srgbClr val="4e3b30"/>
                </a:solidFill>
                <a:latin typeface="Times New Roman"/>
                <a:ea typeface="华文楷体"/>
              </a:rPr>
              <a:t>MPI-</a:t>
            </a: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华文楷体"/>
              </a:rPr>
              <a:t>приложения НЕ приводит к потере результатов трассировки, если используется библиотека </a:t>
            </a:r>
            <a:r>
              <a:rPr b="0" lang="en-US" sz="2000" spc="-1" strike="noStrike">
                <a:solidFill>
                  <a:srgbClr val="4e3b30"/>
                </a:solidFill>
                <a:latin typeface="Times New Roman"/>
                <a:ea typeface="华文楷体"/>
              </a:rPr>
              <a:t>libVTfs</a:t>
            </a: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华文楷体"/>
              </a:rPr>
              <a:t>. В этом случае при аварийном завершении приложения его процессы «замораживаются» до того момента, когда на диске будет сохранён файл трассировки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Times New Roman"/>
                <a:ea typeface="华文楷体"/>
              </a:rPr>
              <a:t>Фиксируются события: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e3b30"/>
                </a:solidFill>
                <a:latin typeface="Times New Roman"/>
                <a:ea typeface="华文楷体"/>
              </a:rPr>
              <a:t>Сигналы</a:t>
            </a: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华文楷体"/>
              </a:rPr>
              <a:t> – внутренние (ошибки сегментации, ошибки операций с плавающей точкой) и внешние (</a:t>
            </a:r>
            <a:r>
              <a:rPr b="0" lang="en-US" sz="2000" spc="-1" strike="noStrike">
                <a:solidFill>
                  <a:srgbClr val="4e3b30"/>
                </a:solidFill>
                <a:latin typeface="Times New Roman"/>
                <a:ea typeface="华文楷体"/>
              </a:rPr>
              <a:t>SIGINT, SIGTERM). SIGKILL </a:t>
            </a: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华文楷体"/>
              </a:rPr>
              <a:t>не фиксируется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e3b30"/>
                </a:solidFill>
                <a:latin typeface="Times New Roman"/>
                <a:ea typeface="华文楷体"/>
              </a:rPr>
              <a:t>Преждевременное завершение</a:t>
            </a: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华文楷体"/>
              </a:rPr>
              <a:t> – один или несколько процессов завершились до вызова </a:t>
            </a:r>
            <a:r>
              <a:rPr b="0" lang="en-US" sz="2000" spc="-1" strike="noStrike">
                <a:solidFill>
                  <a:srgbClr val="4e3b30"/>
                </a:solidFill>
                <a:latin typeface="Times New Roman"/>
                <a:ea typeface="华文楷体"/>
              </a:rPr>
              <a:t>MPI_Finalize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e3b30"/>
                </a:solidFill>
                <a:latin typeface="Times New Roman"/>
                <a:ea typeface="华文楷体"/>
              </a:rPr>
              <a:t>Ошибки </a:t>
            </a:r>
            <a:r>
              <a:rPr b="1" i="1" lang="en-US" sz="2000" spc="-1" strike="noStrike">
                <a:solidFill>
                  <a:srgbClr val="4e3b30"/>
                </a:solidFill>
                <a:latin typeface="Times New Roman"/>
                <a:ea typeface="华文楷体"/>
              </a:rPr>
              <a:t>MPI</a:t>
            </a:r>
            <a:r>
              <a:rPr b="0" lang="en-US" sz="2000" spc="-1" strike="noStrike">
                <a:solidFill>
                  <a:srgbClr val="4e3b30"/>
                </a:solidFill>
                <a:latin typeface="Times New Roman"/>
                <a:ea typeface="华文楷体"/>
              </a:rPr>
              <a:t> – </a:t>
            </a: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华文楷体"/>
              </a:rPr>
              <a:t>ошибки обменов, неправильно заданные параметры функций </a:t>
            </a:r>
            <a:r>
              <a:rPr b="0" lang="en-US" sz="2000" spc="-1" strike="noStrike">
                <a:solidFill>
                  <a:srgbClr val="4e3b30"/>
                </a:solidFill>
                <a:latin typeface="Times New Roman"/>
                <a:ea typeface="华文楷体"/>
              </a:rPr>
              <a:t>MPI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e3b30"/>
                </a:solidFill>
                <a:latin typeface="Times New Roman"/>
                <a:ea typeface="华文楷体"/>
              </a:rPr>
              <a:t>Блокировки</a:t>
            </a: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华文楷体"/>
              </a:rPr>
              <a:t> – фиксируются, если в течение некоторого времени процессы простаивают (находятся в состоянии вызова одной </a:t>
            </a:r>
            <a:r>
              <a:rPr b="0" lang="en-US" sz="2000" spc="-1" strike="noStrike">
                <a:solidFill>
                  <a:srgbClr val="4e3b30"/>
                </a:solidFill>
                <a:latin typeface="Times New Roman"/>
                <a:ea typeface="华文楷体"/>
              </a:rPr>
              <a:t>MPI-</a:t>
            </a: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华文楷体"/>
              </a:rPr>
              <a:t>функции). Время простоя задаётся с помощью </a:t>
            </a:r>
            <a:r>
              <a:rPr b="0" lang="en-US" sz="2000" spc="-1" strike="noStrike">
                <a:solidFill>
                  <a:srgbClr val="4e3b30"/>
                </a:solidFill>
                <a:latin typeface="Times New Roman"/>
                <a:ea typeface="华文楷体"/>
              </a:rPr>
              <a:t>DEADLOCK-TIMEOUT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107640" y="1197000"/>
            <a:ext cx="88916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华文楷体"/>
              </a:rPr>
              <a:t>Ошибки параллельного ввода-вывода фиксируются только в среде ОС </a:t>
            </a:r>
            <a:r>
              <a:rPr b="0" lang="en-US" sz="2000" spc="-1" strike="noStrike">
                <a:solidFill>
                  <a:srgbClr val="4e3b30"/>
                </a:solidFill>
                <a:latin typeface="Times New Roman"/>
                <a:ea typeface="华文楷体"/>
              </a:rPr>
              <a:t>Linux</a:t>
            </a: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华文楷体"/>
              </a:rPr>
              <a:t>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Times New Roman"/>
                <a:ea typeface="华文楷体"/>
              </a:rPr>
              <a:t>Intel® Trace Collector </a:t>
            </a: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华文楷体"/>
              </a:rPr>
              <a:t>позволяет выполнять трассировку односторонних обменов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Times New Roman"/>
                <a:ea typeface="华文楷体"/>
              </a:rPr>
              <a:t>Intel® Trace Collector </a:t>
            </a: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华文楷体"/>
              </a:rPr>
              <a:t>позволяет выполнять трассировку приложений, работающих с общей памятью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Times New Roman"/>
                <a:ea typeface="华文楷体"/>
              </a:rPr>
              <a:t>Intel® Trace Collector </a:t>
            </a: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华文楷体"/>
              </a:rPr>
              <a:t>позволяет выполнять трассировку последовательных приложений (библиотека </a:t>
            </a:r>
            <a:r>
              <a:rPr b="0" lang="en-US" sz="2000" spc="-1" strike="noStrike">
                <a:solidFill>
                  <a:srgbClr val="4e3b30"/>
                </a:solidFill>
                <a:latin typeface="Times New Roman"/>
                <a:ea typeface="华文楷体"/>
              </a:rPr>
              <a:t>libVTcs</a:t>
            </a: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华文楷体"/>
              </a:rPr>
              <a:t>).</a:t>
            </a:r>
            <a:r>
              <a:rPr b="0" lang="en-US" sz="2000" spc="-1" strike="noStrike">
                <a:solidFill>
                  <a:srgbClr val="4e3b30"/>
                </a:solidFill>
                <a:latin typeface="Times New Roman"/>
                <a:ea typeface="华文楷体"/>
              </a:rPr>
              <a:t> </a:t>
            </a: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华文楷体"/>
              </a:rPr>
              <a:t>Для трассировки требуются вызовы </a:t>
            </a:r>
            <a:r>
              <a:rPr b="0" lang="en-US" sz="2000" spc="-1" strike="noStrike">
                <a:solidFill>
                  <a:srgbClr val="4e3b30"/>
                </a:solidFill>
                <a:latin typeface="Times New Roman"/>
                <a:ea typeface="华文楷体"/>
              </a:rPr>
              <a:t>VT_initialize() </a:t>
            </a: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华文楷体"/>
              </a:rPr>
              <a:t>и</a:t>
            </a:r>
            <a:r>
              <a:rPr b="0" lang="en-US" sz="2000" spc="-1" strike="noStrike">
                <a:solidFill>
                  <a:srgbClr val="4e3b30"/>
                </a:solidFill>
                <a:latin typeface="Times New Roman"/>
                <a:ea typeface="华文楷体"/>
              </a:rPr>
              <a:t> VT_finalize()</a:t>
            </a: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华文楷体"/>
              </a:rPr>
              <a:t>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华文楷体"/>
              </a:rPr>
              <a:t>«Фолдинг» (сокрытие информации) позволяет уменьшить количество трассировочной информации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107640" y="1197000"/>
            <a:ext cx="88916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华文楷体"/>
              </a:rPr>
              <a:t>Компиляторная инструментовка запускается ключами: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Times New Roman"/>
                <a:ea typeface="华文楷体"/>
              </a:rPr>
              <a:t>Компиляторы </a:t>
            </a:r>
            <a:r>
              <a:rPr b="1" lang="en-US" sz="2000" spc="-1" strike="noStrike">
                <a:solidFill>
                  <a:srgbClr val="4e3b30"/>
                </a:solidFill>
                <a:latin typeface="Times New Roman"/>
                <a:ea typeface="华文楷体"/>
              </a:rPr>
              <a:t>Intel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Courier New"/>
                <a:ea typeface="华文楷体"/>
              </a:rPr>
              <a:t>-tcollect</a:t>
            </a:r>
            <a:r>
              <a:rPr b="0" lang="en-US" sz="2000" spc="-1" strike="noStrike">
                <a:solidFill>
                  <a:srgbClr val="4e3b30"/>
                </a:solidFill>
                <a:latin typeface="Times New Roman"/>
                <a:ea typeface="华文楷体"/>
              </a:rPr>
              <a:t> </a:t>
            </a:r>
            <a:r>
              <a:rPr b="0" lang="en-US" sz="2000" spc="-1" strike="noStrike">
                <a:solidFill>
                  <a:srgbClr val="4e3b30"/>
                </a:solidFill>
                <a:latin typeface="Courier New"/>
                <a:ea typeface="华文楷体"/>
              </a:rPr>
              <a:t> [=</a:t>
            </a:r>
            <a:r>
              <a:rPr b="0" lang="ru-RU" sz="2000" spc="-1" strike="noStrike">
                <a:solidFill>
                  <a:srgbClr val="4e3b30"/>
                </a:solidFill>
                <a:latin typeface="Courier New"/>
                <a:ea typeface="华文楷体"/>
              </a:rPr>
              <a:t>библиотека</a:t>
            </a:r>
            <a:r>
              <a:rPr b="0" lang="en-US" sz="2000" spc="-1" strike="noStrike">
                <a:solidFill>
                  <a:srgbClr val="4e3b30"/>
                </a:solidFill>
                <a:latin typeface="Courier New"/>
                <a:ea typeface="华文楷体"/>
              </a:rPr>
              <a:t>]</a:t>
            </a:r>
            <a:r>
              <a:rPr b="0" lang="en-US" sz="2000" spc="-1" strike="noStrike">
                <a:solidFill>
                  <a:srgbClr val="4e3b30"/>
                </a:solidFill>
                <a:latin typeface="Times New Roman"/>
                <a:ea typeface="华文楷体"/>
              </a:rPr>
              <a:t>(Linux)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Courier New"/>
                <a:ea typeface="华文楷体"/>
              </a:rPr>
              <a:t>/Qtcollect  [=</a:t>
            </a:r>
            <a:r>
              <a:rPr b="0" lang="ru-RU" sz="2000" spc="-1" strike="noStrike">
                <a:solidFill>
                  <a:srgbClr val="4e3b30"/>
                </a:solidFill>
                <a:latin typeface="Courier New"/>
                <a:ea typeface="华文楷体"/>
              </a:rPr>
              <a:t>библиотека</a:t>
            </a:r>
            <a:r>
              <a:rPr b="0" lang="en-US" sz="2000" spc="-1" strike="noStrike">
                <a:solidFill>
                  <a:srgbClr val="4e3b30"/>
                </a:solidFill>
                <a:latin typeface="Courier New"/>
                <a:ea typeface="华文楷体"/>
              </a:rPr>
              <a:t>]</a:t>
            </a:r>
            <a:r>
              <a:rPr b="0" lang="en-US" sz="2000" spc="-1" strike="noStrike">
                <a:solidFill>
                  <a:srgbClr val="4e3b30"/>
                </a:solidFill>
                <a:latin typeface="Times New Roman"/>
                <a:ea typeface="华文楷体"/>
              </a:rPr>
              <a:t> (Windows)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Times New Roman"/>
                <a:ea typeface="华文楷体"/>
              </a:rPr>
              <a:t>Компиляторы </a:t>
            </a:r>
            <a:r>
              <a:rPr b="1" lang="en-US" sz="2000" spc="-1" strike="noStrike">
                <a:solidFill>
                  <a:srgbClr val="4e3b30"/>
                </a:solidFill>
                <a:latin typeface="Times New Roman"/>
                <a:ea typeface="华文楷体"/>
              </a:rPr>
              <a:t>GCC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Courier New"/>
                <a:ea typeface="华文楷体"/>
              </a:rPr>
              <a:t>-finstrument-function </a:t>
            </a:r>
            <a:r>
              <a:rPr b="0" lang="en-US" sz="2000" spc="-1" strike="noStrike">
                <a:solidFill>
                  <a:srgbClr val="4e3b30"/>
                </a:solidFill>
                <a:latin typeface="Times New Roman"/>
                <a:ea typeface="华文楷体"/>
              </a:rPr>
              <a:t>(Linux)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107640" y="1197000"/>
            <a:ext cx="88916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Times New Roman"/>
                <a:ea typeface="华文楷体"/>
              </a:rPr>
              <a:t>Бинарная инструментовка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Courier New"/>
                <a:ea typeface="华文楷体"/>
              </a:rPr>
              <a:t>itcpin</a:t>
            </a:r>
            <a:r>
              <a:rPr b="0" lang="en-US" sz="2000" spc="-1" strike="noStrike">
                <a:solidFill>
                  <a:srgbClr val="4e3b30"/>
                </a:solidFill>
                <a:latin typeface="Times New Roman"/>
                <a:ea typeface="华文楷体"/>
              </a:rPr>
              <a:t> </a:t>
            </a: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华文楷体"/>
              </a:rPr>
              <a:t>выполняет подстановку библиотек </a:t>
            </a:r>
            <a:r>
              <a:rPr b="0" lang="en-US" sz="2000" spc="-1" strike="noStrike">
                <a:solidFill>
                  <a:srgbClr val="4e3b30"/>
                </a:solidFill>
                <a:latin typeface="Times New Roman"/>
                <a:ea typeface="华文楷体"/>
              </a:rPr>
              <a:t>ITC, </a:t>
            </a: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华文楷体"/>
              </a:rPr>
              <a:t>их инициализацию, запись событий входа в функции и выхода из них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Courier New"/>
                <a:ea typeface="华文楷体"/>
              </a:rPr>
              <a:t>itcpin [&lt;</a:t>
            </a:r>
            <a:r>
              <a:rPr b="0" lang="ru-RU" sz="2000" spc="-1" strike="noStrike">
                <a:solidFill>
                  <a:srgbClr val="4e3b30"/>
                </a:solidFill>
                <a:latin typeface="Courier New"/>
                <a:ea typeface="华文楷体"/>
              </a:rPr>
              <a:t>ключи </a:t>
            </a:r>
            <a:r>
              <a:rPr b="0" lang="en-US" sz="2000" spc="-1" strike="noStrike">
                <a:solidFill>
                  <a:srgbClr val="4e3b30"/>
                </a:solidFill>
                <a:latin typeface="Courier New"/>
                <a:ea typeface="华文楷体"/>
              </a:rPr>
              <a:t>ITC&gt;] -- &lt;</a:t>
            </a:r>
            <a:r>
              <a:rPr b="0" lang="ru-RU" sz="2000" spc="-1" strike="noStrike">
                <a:solidFill>
                  <a:srgbClr val="4e3b30"/>
                </a:solidFill>
                <a:latin typeface="Courier New"/>
                <a:ea typeface="华文楷体"/>
              </a:rPr>
              <a:t>командная строка запуска приложения</a:t>
            </a:r>
            <a:r>
              <a:rPr b="0" lang="en-US" sz="2000" spc="-1" strike="noStrike">
                <a:solidFill>
                  <a:srgbClr val="4e3b30"/>
                </a:solidFill>
                <a:latin typeface="Courier New"/>
                <a:ea typeface="华文楷体"/>
              </a:rPr>
              <a:t>&gt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华文楷体"/>
              </a:rPr>
              <a:t>Если ключи не указаны, утилита выполняет проверку возможности инструментовки файла и определение способа такой инструментовки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华文楷体"/>
              </a:rPr>
              <a:t>Ключ </a:t>
            </a:r>
            <a:r>
              <a:rPr b="0" lang="ru-RU" sz="2000" spc="-1" strike="noStrike">
                <a:solidFill>
                  <a:srgbClr val="4e3b30"/>
                </a:solidFill>
                <a:latin typeface="Courier New"/>
                <a:ea typeface="华文楷体"/>
              </a:rPr>
              <a:t>--</a:t>
            </a:r>
            <a:r>
              <a:rPr b="0" lang="en-US" sz="2000" spc="-1" strike="noStrike">
                <a:solidFill>
                  <a:srgbClr val="4e3b30"/>
                </a:solidFill>
                <a:latin typeface="Courier New"/>
                <a:ea typeface="华文楷体"/>
              </a:rPr>
              <a:t>list</a:t>
            </a:r>
            <a:r>
              <a:rPr b="0" lang="en-US" sz="2000" spc="-1" strike="noStrike">
                <a:solidFill>
                  <a:srgbClr val="4e3b30"/>
                </a:solidFill>
                <a:latin typeface="Times New Roman"/>
                <a:ea typeface="华文楷体"/>
              </a:rPr>
              <a:t> </a:t>
            </a: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华文楷体"/>
              </a:rPr>
              <a:t>позволяет определить функции в исполняемом файле. Результат записывается в формате: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Courier New"/>
                <a:ea typeface="华文楷体"/>
              </a:rPr>
              <a:t>&lt;</a:t>
            </a:r>
            <a:r>
              <a:rPr b="0" lang="ru-RU" sz="2000" spc="-1" strike="noStrike">
                <a:solidFill>
                  <a:srgbClr val="4e3b30"/>
                </a:solidFill>
                <a:latin typeface="Courier New"/>
                <a:ea typeface="华文楷体"/>
              </a:rPr>
              <a:t>имя бинарного файла</a:t>
            </a:r>
            <a:r>
              <a:rPr b="0" lang="en-US" sz="2000" spc="-1" strike="noStrike">
                <a:solidFill>
                  <a:srgbClr val="4e3b30"/>
                </a:solidFill>
                <a:latin typeface="Courier New"/>
                <a:ea typeface="华文楷体"/>
              </a:rPr>
              <a:t>&gt;:&lt;</a:t>
            </a:r>
            <a:r>
              <a:rPr b="0" lang="ru-RU" sz="2000" spc="-1" strike="noStrike">
                <a:solidFill>
                  <a:srgbClr val="4e3b30"/>
                </a:solidFill>
                <a:latin typeface="Courier New"/>
                <a:ea typeface="华文楷体"/>
              </a:rPr>
              <a:t>имя исходного файла</a:t>
            </a:r>
            <a:r>
              <a:rPr b="0" lang="en-US" sz="2000" spc="-1" strike="noStrike">
                <a:solidFill>
                  <a:srgbClr val="4e3b30"/>
                </a:solidFill>
                <a:latin typeface="Courier New"/>
                <a:ea typeface="华文楷体"/>
              </a:rPr>
              <a:t>&gt;:&lt;</a:t>
            </a:r>
            <a:r>
              <a:rPr b="0" lang="ru-RU" sz="2000" spc="-1" strike="noStrike">
                <a:solidFill>
                  <a:srgbClr val="4e3b30"/>
                </a:solidFill>
                <a:latin typeface="Courier New"/>
                <a:ea typeface="华文楷体"/>
              </a:rPr>
              <a:t>имя функции</a:t>
            </a:r>
            <a:r>
              <a:rPr b="0" lang="en-US" sz="2000" spc="-1" strike="noStrike">
                <a:solidFill>
                  <a:srgbClr val="4e3b30"/>
                </a:solidFill>
                <a:latin typeface="Courier New"/>
                <a:ea typeface="华文楷体"/>
              </a:rPr>
              <a:t>&gt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107640" y="1197000"/>
            <a:ext cx="88916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Times New Roman"/>
                <a:ea typeface="华文楷体"/>
              </a:rPr>
              <a:t>Трассировка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华文楷体"/>
              </a:rPr>
              <a:t>Ключ </a:t>
            </a:r>
            <a:r>
              <a:rPr b="0" lang="ru-RU" sz="2000" spc="-1" strike="noStrike">
                <a:solidFill>
                  <a:srgbClr val="4e3b30"/>
                </a:solidFill>
                <a:latin typeface="Courier New"/>
                <a:ea typeface="华文楷体"/>
              </a:rPr>
              <a:t>--</a:t>
            </a:r>
            <a:r>
              <a:rPr b="0" lang="en-US" sz="2000" spc="-1" strike="noStrike">
                <a:solidFill>
                  <a:srgbClr val="4e3b30"/>
                </a:solidFill>
                <a:latin typeface="Courier New"/>
                <a:ea typeface="华文楷体"/>
              </a:rPr>
              <a:t>run</a:t>
            </a:r>
            <a:r>
              <a:rPr b="0" lang="en-US" sz="2000" spc="-1" strike="noStrike">
                <a:solidFill>
                  <a:srgbClr val="4e3b30"/>
                </a:solidFill>
                <a:latin typeface="Times New Roman"/>
                <a:ea typeface="华文楷体"/>
              </a:rPr>
              <a:t> </a:t>
            </a: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华文楷体"/>
              </a:rPr>
              <a:t>запускает приложение в режиме сбора статистики. По умолчанию, если в исполняемом файле содержатся вызовы </a:t>
            </a:r>
            <a:r>
              <a:rPr b="0" lang="en-US" sz="2000" spc="-1" strike="noStrike">
                <a:solidFill>
                  <a:srgbClr val="4e3b30"/>
                </a:solidFill>
                <a:latin typeface="Times New Roman"/>
                <a:ea typeface="华文楷体"/>
              </a:rPr>
              <a:t>MPI-</a:t>
            </a: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华文楷体"/>
              </a:rPr>
              <a:t>функций, подключается библиотека </a:t>
            </a:r>
            <a:r>
              <a:rPr b="0" lang="en-US" sz="2000" spc="-1" strike="noStrike">
                <a:solidFill>
                  <a:srgbClr val="4e3b30"/>
                </a:solidFill>
                <a:latin typeface="Times New Roman"/>
                <a:ea typeface="华文楷体"/>
              </a:rPr>
              <a:t>libVT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华文楷体"/>
              </a:rPr>
              <a:t>Ключ </a:t>
            </a:r>
            <a:r>
              <a:rPr b="0" lang="ru-RU" sz="2000" spc="-1" strike="noStrike">
                <a:solidFill>
                  <a:srgbClr val="4e3b30"/>
                </a:solidFill>
                <a:latin typeface="Courier New"/>
                <a:ea typeface="华文楷体"/>
              </a:rPr>
              <a:t>--</a:t>
            </a:r>
            <a:r>
              <a:rPr b="0" lang="en-US" sz="2000" spc="-1" strike="noStrike">
                <a:solidFill>
                  <a:srgbClr val="4e3b30"/>
                </a:solidFill>
                <a:latin typeface="Courier New"/>
                <a:ea typeface="华文楷体"/>
              </a:rPr>
              <a:t>insert</a:t>
            </a:r>
            <a:r>
              <a:rPr b="0" lang="en-US" sz="2000" spc="-1" strike="noStrike">
                <a:solidFill>
                  <a:srgbClr val="4e3b30"/>
                </a:solidFill>
                <a:latin typeface="Times New Roman"/>
                <a:ea typeface="华文楷体"/>
              </a:rPr>
              <a:t> </a:t>
            </a: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华文楷体"/>
              </a:rPr>
              <a:t>используется для подключения определённой библиотеки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华文楷体"/>
              </a:rPr>
              <a:t>На всех вычислительных узлах </a:t>
            </a:r>
            <a:r>
              <a:rPr b="0" lang="en-US" sz="2000" spc="-1" strike="noStrike">
                <a:solidFill>
                  <a:srgbClr val="4e3b30"/>
                </a:solidFill>
                <a:latin typeface="Times New Roman"/>
                <a:ea typeface="华文楷体"/>
              </a:rPr>
              <a:t>Collector </a:t>
            </a: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华文楷体"/>
              </a:rPr>
              <a:t>должен быть установлен в каталогах с одинаковым маршрутным именем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华文楷体"/>
              </a:rPr>
              <a:t>Ключ </a:t>
            </a:r>
            <a:r>
              <a:rPr b="0" lang="ru-RU" sz="2000" spc="-1" strike="noStrike">
                <a:solidFill>
                  <a:srgbClr val="4e3b30"/>
                </a:solidFill>
                <a:latin typeface="Courier New"/>
                <a:ea typeface="华文楷体"/>
              </a:rPr>
              <a:t>--</a:t>
            </a:r>
            <a:r>
              <a:rPr b="0" lang="en-US" sz="2000" spc="-1" strike="noStrike">
                <a:solidFill>
                  <a:srgbClr val="4e3b30"/>
                </a:solidFill>
                <a:latin typeface="Courier New"/>
                <a:ea typeface="华文楷体"/>
              </a:rPr>
              <a:t>profile</a:t>
            </a:r>
            <a:r>
              <a:rPr b="0" lang="en-US" sz="2000" spc="-1" strike="noStrike">
                <a:solidFill>
                  <a:srgbClr val="4e3b30"/>
                </a:solidFill>
                <a:latin typeface="Times New Roman"/>
                <a:ea typeface="华文楷体"/>
              </a:rPr>
              <a:t> </a:t>
            </a: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华文楷体"/>
              </a:rPr>
              <a:t>используется для профилирования функций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 txBox="1"/>
          <p:nvPr/>
        </p:nvSpPr>
        <p:spPr>
          <a:xfrm>
            <a:off x="107640" y="1197000"/>
            <a:ext cx="88916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Times New Roman"/>
                <a:ea typeface="华文楷体"/>
              </a:rPr>
              <a:t>Сбор статистики в «облегчённом» режиме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华文楷体"/>
              </a:rPr>
              <a:t>Установка переменных окружения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Courier New"/>
                <a:ea typeface="华文楷体"/>
              </a:rPr>
              <a:t>VT_STATISTICS=ON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Courier New"/>
                <a:ea typeface="华文楷体"/>
              </a:rPr>
              <a:t>VT_PROCESS=OFF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华文楷体"/>
              </a:rPr>
              <a:t>позволяет собирать статистику в «облегчённом» режиме</a:t>
            </a:r>
            <a:r>
              <a:rPr b="0" lang="en-US" sz="2000" spc="-1" strike="noStrike">
                <a:solidFill>
                  <a:srgbClr val="4e3b30"/>
                </a:solidFill>
                <a:latin typeface="Times New Roman"/>
                <a:ea typeface="华文楷体"/>
              </a:rPr>
              <a:t>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华文楷体"/>
              </a:rPr>
              <a:t>Статистика сохраняется в </a:t>
            </a:r>
            <a:r>
              <a:rPr b="1" lang="en-US" sz="2000" spc="-1" strike="noStrike">
                <a:solidFill>
                  <a:srgbClr val="4e3b30"/>
                </a:solidFill>
                <a:latin typeface="Times New Roman"/>
                <a:ea typeface="华文楷体"/>
              </a:rPr>
              <a:t>STF-</a:t>
            </a: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华文楷体"/>
              </a:rPr>
              <a:t>файле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-360" y="1125000"/>
            <a:ext cx="88916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华文楷体"/>
              </a:rPr>
              <a:t>Каждая строка содержит: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华文楷体"/>
              </a:rPr>
              <a:t>Поток или процесс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华文楷体"/>
              </a:rPr>
              <a:t>Функция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华文楷体"/>
              </a:rPr>
              <a:t>Получатель сообщения</a:t>
            </a:r>
            <a:r>
              <a:rPr b="0" lang="en-US" sz="2000" spc="-1" strike="noStrike">
                <a:solidFill>
                  <a:srgbClr val="4e3b30"/>
                </a:solidFill>
                <a:latin typeface="Times New Roman"/>
                <a:ea typeface="华文楷体"/>
              </a:rPr>
              <a:t>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华文楷体"/>
              </a:rPr>
              <a:t>Размер сообщения</a:t>
            </a:r>
            <a:r>
              <a:rPr b="0" lang="en-US" sz="2000" spc="-1" strike="noStrike">
                <a:solidFill>
                  <a:srgbClr val="4e3b30"/>
                </a:solidFill>
                <a:latin typeface="Times New Roman"/>
                <a:ea typeface="华文楷体"/>
              </a:rPr>
              <a:t>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华文楷体"/>
              </a:rPr>
              <a:t>Количество процессов</a:t>
            </a:r>
            <a:r>
              <a:rPr b="0" lang="en-US" sz="2000" spc="-1" strike="noStrike">
                <a:solidFill>
                  <a:srgbClr val="4e3b30"/>
                </a:solidFill>
                <a:latin typeface="Times New Roman"/>
                <a:ea typeface="华文楷体"/>
              </a:rPr>
              <a:t>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华文楷体"/>
              </a:rPr>
              <a:t>Собирается следующая статистика: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华文楷体"/>
              </a:rPr>
              <a:t>Количество обменов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华文楷体"/>
              </a:rPr>
              <a:t>Минимальное время выполнения, исключая время вызываемых функций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华文楷体"/>
              </a:rPr>
              <a:t>Максимальное время выполнения, исключая время вызываемых функций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华文楷体"/>
              </a:rPr>
              <a:t>Суммарное время выполнения, исключая время вызываемых функций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华文楷体"/>
              </a:rPr>
              <a:t>Минимальное время выполнения, включая время вызываемых функций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华文楷体"/>
              </a:rPr>
              <a:t>Максимальное время выполнения, включая время вызываемых функций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华文楷体"/>
              </a:rPr>
              <a:t>Суммарное время выполнения, включая время вызываемых функций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华文楷体"/>
              </a:rPr>
              <a:t>В поле получателя сообщения записывается: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Courier New"/>
                <a:ea typeface="华文楷体"/>
              </a:rPr>
              <a:t>0xffffffff</a:t>
            </a:r>
            <a:r>
              <a:rPr b="0" lang="en-US" sz="2000" spc="-1" strike="noStrike">
                <a:solidFill>
                  <a:srgbClr val="4e3b30"/>
                </a:solidFill>
                <a:latin typeface="Times New Roman"/>
                <a:ea typeface="华文楷体"/>
              </a:rPr>
              <a:t> </a:t>
            </a: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华文楷体"/>
              </a:rPr>
              <a:t>для операций с файлами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Courier New"/>
                <a:ea typeface="华文楷体"/>
              </a:rPr>
              <a:t>0xfffffffe</a:t>
            </a:r>
            <a:r>
              <a:rPr b="0" lang="en-US" sz="2000" spc="-1" strike="noStrike">
                <a:solidFill>
                  <a:srgbClr val="4e3b30"/>
                </a:solidFill>
                <a:latin typeface="Times New Roman"/>
                <a:ea typeface="华文楷体"/>
              </a:rPr>
              <a:t> </a:t>
            </a: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华文楷体"/>
              </a:rPr>
              <a:t>для коллективных операций</a:t>
            </a:r>
            <a:r>
              <a:rPr b="0" lang="en-US" sz="2000" spc="-1" strike="noStrike">
                <a:solidFill>
                  <a:srgbClr val="4e3b30"/>
                </a:solidFill>
                <a:latin typeface="Times New Roman"/>
                <a:ea typeface="华文楷体"/>
              </a:rPr>
              <a:t>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TextBox 4"/>
          <p:cNvSpPr/>
          <p:nvPr/>
        </p:nvSpPr>
        <p:spPr>
          <a:xfrm>
            <a:off x="2562840" y="115920"/>
            <a:ext cx="3285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"/>
          <p:cNvSpPr/>
          <p:nvPr/>
        </p:nvSpPr>
        <p:spPr>
          <a:xfrm>
            <a:off x="262080" y="1927080"/>
            <a:ext cx="8621640" cy="26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ая характеристик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l® Trace Analyzer and Collector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l® Trace Collector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чётч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ка коррект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гнатуры ошиб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струментовка, определённая пользовател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-360" y="1125000"/>
            <a:ext cx="88916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华文楷体"/>
              </a:rPr>
              <a:t>В поле «Сообщение» записывается: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Courier New"/>
                <a:ea typeface="华文楷体"/>
              </a:rPr>
              <a:t>0xffffffff</a:t>
            </a:r>
            <a:r>
              <a:rPr b="0" lang="en-US" sz="2000" spc="-1" strike="noStrike">
                <a:solidFill>
                  <a:srgbClr val="4e3b30"/>
                </a:solidFill>
                <a:latin typeface="Times New Roman"/>
                <a:ea typeface="华文楷体"/>
              </a:rPr>
              <a:t> </a:t>
            </a: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华文楷体"/>
              </a:rPr>
              <a:t>для операций, не связанных с пересылкой сообщений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华文楷体"/>
              </a:rPr>
              <a:t>   </a:t>
            </a: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华文楷体"/>
              </a:rPr>
              <a:t>(например, не функция </a:t>
            </a:r>
            <a:r>
              <a:rPr b="0" lang="en-US" sz="2000" spc="-1" strike="noStrike">
                <a:solidFill>
                  <a:srgbClr val="4e3b30"/>
                </a:solidFill>
                <a:latin typeface="Times New Roman"/>
                <a:ea typeface="华文楷体"/>
              </a:rPr>
              <a:t>MPI, MPI_Comm_rank </a:t>
            </a: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华文楷体"/>
              </a:rPr>
              <a:t>и т.д.)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华文楷体"/>
              </a:rPr>
              <a:t>В поле «Количество процессов-участников» записывается отрицательное значение, если сообщение принимается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5" name=""/>
          <p:cNvGraphicFramePr/>
          <p:nvPr/>
        </p:nvGraphicFramePr>
        <p:xfrm>
          <a:off x="468360" y="1268280"/>
          <a:ext cx="7632720" cy="5400720"/>
        </p:xfrm>
        <a:graphic>
          <a:graphicData uri="http://schemas.openxmlformats.org/drawingml/2006/table">
            <a:tbl>
              <a:tblPr/>
              <a:tblGrid>
                <a:gridCol w="3255840"/>
                <a:gridCol w="4376880"/>
              </a:tblGrid>
              <a:tr h="360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ункц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аписывается при сборе статисти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Calibri"/>
                        </a:rPr>
                        <a:t>MPI_Barr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Calibri"/>
                        </a:rPr>
                        <a:t>MPI_Bca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Число рассылаемых байт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Calibri"/>
                        </a:rPr>
                        <a:t>MPI_Gathe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Число отправленных байт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Calibri"/>
                        </a:rPr>
                        <a:t>MPI_Gatherv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Число отправленных байт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Calibri"/>
                        </a:rPr>
                        <a:t>MPI_Scat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Число полученных байт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Calibri"/>
                        </a:rPr>
                        <a:t>MPI_Scatter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Число полученных байт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Calibri"/>
                        </a:rPr>
                        <a:t>MPI_Allgath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Число отправленных+полученных байт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Calibri"/>
                        </a:rPr>
                        <a:t>MPI_Allgather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Число отправленных+полученных байт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Calibri"/>
                        </a:rPr>
                        <a:t>MPI_Allto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Число отправленных+полученных байт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Calibri"/>
                        </a:rPr>
                        <a:t>MPI_Alltoall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Число отправленных+полученных байт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Calibri"/>
                        </a:rPr>
                        <a:t>MPI_Reduc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Число отправленных байт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Calibri"/>
                        </a:rPr>
                        <a:t>MPI_Allreduc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Число отправленных+полученных байт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Calibri"/>
                        </a:rPr>
                        <a:t>MPI_Reduce_Scat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Число отправленных+полученных байт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Calibri"/>
                        </a:rPr>
                        <a:t>MPI_Sca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Число отправленных+полученных байт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6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 txBox="1"/>
          <p:nvPr/>
        </p:nvSpPr>
        <p:spPr>
          <a:xfrm>
            <a:off x="107640" y="1197000"/>
            <a:ext cx="88916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Times New Roman"/>
                <a:ea typeface="华文楷体"/>
              </a:rPr>
              <a:t>Сбор статистики с привязкой к исходному коду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华文楷体"/>
              </a:rPr>
              <a:t>Для сбора статистики с привязкой к исходному коду необходимо выполнить компиляцию с</a:t>
            </a:r>
            <a:r>
              <a:rPr b="0" lang="en-US" sz="2000" spc="-1" strike="noStrike">
                <a:solidFill>
                  <a:srgbClr val="4e3b30"/>
                </a:solidFill>
                <a:latin typeface="Times New Roman"/>
                <a:ea typeface="华文楷体"/>
              </a:rPr>
              <a:t> </a:t>
            </a: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华文楷体"/>
              </a:rPr>
              <a:t>ключом генерации отладочной информации: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Courier New"/>
                <a:ea typeface="华文楷体"/>
              </a:rPr>
              <a:t>mpicc -g -c app.c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Courier New"/>
                <a:ea typeface="华文楷体"/>
              </a:rPr>
              <a:t>mpif77 -g -c app.f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华文楷体"/>
              </a:rPr>
              <a:t>Перед запуском программы следует установить значение переменной окружения </a:t>
            </a:r>
            <a:r>
              <a:rPr b="0" lang="en-US" sz="2000" spc="-1" strike="noStrike">
                <a:solidFill>
                  <a:srgbClr val="4e3b30"/>
                </a:solidFill>
                <a:latin typeface="Times New Roman"/>
                <a:ea typeface="华文楷体"/>
              </a:rPr>
              <a:t>VT_PCTRACE </a:t>
            </a: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华文楷体"/>
              </a:rPr>
              <a:t>равным целому положительному числу (например, 5)</a:t>
            </a:r>
            <a:r>
              <a:rPr b="0" lang="en-US" sz="2000" spc="-1" strike="noStrike">
                <a:solidFill>
                  <a:srgbClr val="4e3b30"/>
                </a:solidFill>
                <a:latin typeface="Times New Roman"/>
                <a:ea typeface="华文楷体"/>
              </a:rPr>
              <a:t>.</a:t>
            </a: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华文楷体"/>
              </a:rPr>
              <a:t> Другой способ – указать параметры трассировки в конфигурационном файле: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Courier New"/>
                <a:ea typeface="华文楷体"/>
              </a:rPr>
              <a:t># trace 4 call levels whenever MPI is used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Courier New"/>
                <a:ea typeface="华文楷体"/>
              </a:rPr>
              <a:t>ACTIVITY MPI 4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Courier New"/>
                <a:ea typeface="华文楷体"/>
              </a:rPr>
              <a:t># trace one call level in all routines not mentioned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Courier New"/>
                <a:ea typeface="华文楷体"/>
              </a:rPr>
              <a:t># explicitly; could also be for example, PCTRACE 5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Courier New"/>
                <a:ea typeface="华文楷体"/>
              </a:rPr>
              <a:t>PCTRACE ON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Прямоугольник 3"/>
          <p:cNvSpPr/>
          <p:nvPr/>
        </p:nvSpPr>
        <p:spPr>
          <a:xfrm>
            <a:off x="3214800" y="2349360"/>
            <a:ext cx="2702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четч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107640" y="1197000"/>
            <a:ext cx="88916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Times New Roman"/>
                <a:ea typeface="华文楷体"/>
              </a:rPr>
              <a:t>Сбор данных о производительности процессора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Times New Roman"/>
                <a:ea typeface="华文楷体"/>
              </a:rPr>
              <a:t>PAPI (Performance Application Programming Interface) – </a:t>
            </a: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华文楷体"/>
              </a:rPr>
              <a:t>интерфейс, позволяющий собирать статистику с аппаратных счётчиков и системную статистику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华文楷体"/>
              </a:rPr>
              <a:t>Поддержка </a:t>
            </a:r>
            <a:r>
              <a:rPr b="0" lang="en-US" sz="2000" spc="-1" strike="noStrike">
                <a:solidFill>
                  <a:srgbClr val="4e3b30"/>
                </a:solidFill>
                <a:latin typeface="Times New Roman"/>
                <a:ea typeface="华文楷体"/>
              </a:rPr>
              <a:t>PAPI </a:t>
            </a: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华文楷体"/>
              </a:rPr>
              <a:t>реализована поверх </a:t>
            </a:r>
            <a:r>
              <a:rPr b="0" lang="en-US" sz="2000" spc="-1" strike="noStrike">
                <a:solidFill>
                  <a:srgbClr val="4e3b30"/>
                </a:solidFill>
                <a:latin typeface="Times New Roman"/>
                <a:ea typeface="华文楷体"/>
              </a:rPr>
              <a:t>ITC – </a:t>
            </a: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华文楷体"/>
              </a:rPr>
              <a:t>в файле </a:t>
            </a:r>
            <a:r>
              <a:rPr b="0" lang="en-US" sz="2000" spc="-1" strike="noStrike">
                <a:solidFill>
                  <a:srgbClr val="4e3b30"/>
                </a:solidFill>
                <a:latin typeface="Times New Roman"/>
                <a:ea typeface="华文楷体"/>
              </a:rPr>
              <a:t>VT_sample.c</a:t>
            </a: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华文楷体"/>
              </a:rPr>
              <a:t>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华文楷体"/>
              </a:rPr>
              <a:t>Сбор статистики с аппаратных счётчиков включается с помощью опции конфигурации: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Courier New"/>
                <a:ea typeface="华文楷体"/>
              </a:rPr>
              <a:t>COUNTER &lt;</a:t>
            </a:r>
            <a:r>
              <a:rPr b="0" lang="ru-RU" sz="2000" spc="-1" strike="noStrike">
                <a:solidFill>
                  <a:srgbClr val="4e3b30"/>
                </a:solidFill>
                <a:latin typeface="Courier New"/>
                <a:ea typeface="华文楷体"/>
              </a:rPr>
              <a:t>имя счётчика</a:t>
            </a:r>
            <a:r>
              <a:rPr b="0" lang="en-US" sz="2000" spc="-1" strike="noStrike">
                <a:solidFill>
                  <a:srgbClr val="4e3b30"/>
                </a:solidFill>
                <a:latin typeface="Courier New"/>
                <a:ea typeface="华文楷体"/>
              </a:rPr>
              <a:t>&gt; ON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华文楷体"/>
              </a:rPr>
              <a:t>В имени счётчика допускается использование метасимвола </a:t>
            </a:r>
            <a:r>
              <a:rPr b="0" lang="en-US" sz="2000" spc="-1" strike="noStrike">
                <a:solidFill>
                  <a:srgbClr val="4e3b30"/>
                </a:solidFill>
                <a:latin typeface="Times New Roman"/>
                <a:ea typeface="华文楷体"/>
              </a:rPr>
              <a:t>*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107640" y="1196640"/>
            <a:ext cx="889164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Times New Roman"/>
                <a:ea typeface="华文楷体"/>
              </a:rPr>
              <a:t>Системные счётчики (список неполон)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graphicFrame>
        <p:nvGraphicFramePr>
          <p:cNvPr id="351" name=""/>
          <p:cNvGraphicFramePr/>
          <p:nvPr/>
        </p:nvGraphicFramePr>
        <p:xfrm>
          <a:off x="539640" y="1628640"/>
          <a:ext cx="7921800" cy="4969080"/>
        </p:xfrm>
        <a:graphic>
          <a:graphicData uri="http://schemas.openxmlformats.org/drawingml/2006/table">
            <a:tbl>
              <a:tblPr/>
              <a:tblGrid>
                <a:gridCol w="1967040"/>
                <a:gridCol w="1523880"/>
                <a:gridCol w="4430880"/>
              </a:tblGrid>
              <a:tr h="765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звание счётч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Единицы измер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обираемая информ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RU_UTI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ек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ремя в режиме задач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RU_STIM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ек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ремя в режиме яд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RU_MAXR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ай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аксимальный размер резидентной ча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RU_IXR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ай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уммарный размер разделяемой памя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RU_MAJFL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#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шибки страни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RU_NSWAP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#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ыгрузк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RU_INBLOCK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#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лочные операции вво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RU_OUBLOCK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#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лочные операции выво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RU_MSGSN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#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тправленные сообщ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RU_MSGRCV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#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лученные сообщ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RU_NSIGNAL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#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лученные сигнал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2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107640" y="1196640"/>
            <a:ext cx="889164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Times New Roman"/>
                <a:ea typeface="华文楷体"/>
              </a:rPr>
              <a:t>Системные счётчики (локальные, для узла)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826920" y="1844640"/>
          <a:ext cx="7777440" cy="4622760"/>
        </p:xfrm>
        <a:graphic>
          <a:graphicData uri="http://schemas.openxmlformats.org/drawingml/2006/table">
            <a:tbl>
              <a:tblPr/>
              <a:tblGrid>
                <a:gridCol w="1700280"/>
                <a:gridCol w="1959120"/>
                <a:gridCol w="4118040"/>
              </a:tblGrid>
              <a:tr h="892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звание счётч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Единицы измер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обираемая информац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disk_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б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/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е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вод-вывод на дис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2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t_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б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/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е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етевой ввод-вывод (не включает транспортный уровень MPI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pu_ . . 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%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редняя доля процессорного времени всех процессоров, проведенного в . . 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pu_idl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%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. . .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ежиме просто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pu_sy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%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. . .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ежиме яд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pu_us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. . .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ежиме задач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6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>
            <a:off x="107640" y="1197000"/>
            <a:ext cx="88916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Times New Roman"/>
                <a:ea typeface="华文楷体"/>
              </a:rPr>
              <a:t>«Заглушки»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华文楷体"/>
              </a:rPr>
              <a:t>Заглушка – библиотека </a:t>
            </a:r>
            <a:r>
              <a:rPr b="0" lang="en-US" sz="2000" spc="-1" strike="noStrike">
                <a:solidFill>
                  <a:srgbClr val="4e3b30"/>
                </a:solidFill>
                <a:latin typeface="Times New Roman"/>
                <a:ea typeface="华文楷体"/>
              </a:rPr>
              <a:t>VTnull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Прямоугольник 3"/>
          <p:cNvSpPr/>
          <p:nvPr/>
        </p:nvSpPr>
        <p:spPr>
          <a:xfrm>
            <a:off x="1492560" y="2421000"/>
            <a:ext cx="6324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ка коррект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144360" y="1007640"/>
            <a:ext cx="8964720" cy="58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Проверка корректности включает: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</a:t>
            </a:r>
            <a:r>
              <a:rPr b="0" lang="ru-RU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проверку переносимости;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</a:t>
            </a:r>
            <a:r>
              <a:rPr b="0" lang="ru-RU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проверку нарушений стандарта </a:t>
            </a:r>
            <a:r>
              <a:rPr b="0" lang="en-US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MPI</a:t>
            </a:r>
            <a:r>
              <a:rPr b="0" lang="ru-RU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, не приводящие к немедленным фатальным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последствиям, </a:t>
            </a:r>
            <a:r>
              <a:rPr b="0" lang="en-US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но проявляющиеся при переходе на другие платформы или к другим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реализациям </a:t>
            </a:r>
            <a:r>
              <a:rPr b="0" lang="en-US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MPI</a:t>
            </a:r>
            <a:r>
              <a:rPr b="0" lang="ru-RU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</a:t>
            </a:r>
            <a:r>
              <a:rPr b="0" lang="ru-RU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проверку ошибок в среде исполнения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Проверка корректности реализована в библиотеке </a:t>
            </a:r>
            <a:r>
              <a:rPr b="0" lang="en-US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libVTmc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По умолчанию результаты проверки корректности не фиксируются. Включить запись можно установкой флага </a:t>
            </a:r>
            <a:r>
              <a:rPr b="0" lang="en-US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CHECK-TRACING </a:t>
            </a: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в файле конфигурации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Проверка корректности требует дополнительных ресурсов!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Проверка корректности реализована только для </a:t>
            </a:r>
            <a:r>
              <a:rPr b="1" lang="en-US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Intel® MPI </a:t>
            </a:r>
            <a:r>
              <a:rPr b="1" lang="en-US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Library!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360" name="Рисунок 4" descr="i.jpg"/>
          <p:cNvPicPr/>
          <p:nvPr/>
        </p:nvPicPr>
        <p:blipFill>
          <a:blip r:embed="rId1"/>
          <a:stretch/>
        </p:blipFill>
        <p:spPr>
          <a:xfrm>
            <a:off x="468360" y="4941720"/>
            <a:ext cx="1357200" cy="10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Прямоугольник 3"/>
          <p:cNvSpPr/>
          <p:nvPr/>
        </p:nvSpPr>
        <p:spPr>
          <a:xfrm>
            <a:off x="250920" y="1844640"/>
            <a:ext cx="8569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ая характеристика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l® Trace Analyzer and Collec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 txBox="1"/>
          <p:nvPr/>
        </p:nvSpPr>
        <p:spPr>
          <a:xfrm>
            <a:off x="144360" y="333360"/>
            <a:ext cx="896472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Как это делается: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1 вариант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При запуске использовать переменную окружения</a:t>
            </a:r>
            <a:r>
              <a:rPr b="0" lang="en-US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LD_PRELOAD (</a:t>
            </a:r>
            <a:r>
              <a:rPr b="0" lang="ru-RU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только </a:t>
            </a:r>
            <a:r>
              <a:rPr b="0" lang="en-US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Linux):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e3b30"/>
                </a:solidFill>
                <a:latin typeface="Courier New"/>
                <a:ea typeface="Courier New"/>
              </a:rPr>
              <a:t>mpiexec -genv LD_PRELOAD libVTmc.so -n ..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2</a:t>
            </a:r>
            <a:r>
              <a:rPr b="1" lang="ru-RU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вариант</a:t>
            </a:r>
            <a:r>
              <a:rPr b="1" lang="en-US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Бинарная инструментовка</a:t>
            </a:r>
            <a:r>
              <a:rPr b="0" lang="en-US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3</a:t>
            </a:r>
            <a:r>
              <a:rPr b="1" lang="ru-RU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вариант</a:t>
            </a:r>
            <a:r>
              <a:rPr b="1" lang="en-US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Пересборка приложения</a:t>
            </a:r>
            <a:r>
              <a:rPr b="0" lang="en-US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4</a:t>
            </a:r>
            <a:r>
              <a:rPr b="1" lang="ru-RU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вариант</a:t>
            </a:r>
            <a:r>
              <a:rPr b="1" lang="en-US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Использование </a:t>
            </a:r>
            <a:r>
              <a:rPr b="0" lang="en-US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ключа </a:t>
            </a:r>
            <a:r>
              <a:rPr b="0" lang="en-US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–check</a:t>
            </a:r>
            <a:r>
              <a:rPr b="0" lang="ru-RU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для </a:t>
            </a:r>
            <a:r>
              <a:rPr b="0" lang="en-US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mpiexec (</a:t>
            </a:r>
            <a:r>
              <a:rPr b="0" lang="ru-RU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только </a:t>
            </a:r>
            <a:r>
              <a:rPr b="0" lang="en-US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Intel</a:t>
            </a:r>
            <a:r>
              <a:rPr b="0" lang="ru-RU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®</a:t>
            </a:r>
            <a:r>
              <a:rPr b="0" lang="en-US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MPI)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144360" y="333360"/>
            <a:ext cx="896472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Для того, чтобы добавить результат в трассировочный файл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Установить значение переменной окружения При запуске использовать переменную окружения</a:t>
            </a:r>
            <a:r>
              <a:rPr b="0" lang="en-US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VT_CHECK_TRACING</a:t>
            </a:r>
            <a:r>
              <a:rPr b="0" lang="ru-RU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, например: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e3b30"/>
                </a:solidFill>
                <a:latin typeface="Courier New"/>
                <a:ea typeface="Courier New"/>
              </a:rPr>
              <a:t>mpiexec -genv LD_PRELOAD libVTmc.so -genv VT_CHECK_TRACING on -n ...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Прямоугольник 3"/>
          <p:cNvSpPr/>
          <p:nvPr/>
        </p:nvSpPr>
        <p:spPr>
          <a:xfrm>
            <a:off x="2136600" y="2371680"/>
            <a:ext cx="516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гнатуры ошиб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 txBox="1"/>
          <p:nvPr/>
        </p:nvSpPr>
        <p:spPr>
          <a:xfrm>
            <a:off x="144360" y="1052280"/>
            <a:ext cx="896472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Локальные ошибки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graphicFrame>
        <p:nvGraphicFramePr>
          <p:cNvPr id="365" name=""/>
          <p:cNvGraphicFramePr/>
          <p:nvPr/>
        </p:nvGraphicFramePr>
        <p:xfrm>
          <a:off x="250920" y="1625760"/>
          <a:ext cx="8640720" cy="5095800"/>
        </p:xfrm>
        <a:graphic>
          <a:graphicData uri="http://schemas.openxmlformats.org/drawingml/2006/table">
            <a:tbl>
              <a:tblPr/>
              <a:tblGrid>
                <a:gridCol w="4822560"/>
                <a:gridCol w="3818160"/>
              </a:tblGrid>
              <a:tr h="245880"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игнату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пис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LOCAL:EXIT:SIGN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цесс остановлен «фатальным» сигнало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LOCAL:EXIT:BEFORE_MPI_FINALIZ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цесс завершён без вызова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MPI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_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Finalize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(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LOCAL:MEMORY:OVERL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есколько операций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MPI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спользуют одну область памя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160"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LOCAL:MEMORY:ILLEGAL_MODIFICATIO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екорректная модификация дан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LOCAL:MEMORY:INACCESSIBL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уфер недоступе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320"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LOCAL:MEMORY:ILLEGAL_ACCES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екорректный доступ к памяти, уже используемой MP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LOCAL:MEMORY:INITIALIZ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верка распределённой памя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LOCAL:REQUEST:ILLEGAL_CALL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еправильная последовательность вызов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6560"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LOCAL:REQUEST:NOT_FREED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збыточное количество запросов или завершение программы с отложенными обмен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LOCAL:BUFFER:INSUFFICIENT_BUFFER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едостаточно памяти для буферизованной отправки сообщ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6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 txBox="1"/>
          <p:nvPr/>
        </p:nvSpPr>
        <p:spPr>
          <a:xfrm>
            <a:off x="144360" y="1052280"/>
            <a:ext cx="896472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Глобальные ошибки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8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9" name=""/>
          <p:cNvGraphicFramePr/>
          <p:nvPr/>
        </p:nvGraphicFramePr>
        <p:xfrm>
          <a:off x="324000" y="1641600"/>
          <a:ext cx="8569080" cy="4811760"/>
        </p:xfrm>
        <a:graphic>
          <a:graphicData uri="http://schemas.openxmlformats.org/drawingml/2006/table">
            <a:tbl>
              <a:tblPr/>
              <a:tblGrid>
                <a:gridCol w="4608360"/>
                <a:gridCol w="3960720"/>
              </a:tblGrid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игнатура ошиб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пис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9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GLOBAL:MSG/COLLECTIVE:DATATYPE:MISMATCH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есогласованность тип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9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GLOBAL:MSG/COLLECTIVE:DATA_TRANSMISSION_CORRUPTED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одификация данных во время передач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9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GLOBAL:MSG:PENDING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авершение программы до приёма всех сообще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GLOBAL:DEADLOCK:H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Цикл процессов, ожидающих друг друг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GLOBAL:DEADLOCK:NO_PROGRE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озможна блокиров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9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GLOBAL:COLLECTIVE:OPERATION_MISMAT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цессы участвуют в разных коллективных операц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9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GLOBAL:COLLECTIVE:SIZE_MISMAT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анных больше или меньше, чем должно бы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9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GLOBAL:COLLECTIVE:REDUCTION_OPERATION_MISMATCH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шибка в операции привед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9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GLOBAL:COLLECTIVE:INVALID_PARAMETER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еправильные параметры коллективной опер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0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Прямоугольник 3"/>
          <p:cNvSpPr/>
          <p:nvPr/>
        </p:nvSpPr>
        <p:spPr>
          <a:xfrm>
            <a:off x="826920" y="2060640"/>
            <a:ext cx="7561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струментовка, определённая пользователе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144360" y="333360"/>
            <a:ext cx="896472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Intel® Trace Collector</a:t>
            </a:r>
            <a:r>
              <a:rPr b="0" lang="en-US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позволяет пользователю описать процесс трассировки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Инструментовка выполняется на уровне исходного кода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Заголовочный файл </a:t>
            </a:r>
            <a:r>
              <a:rPr b="0" lang="en-US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VT.h </a:t>
            </a:r>
            <a:r>
              <a:rPr b="0" lang="ru-RU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для программ на </a:t>
            </a:r>
            <a:r>
              <a:rPr b="0" lang="en-US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C/C++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Включаемый файл </a:t>
            </a:r>
            <a:r>
              <a:rPr b="0" lang="en-US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VT.inc </a:t>
            </a:r>
            <a:r>
              <a:rPr b="0" lang="ru-RU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для программ на </a:t>
            </a:r>
            <a:r>
              <a:rPr b="0" lang="en-US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Fortran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Минимальный набор функций: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VT_initialize() – </a:t>
            </a:r>
            <a:r>
              <a:rPr b="0" lang="ru-RU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инициализация;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VT_getrank()</a:t>
            </a:r>
            <a:r>
              <a:rPr b="0" lang="ru-RU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– </a:t>
            </a:r>
            <a:r>
              <a:rPr b="0" lang="en-US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ID </a:t>
            </a:r>
            <a:r>
              <a:rPr b="0" lang="ru-RU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процесса;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VT_finalize()</a:t>
            </a:r>
            <a:r>
              <a:rPr b="0" lang="ru-RU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– завершение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216000" y="1052280"/>
            <a:ext cx="853272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Некоторые возможности пользовательской инструментовки: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Инициализация, управление, завершение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Определение и запись положения в исходном тексте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Определение и запись функций и регионов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Определение изменения состояния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Определение и запись перекрытия областей видимости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Определение групп процессов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Определение и запись счётчиков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Определение событий коммуникации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214200" y="428400"/>
            <a:ext cx="8715600" cy="602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l® Trace Analyzer and Collector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Intel® Trace Collector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Инструмент трассировки параллельных приложений, использующих технологию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Message Passing Interface (MPI)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, приложений, работающих с общей памятью, а также обычных (не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MPI)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приложений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Построен на основе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Vampirtrace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Intel® Trace Analyzer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Инструмент анализа и визуализации результатов трассировки параллельных приложений, использующих технологию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Message Passing Interface (MPI)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Графический интерфейс. Разнообразные виды анализа и графического представления его результатов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Многоплатформенность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Microsoft Windows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и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Linux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Совместимость с конкретной платформой можно проверить на сайте продуктов </a:t>
            </a:r>
            <a:r>
              <a:rPr b="0" lang="en-US" sz="2000" spc="-1" strike="noStrike" u="sng">
                <a:solidFill>
                  <a:srgbClr val="ad1f1f"/>
                </a:solidFill>
                <a:uFillTx/>
                <a:latin typeface="Times New Roman"/>
                <a:ea typeface="华文楷体"/>
                <a:hlinkClick r:id="rId1"/>
              </a:rPr>
              <a:t>http://www.intel.com/software/products/clust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华文楷体"/>
              </a:rPr>
              <a:t>Входят в состав </a:t>
            </a:r>
            <a:r>
              <a:rPr b="0" lang="en-US" sz="2000" spc="-1" strike="noStrike">
                <a:solidFill>
                  <a:srgbClr val="4e3b30"/>
                </a:solidFill>
                <a:latin typeface="Times New Roman"/>
                <a:ea typeface="华文楷体"/>
              </a:rPr>
              <a:t>Intel</a:t>
            </a: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华文楷体"/>
              </a:rPr>
              <a:t>®</a:t>
            </a:r>
            <a:r>
              <a:rPr b="0" lang="en-US" sz="2000" spc="-1" strike="noStrike">
                <a:solidFill>
                  <a:srgbClr val="4e3b30"/>
                </a:solidFill>
                <a:latin typeface="Times New Roman"/>
                <a:ea typeface="华文楷体"/>
              </a:rPr>
              <a:t> Cluster Studio XE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179280" y="1196640"/>
            <a:ext cx="8715600" cy="602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Трассировка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Intel® Trace Collector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перехватывает вызовы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MPI-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функций. Для каждой функции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MPI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имеется своя «обёртка»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wrapper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которая позволяет выполнять дополнительные проверки, не предусмотренные в стандартных реализациях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MPI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Прямоугольник 3"/>
          <p:cNvSpPr/>
          <p:nvPr/>
        </p:nvSpPr>
        <p:spPr>
          <a:xfrm>
            <a:off x="1905480" y="2349360"/>
            <a:ext cx="5603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l® Trace Collec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214200" y="428400"/>
            <a:ext cx="8715600" cy="602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Intel® Trace Analyzer and Collector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华文楷体"/>
              </a:rPr>
              <a:t>Трассировка выполняется с помощью инструментовки приложения, то есть внедрения в него обращений к функциям, которые собирают статистику по различным событиям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华文楷体"/>
              </a:rPr>
              <a:t>Виды инструментовки: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华文楷体"/>
              </a:rPr>
              <a:t>бинарная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华文楷体"/>
              </a:rPr>
              <a:t>компиляторная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华文楷体"/>
              </a:rPr>
              <a:t>на уровне исходного кода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华文楷体"/>
              </a:rPr>
              <a:t>При инструментовке на уровне исходного кода используется заголовочный файл </a:t>
            </a:r>
            <a:r>
              <a:rPr b="0" lang="en-US" sz="2000" spc="-1" strike="noStrike">
                <a:solidFill>
                  <a:srgbClr val="4e3b30"/>
                </a:solidFill>
                <a:latin typeface="Times New Roman"/>
                <a:ea typeface="华文楷体"/>
              </a:rPr>
              <a:t>VT.h (C/C++) </a:t>
            </a: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华文楷体"/>
              </a:rPr>
              <a:t>или включаемый файл </a:t>
            </a:r>
            <a:r>
              <a:rPr b="0" lang="en-US" sz="2000" spc="-1" strike="noStrike">
                <a:solidFill>
                  <a:srgbClr val="4e3b30"/>
                </a:solidFill>
                <a:latin typeface="Times New Roman"/>
                <a:ea typeface="华文楷体"/>
              </a:rPr>
              <a:t>VT.inc (Fortran)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华文楷体"/>
              </a:rPr>
              <a:t>При инструментовке любого вида используются библиотеки </a:t>
            </a:r>
            <a:r>
              <a:rPr b="0" lang="en-US" sz="2000" spc="-1" strike="noStrike">
                <a:solidFill>
                  <a:srgbClr val="4e3b30"/>
                </a:solidFill>
                <a:latin typeface="Times New Roman"/>
                <a:ea typeface="华文楷体"/>
              </a:rPr>
              <a:t>Intel® Trace Collector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8" name=""/>
          <p:cNvGraphicFramePr/>
          <p:nvPr/>
        </p:nvGraphicFramePr>
        <p:xfrm>
          <a:off x="826920" y="1341360"/>
          <a:ext cx="7417080" cy="5257800"/>
        </p:xfrm>
        <a:graphic>
          <a:graphicData uri="http://schemas.openxmlformats.org/drawingml/2006/table">
            <a:tbl>
              <a:tblPr/>
              <a:tblGrid>
                <a:gridCol w="3708720"/>
                <a:gridCol w="3708360"/>
              </a:tblGrid>
              <a:tr h="485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иблиоте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знач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libVTnu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«Заглушка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libV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рассировка MPI-приложений и SHMEM-приложе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2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libVTf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езопасная трассировка MPI-приложений и SHMEM-приложений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(результаты трассировки сохраняются даже после аварийного завершения приложения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libVTm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верка коррект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libVTc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рассировка распределённых приложе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2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VT_s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втоматическая трассировка счётчиков с PAPI и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getrus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9" name="Прямоугольник 4"/>
          <p:cNvSpPr/>
          <p:nvPr/>
        </p:nvSpPr>
        <p:spPr>
          <a:xfrm>
            <a:off x="762480" y="476280"/>
            <a:ext cx="56473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блиотеки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l® Trace Colle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1" name=""/>
          <p:cNvGraphicFramePr/>
          <p:nvPr/>
        </p:nvGraphicFramePr>
        <p:xfrm>
          <a:off x="1332000" y="1989000"/>
          <a:ext cx="6494400" cy="3127680"/>
        </p:xfrm>
        <a:graphic>
          <a:graphicData uri="http://schemas.openxmlformats.org/drawingml/2006/table">
            <a:tbl>
              <a:tblPr/>
              <a:tblGrid>
                <a:gridCol w="3247920"/>
                <a:gridCol w="3246480"/>
              </a:tblGrid>
              <a:tr h="378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тили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знач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tfto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еобразование файлов с результатами трассиров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4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xstftool/expandvtlog.p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еобразование трассировочных файлов в читаемый форм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itcp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рассировка бинарных файлов без перекомпиля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2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Прямоугольник 5"/>
          <p:cNvSpPr/>
          <p:nvPr/>
        </p:nvSpPr>
        <p:spPr>
          <a:xfrm>
            <a:off x="871560" y="476280"/>
            <a:ext cx="52023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илиты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l® Trace Colle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5T18:01:55Z</dcterms:created>
  <dc:creator>sergei</dc:creator>
  <dc:description/>
  <dc:language>en-US</dc:language>
  <cp:lastModifiedBy>sergei</cp:lastModifiedBy>
  <dcterms:modified xsi:type="dcterms:W3CDTF">2012-05-29T16:31:07Z</dcterms:modified>
  <cp:revision>261</cp:revision>
  <dc:subject/>
  <dc:title>Слайд 1</dc:title>
</cp:coreProperties>
</file>