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19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0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1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4C1B-3599-4AD8-BF3D-0BD1ADC7C2B3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46C1-121A-4D46-B044-B1351052BA3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246D-54B4-4922-8BEC-A1B9CC656E2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89080" y="982800"/>
            <a:ext cx="4721040" cy="35416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68480" y="5175360"/>
            <a:ext cx="47736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A313-1FEA-4591-BE74-A4775DC3439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887B-8E09-4319-830D-0B7B4C43879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14D2-F139-46F4-88BE-48CC6C7B36B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AE29-4CDB-4015-BA13-0D8EBE51C3A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414E-66B0-4DF8-BE26-3486062BAE5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C549-B5A6-48B7-B955-1C83379EA98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89080" y="982800"/>
            <a:ext cx="4721040" cy="354168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1068480" y="5175360"/>
            <a:ext cx="47736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4748-3045-43E0-BAD0-85B0051EA44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55DC-9AEE-4CA0-9C8F-E6769AB1070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35F8-3418-4EC8-8CEE-AEDD20774C2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4ED0-0E3A-4906-A84A-25E901041D9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89080" y="982800"/>
            <a:ext cx="4721040" cy="354168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1068480" y="5175360"/>
            <a:ext cx="47736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B4CA-160A-4BA1-AE28-4444EA3A16E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186F-88A2-45D5-91B6-5E61D7764CD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89080" y="982800"/>
            <a:ext cx="4721040" cy="354168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1068480" y="5175360"/>
            <a:ext cx="47736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A29F-064F-4AF3-BC2C-EE77168B11E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0CB8-ADB2-4C72-89FB-5322F4A6F56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C153-6E87-420A-BBB0-E9FDF9613BE2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3F9B-8CA2-4E5C-82B5-AA49C070F42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4682-651D-41B1-B3ED-1D8D9CA6E5D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89080" y="982800"/>
            <a:ext cx="4721040" cy="354168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1068480" y="5175360"/>
            <a:ext cx="47736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9C71-3C67-46B0-8B28-7C36298CF10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7711-84FC-4AC8-9814-5B8EF1E11D82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9080" y="982800"/>
            <a:ext cx="4721040" cy="35416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1068480" y="5175360"/>
            <a:ext cx="47736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FF1A-4AAD-46F8-ADDE-D02EA47680F2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642F-8899-4024-8336-4E7C3581297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89080" y="982800"/>
            <a:ext cx="4721040" cy="354168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1068480" y="5175360"/>
            <a:ext cx="47736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B2B5-23B2-416C-AD8E-D43CF4427E7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AA36-4523-4B84-8320-025AF6EE377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D298-BCD0-4A8B-A029-DB234397B5E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69EB-1451-48FC-893E-3D9A13BC338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1FAA-E42F-4B01-A72F-146F0747465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7A4B-5EF0-4D70-B3E7-40A4E8DFA1F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89080" y="982800"/>
            <a:ext cx="4721040" cy="354168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068480" y="5175360"/>
            <a:ext cx="47736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36FB-8E4E-4EDD-B0F2-021B001CBDC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B4C3-FC5B-4939-A0E0-8C8748528B3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2368-E7A5-42EC-B83A-0AACB3F76E0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13E6-A173-4B8A-8FE7-2F63C175B47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940D-288A-461A-AA9D-6E5FCC5D138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BA24-9F3C-47CD-BDB4-19544DF6FBD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645F-27CB-48CC-BFBF-4BF64E38A19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8A77-F854-4EF2-B9D4-0DB2457D71A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A8B3-37B1-4E2C-90DF-1D07D36CE2C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7A50-36AD-49B8-97A4-0CE8840B530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DBBA-4B44-4FB4-A867-6262BE37831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89080" y="982800"/>
            <a:ext cx="4721040" cy="35416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068480" y="5175360"/>
            <a:ext cx="47736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7825-6D44-4F27-AF38-5A6AA91B0D2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DE46-031C-4083-8031-DB6A87C7D34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D746-BF5A-4FB0-846A-5CA5705937E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E1A0-2C24-4A5C-8C00-D53D7E1A93A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790F-1AC3-4002-899F-C6075570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1A4E-22D6-4EC2-A65C-0FA5E04D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D65A-1095-4478-B5EC-3AD7F992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9B84-3C8D-47C4-8CFA-06254E6C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4CA6-2A6A-4B87-A715-BFABE840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85B6-F91F-486E-B1A3-BAEA64F1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C766-59EA-4BE7-A2B2-EC629B23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60A9-5DB6-4384-8E04-E72AC622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A615-19A3-4DCA-B475-5EF20B75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898F-36C7-459C-9CC5-9BCDB830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3825-B39E-46E4-B026-B1AB687A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137-6A21-46B5-84F9-0699F3E2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4229-C4B7-4679-B7C4-AD5EFC8F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ACE0-61DC-40BC-AAC1-5F114941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A255-09FA-45B4-9334-A2DBC884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47A8-65D6-47AC-8E0D-2F603507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B576-A90E-4365-92A9-C74F5B26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D0673-F201-4A61-BF22-40C482CB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22412-1CA0-4B37-A498-F759EB7F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5CF26-C78F-4B60-927F-FC2F92AD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66027-9DE1-493F-948A-195C199D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1D25F-56EF-4AB0-94C0-E6C026DB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6DE-037B-4D39-A8FB-1380B8F6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61287-F44E-495B-BAC2-A2FF01BE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22A64-7931-4D25-9E25-BFACF5B5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9A64B-47D5-4684-9A7F-308711BB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1EA37-F9E5-4FB9-BB54-CDBE08A0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0C2AD-6F70-47F4-83A4-61295CB3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FE10E-2F27-415E-8DBC-06A22D43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2F396-553E-4F67-925A-0B7A2930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BE377-57AD-4D16-B6EF-4F0859F2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8AF7C-DF5D-4485-913E-A0DFDDE8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7485E-934E-424F-9456-C561C5F3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FACE-67F0-425A-BD8F-2D9338C0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502A1-D414-4819-B6DA-584A7B5F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742BE-F950-4DE0-8F3C-63B4FC0B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69AE7-7057-4274-83F7-61C0DABF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FB367-D612-4327-9867-02FD5C11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435C6-12AF-4A80-8DA9-2214B64D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7C374-E12B-453F-9C95-2E689827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4030A-3D89-4238-8C26-AE240685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A806C-5B90-4303-B8A4-FAF4589C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57640-8E35-42B4-A6A4-A48B3702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1D520-E816-4CFC-8F70-AF7B05E0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D2F-2D94-48AB-A1BA-6802F62B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9F8EA-4EAB-40F6-B0F5-88E80E34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5EE7F-FDF3-40B9-887F-D81788A2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72AA8-FE86-4B44-A2DD-CB2B7B69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6B2C6-AB28-43AE-ABF0-DB1B50F5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BD959-026A-4868-9E71-C91A8877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F434C-05F3-47EA-B29E-1967DE12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6C076-5B16-49E7-ADFB-5F772EC4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A0D5D-E911-4B90-BE3F-A4D3266E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73D5A-0461-462C-8373-CD180DDC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2B2E1-109F-453A-BCA3-AC474474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A2F-B3E6-4790-8B1F-BEC02203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36D64-6E64-440B-A1F2-E7080670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959E8-6064-40E0-A619-102568BA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ECB05-C07B-491B-9527-764D4C3A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D62DF-0FF2-4C94-84B1-09988EB8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A3B6E-E501-4B42-B688-C816FF55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FDF9C-FB08-4173-B2D7-76B26021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6C3CC-D839-47C2-9A75-7755DADB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36A30-09F6-443D-97BE-3C2F66F6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6701D-14A6-4732-BCD4-A9F8485F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CFEDB-ACBB-443A-8D23-D5163076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B0D-9481-4442-8429-1FFFBB17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70795-3311-49B6-9F24-9DC55133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CDB66-7CF4-4A60-9B61-BC9F4952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57686-79B2-4816-93EE-6B9399D7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C6E-FF31-472F-A6B3-9D5D6B18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9F4D-877C-4201-9B3C-EB7C1B30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0837-35D9-41AE-BF53-3470EFE7FFE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FC60-E273-4820-A73C-E1E433D25BB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CAB6-0889-401D-BCE2-8C60D59F93A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C3DB-961A-4DEC-BBCF-662C3D83ABE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F843-C358-4134-95E4-236B719B211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11CD-EBFA-4565-8B57-40342617A22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13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16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19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380520" y="3500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С.А.Немнюгин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Санкт-Петербургский государственный университе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7" name="Прямоугольник 3"/>
          <p:cNvSpPr/>
          <p:nvPr/>
        </p:nvSpPr>
        <p:spPr>
          <a:xfrm>
            <a:off x="250920" y="4581360"/>
            <a:ext cx="86421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uster Tools. Основной курс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ия 2. Библиотек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. Intel® Math Kernel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14436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одуль быстрого преобразования Фурье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FFT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Fast Fourier Transform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ClusterFFT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ластерная реализация библиотеки быстрого преобразования Фурье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одуль поддержки решения дифференциальных уравнений в частных производных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TT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Trigonometric Transforms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PL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(Poisson Library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Optimization solvers (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од наименьших квадратов)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3"/>
          <p:cNvSpPr/>
          <p:nvPr/>
        </p:nvSpPr>
        <p:spPr>
          <a:xfrm>
            <a:off x="395280" y="220500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S - Basic Linear Algebra Subrout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4436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BLAS</a:t>
            </a:r>
            <a:r>
              <a:rPr b="0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Basic Linear Algebra Subroutin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труктура: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 уровень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: векторно-векторные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 уровень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: матрично-векторные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 уровень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: матрично-матричные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Форматы хранения матриц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лотный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матрица хранится в двумерном массиве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пакованный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используется для симметричных или треугольных матриц. Элементы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атрицы хранятся последовательно, по столбцам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енточный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- используется для ленточных матриц. Двумерный массив хранит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иагонали матрицы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08000" y="333360"/>
            <a:ext cx="8964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изводитель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81" name="Рисунок 3" descr="mkl_performance_blas01.png"/>
          <p:cNvPicPr/>
          <p:nvPr/>
        </p:nvPicPr>
        <p:blipFill>
          <a:blip r:embed="rId1"/>
          <a:stretch/>
        </p:blipFill>
        <p:spPr>
          <a:xfrm>
            <a:off x="0" y="1306440"/>
            <a:ext cx="914400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08000" y="333360"/>
            <a:ext cx="8964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изводитель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83" name="Рисунок 4" descr="mkl_performance_blas02.png"/>
          <p:cNvPicPr/>
          <p:nvPr/>
        </p:nvPicPr>
        <p:blipFill>
          <a:blip r:embed="rId1"/>
          <a:stretch/>
        </p:blipFill>
        <p:spPr>
          <a:xfrm>
            <a:off x="0" y="1370160"/>
            <a:ext cx="91440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44360" y="1052640"/>
            <a:ext cx="896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SparseBLA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сновные операции с разрежёнными векторами и матрицам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труктура: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 уровень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: операции с разрежёнными векторами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 уровень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: операции с разрежёнными матрицами и плотными векторами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 уровень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: операции с разрежёнными и плотными матрицам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знообразные форматы хранения матриц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08000" y="333360"/>
            <a:ext cx="8964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изводитель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86" name="Рисунок 3" descr="mkl_performance03.jpg"/>
          <p:cNvPicPr/>
          <p:nvPr/>
        </p:nvPicPr>
        <p:blipFill>
          <a:blip r:embed="rId1"/>
          <a:stretch/>
        </p:blipFill>
        <p:spPr>
          <a:xfrm>
            <a:off x="50760" y="1197000"/>
            <a:ext cx="904248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3"/>
          <p:cNvSpPr/>
          <p:nvPr/>
        </p:nvSpPr>
        <p:spPr>
          <a:xfrm>
            <a:off x="448920" y="2276640"/>
            <a:ext cx="838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ACK - Linear Algebra PACK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4436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LAPACK</a:t>
            </a:r>
            <a:r>
              <a:rPr b="0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Linear Algebra PACKag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труктура: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истемы линейных алгебраических уравнений: факторизация матриц, решение систем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инейных алгебраических уравнений, оценка обусловленности, уточнение решения и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ценка его погрешности, обращение матриц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ешение спектральных задач для симметричных и несимметричных матриц, метод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именьших квадратов: ортогональные разложения (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QR, LQ),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ингулярные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зложения, линейный метод наименьших квадратов, обобщённый метод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именьших квадратов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спомогательные процедуры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08000" y="333360"/>
            <a:ext cx="8964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изводитель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90" name="Рисунок 4" descr="mkl_performance_lapack01.pn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4"/>
          <p:cNvSpPr/>
          <p:nvPr/>
        </p:nvSpPr>
        <p:spPr>
          <a:xfrm>
            <a:off x="2562840" y="115920"/>
            <a:ext cx="32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262080" y="1557360"/>
            <a:ext cx="8621640" cy="37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 Math Kernel Librar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 Math Kernel Librar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S – Basic Linear Algebra Subrout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ACK – Linear Algebra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веры для разреженны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L – Vector Mathematical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L – Vector Statistical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FT – Fast Fourier Transform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L – Data Fitting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08000" y="333360"/>
            <a:ext cx="8964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изводитель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92" name="Рисунок 3" descr="mkl_performance_lapack02.pn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3"/>
          <p:cNvSpPr/>
          <p:nvPr/>
        </p:nvSpPr>
        <p:spPr>
          <a:xfrm>
            <a:off x="890640" y="2133720"/>
            <a:ext cx="718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веры для разреженны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44360" y="404280"/>
            <a:ext cx="89647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SS</a:t>
            </a:r>
            <a:r>
              <a:rPr b="0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Sparse Solv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лверы для разреженных систе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ямые солвер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PARDISO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PARallel DIrect Solver) –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араллельный прямой солвер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DSS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Direct Sparse Solver) –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лвер разреженных систем, прямой метод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терационные солвер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CG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Conjugate Gradients) –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од сопряжённых градиенто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FGMRES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Generalized Minimal RESidual) –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од обобщённых минимальных невязок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едобуславливател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ILUO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 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ILUT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Incomplete LU)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3"/>
          <p:cNvSpPr/>
          <p:nvPr/>
        </p:nvSpPr>
        <p:spPr>
          <a:xfrm>
            <a:off x="93240" y="2276640"/>
            <a:ext cx="907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L - Vector Mathematical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44360" y="1052280"/>
            <a:ext cx="8964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VML</a:t>
            </a:r>
            <a:r>
              <a:rPr b="0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Vector Mathematical Libra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екторизованные математические функци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труктура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ещественные функции (неполная выборка)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324000" y="3284640"/>
          <a:ext cx="8424720" cy="3473280"/>
        </p:xfrm>
        <a:graphic>
          <a:graphicData uri="http://schemas.openxmlformats.org/drawingml/2006/table">
            <a:tbl>
              <a:tblPr/>
              <a:tblGrid>
                <a:gridCol w="1538280"/>
                <a:gridCol w="1304640"/>
                <a:gridCol w="885960"/>
                <a:gridCol w="1424160"/>
                <a:gridCol w="1064880"/>
                <a:gridCol w="1278000"/>
                <a:gridCol w="928800"/>
              </a:tblGrid>
              <a:tr h="112212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игонометр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ипербол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епени и кор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оненциальные, логарифм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функ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ифметическ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ругл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n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w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x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r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lo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w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rf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an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og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rfIn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q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run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s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sin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w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xm1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rfcIn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co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q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og1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Gam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arby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tan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nvSq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Gam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nearFr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44360" y="105228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мплексные функции (неполная выборка)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79280" y="1916280"/>
          <a:ext cx="8785440" cy="3095280"/>
        </p:xfrm>
        <a:graphic>
          <a:graphicData uri="http://schemas.openxmlformats.org/drawingml/2006/table">
            <a:tbl>
              <a:tblPr/>
              <a:tblGrid>
                <a:gridCol w="2109960"/>
                <a:gridCol w="1778040"/>
                <a:gridCol w="1139760"/>
                <a:gridCol w="2017800"/>
                <a:gridCol w="1739880"/>
              </a:tblGrid>
              <a:tr h="77436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игонометр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ипербол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епени и кор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оненциальные, логарифм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ифметическ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n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x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w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an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q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og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s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sin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co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tan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n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78920" y="1120680"/>
            <a:ext cx="885852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Форматы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ещественный и комплексный, с простой и двойной точность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ежимы точности и производительност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вышенная точность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HA – High Accuracy).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авильное округление выполняется более чем в 99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%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лучаев. Самый медленный режи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ниженная точность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LA – Low Accuracy).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еправильными могут быть до двух младших (наименее значимых) разрядов. Производительность, по сравнению с режимом высокой точности выше на 30-50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%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ежим улучшенной производительности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EP – Enhanced Performance).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еправильными могут быть до половины двоичных разрядов. Производительность, по сравнению с режимом низкой точности выше на 30-50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%.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иблиотека поддерживает динамическое управление точность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78920" y="1120680"/>
            <a:ext cx="885852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Формат вызов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ещественный и комплексный, с простой и двойной точность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Courier New"/>
              </a:rPr>
              <a:t>v(s, d)Exp(n, input_array, output_array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Функции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VML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огут вызываться в режиме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in-place,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гда входной и выходной массивы занимают одно и то же положение в памя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зменение режима точност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ызовом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Courier New"/>
              </a:rPr>
              <a:t>vmlSetMode(VML_EP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3"/>
          <p:cNvSpPr/>
          <p:nvPr/>
        </p:nvSpPr>
        <p:spPr>
          <a:xfrm>
            <a:off x="598680" y="2133720"/>
            <a:ext cx="789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L - Vector Statistical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44360" y="404640"/>
            <a:ext cx="8964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VSL</a:t>
            </a:r>
            <a:r>
              <a:rPr b="0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Vector Statistical Libra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екторизованные функции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енерации псевдо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/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вазислучайных чисел, статистик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труктур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79280" y="2276640"/>
          <a:ext cx="8712360" cy="4479840"/>
        </p:xfrm>
        <a:graphic>
          <a:graphicData uri="http://schemas.openxmlformats.org/drawingml/2006/table">
            <a:tbl>
              <a:tblPr/>
              <a:tblGrid>
                <a:gridCol w="1684440"/>
                <a:gridCol w="1579680"/>
                <a:gridCol w="1531800"/>
                <a:gridCol w="1905120"/>
                <a:gridCol w="2011320"/>
              </a:tblGrid>
              <a:tr h="820440">
                <a:tc gridSpan="2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нераторы случайных чисел (равномерное распредел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нераторы псевдослучайных чисел (неравномерное распредел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тист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севдослучай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вазислучай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преры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кре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льтипликативный конгруэнтный 59-разря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б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вномер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вномер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тральные моменты до 4-го порядка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льтипликативный конгруэнтный 31-разря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деррайт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рм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рнул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цесс, асиммет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сдвиговом регистре с обратной связ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оненци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номи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вантили, порядковые стати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ersenne Twi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ш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ипергеометр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рицы ковариации и корреля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нерато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ichmann-H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асс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3"/>
          <p:cNvSpPr/>
          <p:nvPr/>
        </p:nvSpPr>
        <p:spPr>
          <a:xfrm>
            <a:off x="539640" y="234936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 Math Kernel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70920" y="1120680"/>
            <a:ext cx="90378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аголовочный фай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Courier New"/>
              </a:rPr>
              <a:t>#include ”mkl_vsl.h”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нициализац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Courier New"/>
              </a:rPr>
              <a:t>status = vslNewStream(&amp;stream, VSL_BRNG_MT19937, SEED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енерация псевдо(квази)случайных значени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Courier New"/>
              </a:rPr>
              <a:t>status = vdRngUniform(method, stream, vector_size, r, 0.0, 1.0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еинициализац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Courier New"/>
              </a:rPr>
              <a:t>status = vslDeleteStream(&amp;stream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рямоугольник 3"/>
          <p:cNvSpPr/>
          <p:nvPr/>
        </p:nvSpPr>
        <p:spPr>
          <a:xfrm>
            <a:off x="794880" y="1989000"/>
            <a:ext cx="7454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FT - Fast Fourier 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144360" y="404280"/>
            <a:ext cx="89647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FFT</a:t>
            </a:r>
            <a:r>
              <a:rPr b="0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Fast Fourier Transfor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ыстрое преобразование Фурь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змерность: 1, 2, 3 и боле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вместимость с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FFTW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поддерживаются соответствующие интерфейсы)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держка многопоточности, архитектур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SMP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и кластерны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держка преобразований со смешанным основание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108000" y="333360"/>
            <a:ext cx="8964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изводитель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Рисунок 5" descr="mkl_performance_fft2d01.png"/>
          <p:cNvPicPr/>
          <p:nvPr/>
        </p:nvPicPr>
        <p:blipFill>
          <a:blip r:embed="rId1"/>
          <a:stretch/>
        </p:blipFill>
        <p:spPr>
          <a:xfrm>
            <a:off x="0" y="1349280"/>
            <a:ext cx="91440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08000" y="333360"/>
            <a:ext cx="8964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изводитель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Рисунок 7" descr="mkl_performance_fft3d01.pn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08000" y="333360"/>
            <a:ext cx="8964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изводитель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Рисунок 3" descr="mkl_performance_fft2d02.png"/>
          <p:cNvPicPr/>
          <p:nvPr/>
        </p:nvPicPr>
        <p:blipFill>
          <a:blip r:embed="rId1"/>
          <a:stretch/>
        </p:blipFill>
        <p:spPr>
          <a:xfrm>
            <a:off x="0" y="1360440"/>
            <a:ext cx="91440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08000" y="333360"/>
            <a:ext cx="8964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изводитель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Рисунок 4" descr="mkl_performance_fft3d02.png"/>
          <p:cNvPicPr/>
          <p:nvPr/>
        </p:nvPicPr>
        <p:blipFill>
          <a:blip r:embed="rId1"/>
          <a:stretch/>
        </p:blipFill>
        <p:spPr>
          <a:xfrm>
            <a:off x="0" y="1360440"/>
            <a:ext cx="91440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Прямоугольник 3"/>
          <p:cNvSpPr/>
          <p:nvPr/>
        </p:nvSpPr>
        <p:spPr>
          <a:xfrm>
            <a:off x="1155240" y="2421000"/>
            <a:ext cx="67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L - Data Fitting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144360" y="404640"/>
            <a:ext cx="8964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DFL</a:t>
            </a:r>
            <a:r>
              <a:rPr b="0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Data Fitting Libra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екторизованные функции, предназначенные для фитирования данны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труктур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468360" y="2322360"/>
          <a:ext cx="8064360" cy="4419720"/>
        </p:xfrm>
        <a:graphic>
          <a:graphicData uri="http://schemas.openxmlformats.org/drawingml/2006/table">
            <a:tbl>
              <a:tblPr/>
              <a:tblGrid>
                <a:gridCol w="2003400"/>
                <a:gridCol w="1689120"/>
                <a:gridCol w="2012760"/>
                <a:gridCol w="2359080"/>
              </a:tblGrid>
              <a:tr h="7732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лай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 сплай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ничные усло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нутренние усло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ней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-я производ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вадратич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обод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я производ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уб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туральные, эрмитовы, Бесселя, Аки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-я производная на левой/правой границах интерв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ссив уз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усочно-постоя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прерывные слева, непрерывные спра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иод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ённые пользовател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08000" y="333360"/>
            <a:ext cx="8964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изводитель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7" name="Рисунок 4" descr="mkl_performance08.jpg"/>
          <p:cNvPicPr/>
          <p:nvPr/>
        </p:nvPicPr>
        <p:blipFill>
          <a:blip r:embed="rId1"/>
          <a:stretch/>
        </p:blipFill>
        <p:spPr>
          <a:xfrm>
            <a:off x="127080" y="1125360"/>
            <a:ext cx="888984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2"/>
          <p:cNvSpPr/>
          <p:nvPr/>
        </p:nvSpPr>
        <p:spPr>
          <a:xfrm>
            <a:off x="179280" y="1069920"/>
            <a:ext cx="8785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 Math Kernel Library (Intel® MKL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ычислительная математическая библиотека, содержащая хорошо оптимизированные многопоточные реализации математических функц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LAS, LAPACK, ScaLAPACK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веры для разреженных систем, быстрое преобразование Фурье, векторизованные математические функци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платформенная библиотека, однак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APACK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ддерживается 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c OS*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ютс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r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ит в состав следующих паке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R Parallel Studio 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R Cluster Studio 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R C++ Studio 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R Composer 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R C++ Composer 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R Fortran Composer 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3"/>
          <p:cNvSpPr/>
          <p:nvPr/>
        </p:nvSpPr>
        <p:spPr>
          <a:xfrm>
            <a:off x="3073680" y="2421000"/>
            <a:ext cx="262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скалярного произведен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Прямоугольник 4"/>
          <p:cNvSpPr/>
          <p:nvPr/>
        </p:nvSpPr>
        <p:spPr>
          <a:xfrm>
            <a:off x="539640" y="1100160"/>
            <a:ext cx="79930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windows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mkl.h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gettimeofday.h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N 1000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[N + 1], b[N + 1]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gDotProduc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initialize vector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 = 0; i &lt; N; i++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1.034; b[i] = 1.05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Computed value of vector sum: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DotProduct = cblas_ddot(N, &amp;a, 1, &amp;b, 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print dot produc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um = %f\n", gDotProduct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собственных значени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Прямоугольник 4"/>
          <p:cNvSpPr/>
          <p:nvPr/>
        </p:nvSpPr>
        <p:spPr>
          <a:xfrm>
            <a:off x="539640" y="1052640"/>
            <a:ext cx="79930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ram eigenLAP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, parameter ::  NIN = 5, NOUT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:: I, IFAIL, INFO, J,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acter(1) ::  UPLO='U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, allocatable, dimension(:,:) ::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, allocatable, dimension(:)   ::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, allocatable, dimension(:)   :: E, T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, allocatable, dimension(:)   :: 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, allocatable, dimension(:,:) ::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rnal  f06qfe, sorgtr, ssteqr, ssytrd, x04c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(NOUT, *) 'N=?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(NIN,*)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(D(N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WORK = 64 *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(WORK(LWORK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(E(N-1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(TAU(N-1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DA =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(A(LDA, N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DZ =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(Z(LDZ, N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Прямоугольник 4"/>
          <p:cNvSpPr/>
          <p:nvPr/>
        </p:nvSpPr>
        <p:spPr>
          <a:xfrm>
            <a:off x="539640" y="1125360"/>
            <a:ext cx="79930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(TAU(N-1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DA =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(A(LDA, N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DZ =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(Z(LDZ, N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       Initialization of upper triangular part of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 i=1,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 j=i,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(i, j)=3.8*i-2.*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 Reduce A to tridiagon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 ssytrd(UPLO, N, A, LDA, D, E, TAU, WORK, LWORK, INF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4"/>
          <p:cNvSpPr/>
          <p:nvPr/>
        </p:nvSpPr>
        <p:spPr>
          <a:xfrm>
            <a:off x="539640" y="1052640"/>
            <a:ext cx="79930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        Copy A into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 f06qfe(UPLO, N, N, A, LDA, Z, LD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  Form Q explicitly, storing the result in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 sorgtr(UPLO, N, Z, LDZ, TAU, WORK, LWORK, INF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 Calculate all the eigenvalues and eigenvectors of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 ssteqr('V', N, D, E, Z, LDZ, WORK, INF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(NOUT,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INFO &gt;0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(NOUT,*) 'Failure to converge.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Прямоугольник 4"/>
          <p:cNvSpPr/>
          <p:nvPr/>
        </p:nvSpPr>
        <p:spPr>
          <a:xfrm>
            <a:off x="539640" y="1125360"/>
            <a:ext cx="79930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 Uncomment to print eigenvalues and eigenv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write(NOUT,*) 'Eigenvalues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write(NOUT, "(3X,(8F12.4))") (D(I),I=1,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IFAIL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call x04cae('General', ' ', N, N, Z, LDZ, 'Eigenvectors', IF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allocate(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allocate(WO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allocate(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allocate(TA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allocate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allocate(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3"/>
          <p:cNvSpPr/>
          <p:nvPr/>
        </p:nvSpPr>
        <p:spPr>
          <a:xfrm>
            <a:off x="149400" y="2349360"/>
            <a:ext cx="89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 Math Kernel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4436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сновные операции с векторами и матрицами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BLAS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Basic Linear Algebra Subroutines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SparseBLAS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Basic Linear Algebra Subroutines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PBLAS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Parallel BLAS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BLAS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ффективная библиотека, в которой реализованы основные операции: векторно-векторные (1 уровень), матрично-векторные (2 уровень) и матрично-матричные (3 уровень). Библиотека оптимизируется под разные архитектуры и используется в качестве «ядра» других библиотек более высокого уровня)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SparseBLAS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сширение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BLAS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я работы с разрежёнными векторами и матрицам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PBLAS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араллельная реализация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BLAS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я вычислительных систем с распределённой памятью. Построена на основе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MPI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95280" y="1052640"/>
            <a:ext cx="842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одуль линейной алгебры (решение систем линейных алгебраических уравнений, решение спектральных задач). Включает следующие компоненты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LAPACK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Linear Algebra PACKage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ScaLAPACK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LAPACK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держит подпрограммы решения систем линейных алгебраических уравнений, решения спектральных задач для матриц (вычисления собственных значений и собственных векторов), факторизации матриц разного вида (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LU, QR,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Холецкого, Шура, сингулярного и других) и т.д. Процедуры предназначены для работы с хорошо заполненными и ленточными матрицами, вещественными и комплексными, в форматах с простой и двойной точностью (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www.netlib.org/lapack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ScaLAPACK –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араллельная библиотека подпрограмм линейной алгебры, реализованная для систем с распределённой памятью (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www.netlib.org/scalapack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4436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одуль линейной алгебры для разрежённых матриц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PARDISO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PARallel DIrect SOlver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терационные солверы для разрежённых матриц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PARDISO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токобезопасная, эффективная библиотека, предназначенная для  решения систем линейных алгебраических уравнений с большими разрежёнными матрицами, как симметричными, так и несимметричными (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www.pardiso-project.org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). Подпрограммы библиотеки реализованы как для систем с общей, так и с распределённой памятью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4436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екторные функции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VML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Vector Mathematical Library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VSL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Vector Statistical Library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VML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екторные реализации математических функций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VSL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араллельные (многопоточные) реализации генераторов псевдослучайных чисел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8:01:55Z</dcterms:created>
  <dc:creator>sergei</dc:creator>
  <dc:description/>
  <dc:language>en-US</dc:language>
  <cp:lastModifiedBy>sergei</cp:lastModifiedBy>
  <dcterms:modified xsi:type="dcterms:W3CDTF">2012-05-29T13:57:55Z</dcterms:modified>
  <cp:revision>174</cp:revision>
  <dc:subject/>
  <dc:title>Слайд 1</dc:title>
</cp:coreProperties>
</file>