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D4B-DFDA-4ED1-B317-A5DEA72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7C4-FB2D-4894-966F-0E81DD32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00A-C7DF-41F9-AEF1-6C7954F3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26A-4601-4B27-BF73-F2662673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0281-CB42-4CE2-B588-E7BA52C3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2386-27C4-429A-869A-672C4AD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B16C-B2D7-48A4-B2B9-8A324BA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C5EC-E859-43E7-B1E1-05E554B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DF8-705D-46FB-B1B9-0707EB3B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F566-4FC1-4E9C-86CA-C67490F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B20-6DD9-4640-A776-2EC304F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FB9-9466-4A6D-83AC-266F335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A826-042F-4810-A6F0-024CE5F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CF0E-F110-4E9C-890B-9D382D64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2A1-3CEC-4CDF-BCAD-5C68D94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B134-2658-4BCD-89C8-619F7B01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A3EF-CACB-4736-9E83-B8C3F78C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E61A-B1E4-4742-8D9A-3B9F1ED3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1F0C-03C0-455D-996C-E6EDB2D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DDA4-9465-433D-A630-F4B21242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38AB-B960-4751-8C45-BB5E8BD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A975-9567-4E81-96DB-3665B48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69E-874C-4A49-A327-1F9AB1C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3E80-0DA4-4906-B7D5-F7D1DA8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80FD-991D-4896-AB72-05652B7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4295-D996-4B61-B2D6-733B66C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D743-403C-4839-8479-0ABF09E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A1C7-65F2-4B97-A86B-460C1B52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A699-F330-4795-8311-C8EE20F1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6190-4A41-43A7-B5C4-6B2ECF79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BA1D-20E7-401D-867E-82D3C9F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9A62-728C-4388-A4C9-2F389BE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1E9F-005C-48A7-B5E7-949E0889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EC2-16D6-4D41-A7FC-67D7FC7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FDB0-F0BC-4BE7-A496-03E712C1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3525-5360-44B9-B194-4B578912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3D40-2DDA-4A9A-A3F7-EB588FC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7660-1201-4720-A0DE-1A7FAEF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0D5A-B73F-44FC-A977-51E05A9E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8767-4911-4A21-8CA6-67E0D49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5F76-138D-47E5-B240-AF3242D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1815-69F0-44C6-B5A9-6B5B5040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8FA8-DC45-4EA8-8874-2BB2CD0B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EB284-1A71-4542-9A2E-B8EAFBA2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D53-AA42-44B9-A286-2C7E743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CA6F-3DF6-463B-86E7-5943004A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152B-5F2B-461F-BB35-A962BF91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CBC7-FEC8-4849-955D-46EB816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876F-75DC-4119-844C-C137C3F9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9A25D-97CB-4500-ADE5-F7CF709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968A-DAA4-40F1-B609-EF770BD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664C-D4AC-46C1-A277-1210C39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3283-ACA8-4ECF-9895-1CCAA31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F051-A503-4797-B2A2-EC3C8950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EE4E-B28E-4B4F-82E5-272161D4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7C9-DBE2-4694-B356-4BE3FC9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74A1-8BBA-49F8-9827-6EB3B505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B05E-D9D1-43EA-9C78-E5881A51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2359-FB5C-4D9A-8CB3-D8C31FF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FFE3-87E0-4ABB-BB05-B6CDD03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64FA1-BB28-48FB-B31B-73CB703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910CB-4A63-4BEC-AF92-B249D6AD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8166-C3F9-4FC7-9A0A-676AD5F9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36DA-0677-46E8-AA42-4A5E092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1958-003D-4387-A3F2-B8A0C2F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DE61-2391-46E9-8AA4-298DC0F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1AE-6A16-4323-8797-BB62FC34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D5DB-37FB-4EA9-BF2B-68C308F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119B-C031-4C6C-BE19-584BBB23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0733D-3453-4302-ABD2-597D7849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FDAC-CA5A-4AEB-969E-9CCBB28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E544C-9018-44A3-A678-2A62843F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DBC0-7857-46D6-A2E2-BFC16CFF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A4C0-CBFF-450C-BE62-0AC71265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7B14-F6D3-4C7E-A811-51C5CEF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8C76-A4B9-4A88-8ABE-2415AEF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56188-64C8-404D-8D4A-C018A348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6CE-A451-4EF9-885E-9B5AB0AE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34D5-5E2C-4BEA-806A-5A5B1C6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7CB3C-F9F5-49A6-9933-D146A1D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06BD-CD1B-46B7-BCA8-C413930E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76B7A-D005-4CD3-BE30-91B0CC72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2A21-B7F3-45B5-B0B9-D8EFD9ED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6C6-7F7D-4DE2-9A77-024D7B4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87B-833A-4457-8BB4-5DD81FC8BEA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22B-3E27-4BD9-AD2B-0F76AE90C0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A7C6-4E8B-474F-BFBF-F3718EA63BA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87C-0D78-4F80-BDDC-870231BECB7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AB29-36C4-4894-9835-161FE9291DB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0ED8-7FBE-47C9-8FC7-239A8E6A0AD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21BF-F2EF-4F36-B174-DC8731A5E35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91;-&#1044;&#1072;&#1073;&#1080;_%28&#1101;&#1084;&#1080;&#1088;&#1072;&#1090;%29" TargetMode="External"/><Relationship Id="rId2" Type="http://schemas.openxmlformats.org/officeDocument/2006/relationships/hyperlink" Target="http://ru.wikipedia.org/wiki/&#1054;&#1073;&#1098;&#1077;&#1076;&#1080;&#1085;&#1105;&#1085;&#1085;&#1099;&#1077;_&#1040;&#1088;&#1072;&#1073;&#1089;&#1082;&#1080;&#1077;_&#1069;&#1084;&#1080;&#1088;&#1072;&#1090;&#1099;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695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Умный Белг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город стал первым городом России, который присоединился к Международному консорциуму «умных городов» и успешно реализует энергосберегающий проект. Это современные технологии, позволяющие рационально использовать источники энергии и минимизировать воздействие на окружающую среду. «Умная сеть» — система, способная принимать энергию и преобразовывать ее в конечный продукт при минимальном участии люд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160880" y="2357280"/>
            <a:ext cx="42116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214960" y="1500120"/>
            <a:ext cx="3000240" cy="4179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571320" y="1571400"/>
            <a:ext cx="41432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тановка приборов учета Нейро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усилит учет потребления электроэнергии потребителями в многоквартирных и частных дом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714720" y="4286160"/>
            <a:ext cx="14292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419040" indent="-382680">
              <a:lnSpc>
                <a:spcPct val="80000"/>
              </a:lnSpc>
              <a:spcBef>
                <a:spcPts val="1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5214960" y="1785960"/>
            <a:ext cx="3071880" cy="40640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42960" y="1500120"/>
            <a:ext cx="34005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ированная система управления уличным освещением «Гелио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далеко от международного аэропорта Сеула в настоящее время ведется строительство нового города Нью-Сонгдо, настоящего «умного города», который не имеет  аналогов. На месте строительства еще недавно было дно Желтого мор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да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проект будущего города, расположенного в эмирате </a:t>
            </a: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Абу-Даб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Объединённых Арабских Эмират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полагает возведение первого в мире города, обеспечиваемого солнечной энергией, другими возобновляемыми источниками энергии и имеющего устойчивую экологическую среду с минимальными выбросами углекислого газа в атмосферу, а также системой полной переработки отходов городск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4267080" y="2214720"/>
            <a:ext cx="42069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0:56Z</dcterms:modified>
  <cp:revision>19</cp:revision>
  <dc:subject/>
  <dc:title>УМНЫЙ ГОРОД</dc:title>
</cp:coreProperties>
</file>