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776-AB93-4524-9C5A-D611D34E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915-9988-496B-9698-B3403B5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CCA-7036-45E8-86B0-63278AB1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BD2-841E-4921-BE74-651BC9F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9B3-40F6-4F13-B285-9D0C46F7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EDDE-47CF-4283-A93D-09FFE149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B094-D073-469F-95A6-5DA090D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43E0-4BC6-41FF-B13F-05DF248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5D78-A9DD-4D93-A1E7-9E09197B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587B-B265-470F-89D8-E3220E2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A6A-0DB7-47FA-B10A-3CF9F07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822-3CE6-4FFC-BC1F-A4803327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55C-41A7-4375-BD31-6934FBA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1E1D-1B79-4654-A261-09A34E0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FFC9-CA13-4925-A075-EEEDFED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6E4-DC28-408E-8E20-FE341BFB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1B28-F608-4B0D-A775-3D9AF7F9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82CD-B90E-460C-A989-4DF9A1B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43EA-67C8-4E48-B50B-10D05E9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012F-19D9-47E1-A1A9-75012A29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B76D-3A70-47E3-A261-FDC7613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E5A05-A994-4495-9D14-3F2F4FC9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B65-5C49-4D8E-B9CA-8FE280D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AF6D-E287-40F4-B84A-3D6A1D7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7FD8-D366-49BD-97E6-0179509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7D2C-F779-4576-BA0E-612D3C4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264A-6728-4C82-8453-83A934B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A10A-B371-42F7-9A4F-1F12482C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8041-79F8-4E43-ABD5-5F8FA017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84CD-4E10-4A8F-9C51-487F7845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DE64-07E1-4763-A81E-E10F154E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8DC1-D003-483F-B1A3-7E676E7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42BB-5558-4F0C-8CC7-E67F0A5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8DA-9BCB-4393-9423-F1E78357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81B1-9C5F-453A-A25C-8157153B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D1E7-80B0-4990-AF26-C0DD520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73E3-4C6C-4446-B0EE-10E74AD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AE42-4B70-42BC-9E39-D00FC94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ABBD-E479-4D87-92A2-18BDCA9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AEDF-FAB4-458D-BA99-C73136D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2F47-E2BD-47AF-B4EF-4A51750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BAE9-D247-4AE8-8FAF-609B8CB4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2763-BC3D-4498-9157-AD41EA8B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10CD-4CB1-4FFB-9177-7FCDB08A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A5E-9ED5-4121-9C8D-D05DC2A4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456F-3489-4FE0-A4E2-116DBA6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1A92-6308-433A-B8D5-70964F0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276E-7B72-47CF-B5D5-A8F8441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D0E7-2ADF-49BF-A52B-4154F86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3749-D1D7-42D5-B724-0F6DCF90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69CF-1BBA-47F3-8735-5905DC0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79168-C4FA-49F2-9332-03DD383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9864-FDFF-472A-A21B-C49C345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414E-8141-4D56-A937-C87D374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9571-67CB-4DB3-B76A-E17557E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275-9B55-4920-9C7A-D7EF8D1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BD9C-1DB4-45F5-97AB-633B6D8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7318-57F5-4910-A2BF-3D49EE5F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34DB-08EF-4CCE-B872-99243DC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30C0-231B-4F32-B9B5-2535C62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02A0-BE75-4E82-8BA9-43C112EE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19231-EE30-42DE-8987-04959654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1C4A-B47D-4540-B4FC-B151585A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22BC-E89E-4D61-9AC3-EA66D19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0794-FDB5-4835-BA30-E875038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E86C-513C-4843-85CB-96088CF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F74-607E-4466-BD8D-FF21DF50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D088-D48F-4000-AA69-DB148E3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8CCD-8445-4FB1-8606-72DB982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19AB-7CC2-44EA-8C8A-E8031909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787-6A7A-4928-BA50-8B1A38D8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84A-5265-4D47-8E31-6BC7350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226-D55A-4A96-95DA-52FF75EF81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5A0-3F40-404B-BF74-73238A53B07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C83-781F-4F3C-B90A-A34F3EDF93B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721-B970-4E15-9EF0-BD2B369BC44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C80-B843-4825-8349-BB6828641D1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58F-3E7B-4E88-B324-663383B8194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Единый протокол обмена между серверами и диспетчерскими пунк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Применение различных каналов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Разграничение досту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Простота восприятия информации, быстрый доступ ко всем оперативным коман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Наращиваемость Системы. Возможность постепенного поэтап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Невысокая стоимость эксплуатации оборудования и каналов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функции  «Умный горо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бор информации о состоянии оборудования с объектов Водоканала, объектов Горгаза , объектов Горсвета, объектов теплосетей на сервера обработки и распределения информации с использованием всех доступных каналов связи — радиоканал, сотовая связь стандартов GSM и CDMA, телефонная линия, кабельная сеть Internet, локальная магистр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бор технологической информации, характерной для каждого конкретного объекта — температура, давление, уровни, расходы, токи, напряж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ый сбор информации о состоянии охраны объектов и коммунальных сетей, пожарной сигна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ор информации с установленных счетчиков: тепла, воды, газа, электро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полученной информации с принятием решений о возможных пред аварийных и аварийных ситуациях — поломках оборудования, утечках, коротких замыканиях, обрывах, срабатывании охранной и пожарной сигн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доступа к полученной информации потребителям — диспетчерским пунктам коммунальных служб, мобильным (временным и передвижным) диспетчерским пунктам различных служб, среди которых бригады по устранению неполадок, МЧС, противопожарная служба, городские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е диспетчерское управление исполнительными устройств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оперативного изменения параметров технологических процессов – графиков освещения, циклограмм работы насосов, заданных аварийных пределов параметров тех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ая оценка последствий аварий сетей в масштабах всего города и принятие реш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sx4"/>
          <p:cNvPicPr/>
          <p:nvPr/>
        </p:nvPicPr>
        <p:blipFill>
          <a:blip r:embed="rId1"/>
          <a:stretch/>
        </p:blipFill>
        <p:spPr>
          <a:xfrm>
            <a:off x="971640" y="1197000"/>
            <a:ext cx="7056360" cy="48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остроении подобной Системы должны соблюдаться следующие усло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26920" y="2658600"/>
            <a:ext cx="7531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олная автономность всех локальных управляющих систем, позволяющая при частичной деградации системы поддерживать работоспособность объек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принятие решения об аварийном отключении и вводе резерва непосредственно контроллерами объекта для предотвращения полной поломки исполнительных устройств и механиз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Надежность аппаратуры, работоспособность в широком диапазоне температур, работа в условиях невысокой надежности электро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Единый, надежный, не требующий высоких скоростей и дорогого спецоборудования, имеющий высокую степень достоверности и помехоустойчивый протокол обмена между контроллерами и серве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использования любых доступных каналов связи: радиоканала, сотовой связи стандартов GSM и CDMA, телефонных линий, кабельной сети Internet, локальных магистра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Единая форма хранения данных, полученных с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2:17Z</dcterms:modified>
  <cp:revision>19</cp:revision>
  <dc:subject/>
  <dc:title>УМНЫЙ ГОРОД</dc:title>
</cp:coreProperties>
</file>