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913-E375-4965-BDE4-A83C8DD2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5BA-85AE-45AA-9DC5-6FEF9C75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D21-E835-46E7-BDF9-5297BEA0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5E6-2637-4186-B8EB-E215DE7B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02AD-8F04-4EA1-AF5E-E2AFF980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B0EF-ED46-4343-81D4-B6522824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E61D-CF60-4271-A0BD-3DC30031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BCFC-D218-4622-9765-B4C611BB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E0CA-DD86-4B91-91F3-C0E83CE1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BCAA-8A5A-4047-A537-FDFF294F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DFF5-3306-4069-AE75-6D1F4B47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8B4-C8D5-4E07-9FE6-BEA303FE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C085-3915-4628-9B6A-F325A1E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F49D-B397-4034-A80C-31C2F407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252E-9503-4259-BE7B-28A18F08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24C6-ECD3-4D2A-8520-669F6BEB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8D87-8CDA-462D-A987-B2B15B17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AEAFD-7618-4986-AB41-BA57FA80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712A0-1892-400C-8DA1-63D4D915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2EDE2-13F1-4D66-9E4F-4B84D6AA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2C1CC-9663-4CE3-A458-976EFFAD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0CBA4-98D0-4691-968D-E2113CFF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C3B-A82A-4AB2-B7A7-611BAAB8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96870-15AE-4C03-8B35-DDF5CFB6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CB40C-BB25-4694-81F0-B339CF44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32A72-C92E-4E49-98EF-D2C4050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2D75A-A89E-4CDD-9202-677E629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EC605-180C-4D90-AA9E-A299BAE6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4BEFC-BBBA-44E8-8028-61C3EFC8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743EB-0B19-4C1B-9422-44CC9613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4D06F-47BF-4AF8-AAF7-B197E9FF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B622C-E741-4FBA-A262-A3A0D034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8BF74-DC40-4141-AC02-FAECAABB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61A-7680-4287-B3AC-98608146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60E5C-91DD-481C-8A1E-CF9107BE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F6588-5EC0-4E90-82E0-69515E5D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7CD44-4AC8-40DA-9BE0-A12A3F63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ADDB9-8E02-4BE8-A553-B98E6B8B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57BEB-CB1E-4041-9C32-77285385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E0485-F9EF-45DC-9E00-3E1E201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7EAE1-BDC3-4380-9CD5-E95060B4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D547E-DA73-466A-B5D8-A09A12B8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FF454-B0DB-4E5C-8630-4461DF5F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FFACB-624A-413E-9AA2-156F70BE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A2A-750B-4F07-827C-BC0564DA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DC29F-D761-460E-A486-2DCB46A4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D14FC-1E83-48FC-A770-CEBB6DD9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12DFD-DC56-4889-A062-6BF44BC4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8C468-D048-41CD-8AFE-99DA65E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1619A-BBB3-4C08-90E8-00968704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F2CF8-865D-41E7-A0B8-12FD9534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80008-EDF6-4F12-8728-0E101BCD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9CDDB-7B9F-4E4D-A542-B03AAD38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21DD3-5378-4E4B-A868-E6FEAB7D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E0814-B4BC-4254-868D-147397AC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34C-CF0D-45AE-911F-71CE2998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AB37D-2FA4-4960-B477-39A89187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48C0F-145E-4186-A5E7-DAF8CB4B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F1F49-0B85-41E5-A022-E5AFCBAA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D9F7C-4F88-4383-90A9-5CF63C90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7BD7D-82DE-4903-AF67-6106FFDB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551F5-B0D4-4FEC-968A-9435126C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828C0-EF1E-46A8-9FB6-4811836C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490DD-36F0-4A7A-ABD3-B71FEA79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E222-7B4C-4B2C-ABBE-8D5A613E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A21CB-E4F3-40A7-8DE2-BCADE59F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201-EF40-425E-BD3E-6B6AEBCC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14B72-0BC5-426B-B4C7-E85E0B79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49910-5C3B-4FB1-ADD3-0A175FDD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AFB04-8D81-4F92-8A6F-AF13A6BB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A3734-F40F-4151-A7F0-90013263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1F8D2-6A16-4C0B-BB6E-94E67EFA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87A6C-8AAE-44F5-AABD-2ABB8871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FC6BF-CF2F-4ADE-AE2A-287711E3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4ABFF-9353-4932-81D6-DB3489B8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C91E3-85E6-4C78-B92D-19EDDE44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3C823-E6FE-4235-A5AE-0672F98A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9FA-B41D-49E6-869C-BEA8730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AE51E-A773-4E82-ACC8-7E7E2445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ABF10E-0C7C-4119-A498-41FD756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6CE83-73F3-44CC-9EB5-269A6A01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9CE43-9376-41D8-B884-204380F1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D10C6D-FDDF-4C19-8EB8-E6651F6F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43C63-D392-4DD8-8FAC-986387CF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F2512-40C1-44FD-9AF0-CCDC923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54CC1-32C8-492B-96EA-02EF8E33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2DD31-D790-4399-A097-6AE4B071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E5643-78BF-4841-8714-ACB61A1A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48D-0144-401C-A607-22E592A7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397FB-785C-4D27-9A04-81880BE4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150EA-4FBD-4F6A-BD2D-091DB0E7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F4B79-B5CD-441B-93CF-008AC00F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A1384-D8ED-48AC-939E-1D2D9A79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0A8EE-7642-43E7-97D2-8DC886E1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A048C-50D9-4110-8ACB-B36C7D59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530AA-0CE1-4E5B-8E05-B0B539CB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1E0-7C58-4026-942D-DC5D4323AF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2665-A334-4A24-9C1A-09EC0C9D781A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DBF4-84DF-4D4B-84F1-A89BD59B04D4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C5AA-C0F6-47E7-A6EF-60338059EEE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8217-8B97-416A-854B-1ED85ED705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66C9-939D-49E4-B693-1DA8C1E3095C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C8AB-AD3C-4E12-BF9E-E278102732E7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9E97-7FE1-4DE0-96B0-CF2A0B4B4A3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220help.ru/textparts.php?tid=114" TargetMode="External"/><Relationship Id="rId2" Type="http://schemas.openxmlformats.org/officeDocument/2006/relationships/hyperlink" Target="http://www.220help.ru/textparts.php?tid=115" TargetMode="External"/><Relationship Id="rId3" Type="http://schemas.openxmlformats.org/officeDocument/2006/relationships/hyperlink" Target="http://www.220help.ru/textparts.php?tid=116" TargetMode="External"/><Relationship Id="rId4" Type="http://schemas.openxmlformats.org/officeDocument/2006/relationships/hyperlink" Target="http://www.220help.ru/textparts.php?tid=15" TargetMode="External"/><Relationship Id="rId5" Type="http://schemas.openxmlformats.org/officeDocument/2006/relationships/hyperlink" Target="http://www.220help.ru/textparts.php?tid=18" TargetMode="External"/><Relationship Id="rId6" Type="http://schemas.openxmlformats.org/officeDocument/2006/relationships/hyperlink" Target="http://www.220help.ru/textparts.php?tid=33" TargetMode="External"/><Relationship Id="rId7" Type="http://schemas.openxmlformats.org/officeDocument/2006/relationships/hyperlink" Target="http://www.220help.ru/textparts.php?tid=52" TargetMode="External"/><Relationship Id="rId8" Type="http://schemas.openxmlformats.org/officeDocument/2006/relationships/hyperlink" Target="http://www.220help.ru/textparts.php?tid=90" TargetMode="External"/><Relationship Id="rId9" Type="http://schemas.openxmlformats.org/officeDocument/2006/relationships/hyperlink" Target="http://www.220help.ru/textparts.php?tid=14" TargetMode="External"/><Relationship Id="rId10" Type="http://schemas.openxmlformats.org/officeDocument/2006/relationships/hyperlink" Target="http://www.220help.ru/textparts.php?tid=17" TargetMode="External"/><Relationship Id="rId11" Type="http://schemas.openxmlformats.org/officeDocument/2006/relationships/hyperlink" Target="http://www.220help.ru/textparts.php?tid=36" TargetMode="External"/><Relationship Id="rId12" Type="http://schemas.openxmlformats.org/officeDocument/2006/relationships/hyperlink" Target="http://www.220help.ru/textparts.php?tid=44" TargetMode="External"/><Relationship Id="rId13" Type="http://schemas.openxmlformats.org/officeDocument/2006/relationships/hyperlink" Target="http://www.220help.ru/textparts.php?tid=29" TargetMode="External"/><Relationship Id="rId14" Type="http://schemas.openxmlformats.org/officeDocument/2006/relationships/hyperlink" Target="http://www.220help.ru/textparts.php?tid=19" TargetMode="External"/><Relationship Id="rId15" Type="http://schemas.openxmlformats.org/officeDocument/2006/relationships/hyperlink" Target="http://www.220help.ru/textparts.php?tid=16" TargetMode="External"/><Relationship Id="rId16" Type="http://schemas.openxmlformats.org/officeDocument/2006/relationships/hyperlink" Target="http://www.220help.ru/textparts.php?tid=32" TargetMode="Externa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220help.ru/textparts.php?tid=114" TargetMode="External"/><Relationship Id="rId2" Type="http://schemas.openxmlformats.org/officeDocument/2006/relationships/hyperlink" Target="http://www.220help.ru/textparts.php?tid=115" TargetMode="External"/><Relationship Id="rId3" Type="http://schemas.openxmlformats.org/officeDocument/2006/relationships/hyperlink" Target="http://www.220help.ru/textparts.php?tid=116" TargetMode="External"/><Relationship Id="rId4" Type="http://schemas.openxmlformats.org/officeDocument/2006/relationships/hyperlink" Target="http://www.220help.ru/textparts.php?tid=15" TargetMode="External"/><Relationship Id="rId5" Type="http://schemas.openxmlformats.org/officeDocument/2006/relationships/hyperlink" Target="http://www.220help.ru/textparts.php?tid=18" TargetMode="External"/><Relationship Id="rId6" Type="http://schemas.openxmlformats.org/officeDocument/2006/relationships/hyperlink" Target="http://www.220help.ru/textparts.php?tid=33" TargetMode="External"/><Relationship Id="rId7" Type="http://schemas.openxmlformats.org/officeDocument/2006/relationships/hyperlink" Target="http://www.220help.ru/textparts.php?tid=52" TargetMode="External"/><Relationship Id="rId8" Type="http://schemas.openxmlformats.org/officeDocument/2006/relationships/hyperlink" Target="http://www.220help.ru/textparts.php?tid=90" TargetMode="External"/><Relationship Id="rId9" Type="http://schemas.openxmlformats.org/officeDocument/2006/relationships/hyperlink" Target="http://www.220help.ru/textparts.php?tid=14" TargetMode="External"/><Relationship Id="rId10" Type="http://schemas.openxmlformats.org/officeDocument/2006/relationships/hyperlink" Target="http://www.220help.ru/textparts.php?tid=17" TargetMode="Externa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bddc3"/>
                </a:solidFill>
                <a:latin typeface="Calibri"/>
              </a:rPr>
              <a:t>«УМНЫЙ ДОМ»</a:t>
            </a:r>
            <a:endParaRPr b="0" lang="en-US" sz="9600" spc="-1" strike="noStrike">
              <a:solidFill>
                <a:srgbClr val="ebddc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процессе эксплуатации системы часто возникает необходимость установки дополнительного внешнего оборудования, которое не было предусмотрено в первоначальном варианте или не устанавливалось сразу по финансовым соображениям. Вопрос ввода в здание дополнительной кабельной трассы легко решается, если предусмотреть заранее сквозную резервную гильзу в цокольной части дома с коммутационными коробками с внешней и с внутренней стороны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жным моментом при проектировании системы сигнализации является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выбор места для приемно-контрольного прибора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централи). Поскольку главная задача централи - запуск исполнительных устройств при поступлении сигнала тревоги, важно, чтобы прибор находился в труднодоступном для возможного злоумышленника месте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зависимо от типа и способа прокладки кабельной проводки (внешняя, внутренняя, подземная; скрытая, открытая; воздушные линии и т. д.) существуют общие требования, определяемые ПУЭ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СНиП 2.04.09-84, СНиП 3.05.06-85 "Электротехнические устро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                        </a:t>
            </a: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УМНЫЙ ДОМ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Автор презентации:            Устелемова М.С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ок службы кабельной системы "Умный дом"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поставим со сроком эксплуатации самого дом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В идеале одновременно с прокладкой других инженерных систем необходимо к каждой розетке, к каждому выключателю протянуть специальную витую пару пров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траты на прокладку системы кабелей, установку датчиков и контроллеров, а также монтаж и запуск системы "Умный дом", плюс сервисное обслуживание сопоставимы по цене с автомобилем хорошего класса известной марки, приобретаемым в автосалоне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НА ПРОЕКТОВ:    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ЭКОНО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СТАНДАР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3"/>
              </a:rPr>
              <a:t>ПРЕМИУ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4"/>
              </a:rPr>
              <a:t>Электроснабжение (ЭО)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4 500р.       9 500р.              21 5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5"/>
              </a:rPr>
              <a:t>Охранная сигнализация (ОС)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7 500р.      15 000р.            18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6"/>
              </a:rPr>
              <a:t>Слабые токи (СС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7 500р.      15 000р.            18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7"/>
              </a:rPr>
              <a:t>Водопровод и канализация  (ВК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9 500р.      15 000р.            18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8"/>
              </a:rPr>
              <a:t>Вентиляция и кондиционирование  (ВиК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9 500р.     15 000р.           18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9"/>
              </a:rPr>
              <a:t>Управление освещением  (АСУ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9 500р .    18 000р.           21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0"/>
              </a:rPr>
              <a:t>Домашний кинотеатр (ДК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5 000р.    10 000р.            20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1"/>
              </a:rPr>
              <a:t>Встроенный пылесос (ВП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5 000р.    10 000р.           13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2"/>
              </a:rPr>
              <a:t>Аварийное освещение (АО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3 000р.     5 000р.              8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3"/>
              </a:rPr>
              <a:t>Кабинет переговорная  (КП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9 500р.     15 000р.          18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4"/>
              </a:rPr>
              <a:t>Мультирум системы (СМ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9 500р.     15 000р.           18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3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5"/>
              </a:rPr>
              <a:t>Скрытое видеонаблюдение (ВН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9 500р.     15 000р.           18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6"/>
              </a:rPr>
              <a:t>Умный дом (УД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15 000р.     35 000р.          41 000р. 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*Цены работ и материалов взяты из минимального перечня на квартиру 100м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ны с сайта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http://www.220help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НА МАТЕРИАЛОВ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ЭКОНО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СТАНДАР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3"/>
              </a:rPr>
              <a:t>ПРЕМИУ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4"/>
              </a:rPr>
              <a:t>Электроснабжение (ЭО)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35 000р. 55 000р. 95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5"/>
              </a:rPr>
              <a:t>Охранная сигнализация (ОС)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25 000р. 48 000р. 75 000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6"/>
              </a:rPr>
              <a:t>Слабые токи (СС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7 500р. 24 000р. 65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7"/>
              </a:rPr>
              <a:t>Водопровод и канализация  (В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9 500р. 35 000р. 85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8"/>
              </a:rPr>
              <a:t>Вентиляция и кондиционирование  (Ви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12 000р. 45 000р. 85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9"/>
              </a:rPr>
              <a:t>Управление освещением  (АСУ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90 000р. 185 000р. 390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0"/>
              </a:rPr>
              <a:t>Домашний кинотеатр (Д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45 000р. 90 000р. 220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 Встроенный пылесос (ВП)                                         25 000р. 44 000р. 75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 Аварийное освещение (АО)                                     3 500р. 18 000р. 35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1 Кабинет переговорная  (КП)                                   18 000р. 55 000р. 12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Мультирум системы (СМ)                                        75 000р. 170 000р. 320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3 Скрытое видеонаблюдение (ВН)                           28 000р. 62 000р. 85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4 Умный дом (УД)                                                          52 000р. 295 000р. 680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*Цены работ и материалов взяты из минимального перечня на квартиру 100м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ны с сайта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http://www.220help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стема кабельных коммуникаций - это фундамент будущей системы сигнализ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бор производител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бор производителя - одно из самых сложных и кропотливых занятий, которое у неподготовленного человека займет уйму времени.  Для самостоятельной сборки "Умного дома" необходимо выбрать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дного производител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кладка кабельных лини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тажные работы, как правило, проводятся в три этап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й эта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окладка кабельных линий к местам установки приборов, составляющих систему: центральной аппаратуры, датчиков, исполнительных устройств, клавиатур упра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м этап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завершения отделки устанавливают и подключают аппарату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ий эта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аладочные работ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соб прокладки коммуникаций для внешних датчиков, устанавливаемых на стенах дома, зависит от конструкции стен и способа их отдел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5:27:47Z</dcterms:created>
  <dc:creator>User</dc:creator>
  <dc:description/>
  <dc:language>en-US</dc:language>
  <cp:lastModifiedBy>User</cp:lastModifiedBy>
  <dcterms:modified xsi:type="dcterms:W3CDTF">2010-11-06T18:44:04Z</dcterms:modified>
  <cp:revision>32</cp:revision>
  <dc:subject/>
  <dc:title>«Умный Дом»</dc:title>
</cp:coreProperties>
</file>