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4991-A19D-4633-8EE6-ECAA5B6DD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976-FE7E-4B28-A462-9A2A4398E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EB1-B5DB-4626-A833-7FAE73F04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B145-028D-4C60-85E4-8E5B179E4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F5D2-8B23-4E99-97D5-75E3F06F1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F083-9801-4FB6-AF10-E954074D8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E087-D283-4489-B871-8855FC944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6D50-6B0D-4612-BFE3-0E4CF681A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9F26-7A38-4853-A212-3612DFCFF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27BB-3F96-42BB-AA1C-69022FD0E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09A8-952D-4BBB-AB87-A4603E5F4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2FC3-1D3F-4395-9C03-EA7F2CAE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C0D1-4711-486F-B35C-7B606E40D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94CA-8327-4494-9E58-FEA8F9089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D555-1112-428C-BDB4-468AE428C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290-B815-476C-805E-9D39BE9DFD16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84360" y="6643800"/>
            <a:ext cx="24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Arial"/>
              </a:rPr>
              <a:t>©</a:t>
            </a:r>
            <a:r>
              <a:rPr b="0" lang="ru-RU" sz="800" spc="-1" strike="noStrike">
                <a:solidFill>
                  <a:srgbClr val="0000cc"/>
                </a:solidFill>
                <a:latin typeface="Arial"/>
              </a:rPr>
              <a:t>Павдлвская Т.А. Язык Паскал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678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Курс «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аскаль. Программирование на языке высокого уровня»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0160" y="4739760"/>
            <a:ext cx="6400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160A-89B2-481C-B144-B0C240590C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 динамическими переменным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30956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rec = recor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d : 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s : string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word = ^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var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1, p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: p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3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^rec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65400" y="1701720"/>
            <a:ext cx="6329160" cy="1670400"/>
            <a:chOff x="3065400" y="1701720"/>
            <a:chExt cx="6329160" cy="1670400"/>
          </a:xfrm>
        </p:grpSpPr>
        <p:sp>
          <p:nvSpPr>
            <p:cNvPr id="105" name=""/>
            <p:cNvSpPr/>
            <p:nvPr/>
          </p:nvSpPr>
          <p:spPr>
            <a:xfrm>
              <a:off x="3065400" y="1706400"/>
              <a:ext cx="4393440" cy="16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065400" y="2404800"/>
              <a:ext cx="4393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9280" y="2674800"/>
              <a:ext cx="697680" cy="34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10920" y="1701720"/>
              <a:ext cx="1583640" cy="437760"/>
            </a:xfrm>
            <a:prstGeom prst="borderCallout1">
              <a:avLst>
                <a:gd name="adj1" fmla="val 18750"/>
                <a:gd name="adj2" fmla="val -8333"/>
                <a:gd name="adj3" fmla="val 82949"/>
                <a:gd name="adj4" fmla="val -377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10920" y="2405160"/>
              <a:ext cx="1319760" cy="438120"/>
            </a:xfrm>
            <a:prstGeom prst="borderCallout1">
              <a:avLst>
                <a:gd name="adj1" fmla="val 18750"/>
                <a:gd name="adj2" fmla="val -8333"/>
                <a:gd name="adj3" fmla="val 85435"/>
                <a:gd name="adj4" fmla="val -45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гмент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2840" y="2616120"/>
              <a:ext cx="4406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79040" y="2668320"/>
              <a:ext cx="61596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69440" y="2639520"/>
              <a:ext cx="439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34920" y="2668320"/>
              <a:ext cx="66168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1720" y="265680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06760" y="1870920"/>
              <a:ext cx="70380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106760" y="2575080"/>
              <a:ext cx="70380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7760" y="4653000"/>
            <a:ext cx="4739760" cy="1701720"/>
            <a:chOff x="3857760" y="4653000"/>
            <a:chExt cx="4739760" cy="1701720"/>
          </a:xfrm>
        </p:grpSpPr>
        <p:sp>
          <p:nvSpPr>
            <p:cNvPr id="118" name=""/>
            <p:cNvSpPr/>
            <p:nvPr/>
          </p:nvSpPr>
          <p:spPr>
            <a:xfrm>
              <a:off x="3857760" y="4653000"/>
              <a:ext cx="4739760" cy="170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857760" y="5499720"/>
              <a:ext cx="47397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2520" y="5791680"/>
              <a:ext cx="752760" cy="37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489560" y="5253840"/>
              <a:ext cx="72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9720" y="5728680"/>
              <a:ext cx="4752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5440" y="5785200"/>
              <a:ext cx="75924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622480" y="5247000"/>
              <a:ext cx="108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3720" y="5722560"/>
              <a:ext cx="47304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4120" y="5785200"/>
              <a:ext cx="75888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762240" y="5247000"/>
              <a:ext cx="72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42400" y="5722560"/>
              <a:ext cx="4741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6440" y="4866840"/>
              <a:ext cx="47412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06640" y="4868640"/>
              <a:ext cx="47520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3080" y="4866840"/>
              <a:ext cx="180972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95280" y="4836240"/>
              <a:ext cx="569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35040" y="4836240"/>
              <a:ext cx="568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6880" y="4867560"/>
              <a:ext cx="504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4360" y="450864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581360"/>
            <a:ext cx="271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 :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word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148F-56C0-45D1-A246-769395C966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259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^ := 3;     p2^ := 2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3^.d := p1^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3^.s := '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'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70840" y="699120"/>
            <a:ext cx="4955040" cy="1780200"/>
            <a:chOff x="3570840" y="699120"/>
            <a:chExt cx="4955040" cy="1780200"/>
          </a:xfrm>
        </p:grpSpPr>
        <p:sp>
          <p:nvSpPr>
            <p:cNvPr id="139" name=""/>
            <p:cNvSpPr/>
            <p:nvPr/>
          </p:nvSpPr>
          <p:spPr>
            <a:xfrm>
              <a:off x="3570840" y="699120"/>
              <a:ext cx="4955040" cy="178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570840" y="1585080"/>
              <a:ext cx="49550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8560" y="1890360"/>
              <a:ext cx="78696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231440" y="1327320"/>
              <a:ext cx="72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28520" y="1824480"/>
              <a:ext cx="496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52960" y="1883880"/>
              <a:ext cx="793800" cy="39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415840" y="1320840"/>
              <a:ext cx="1080" cy="68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4360" y="1818000"/>
              <a:ext cx="4946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3120" y="1883880"/>
              <a:ext cx="793440" cy="39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607080" y="1320840"/>
              <a:ext cx="720" cy="68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4520" y="1818000"/>
              <a:ext cx="49572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6520" y="922680"/>
              <a:ext cx="49572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8920" y="924840"/>
              <a:ext cx="49680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76840" y="922680"/>
              <a:ext cx="18918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Ва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55520" y="890640"/>
              <a:ext cx="5954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46760" y="890640"/>
              <a:ext cx="5940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30080" y="923760"/>
              <a:ext cx="54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15200" y="4227840"/>
            <a:ext cx="5026320" cy="1803960"/>
            <a:chOff x="3715200" y="4227840"/>
            <a:chExt cx="5026320" cy="1803960"/>
          </a:xfrm>
        </p:grpSpPr>
        <p:sp>
          <p:nvSpPr>
            <p:cNvPr id="157" name=""/>
            <p:cNvSpPr/>
            <p:nvPr/>
          </p:nvSpPr>
          <p:spPr>
            <a:xfrm>
              <a:off x="3715200" y="4227840"/>
              <a:ext cx="5026320" cy="180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715200" y="5126040"/>
              <a:ext cx="50263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7240" y="5435280"/>
              <a:ext cx="798120" cy="39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385160" y="4865040"/>
              <a:ext cx="72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8360" y="5368320"/>
              <a:ext cx="504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8560" y="5428440"/>
              <a:ext cx="80532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586840" y="4857840"/>
              <a:ext cx="1080" cy="6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1120" y="5361840"/>
              <a:ext cx="50184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26000" y="5428440"/>
              <a:ext cx="80496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795000" y="4857840"/>
              <a:ext cx="720" cy="6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8560" y="5361840"/>
              <a:ext cx="50292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9880" y="4454640"/>
              <a:ext cx="5029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9560" y="4456440"/>
              <a:ext cx="50400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64400" y="4454640"/>
              <a:ext cx="19191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Ва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15720" y="4422240"/>
              <a:ext cx="6040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3880" y="4422240"/>
              <a:ext cx="602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24480" y="4455360"/>
              <a:ext cx="5400" cy="41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5640" y="3141720"/>
            <a:ext cx="77040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инамические переменные можно использовать в операциях, допустимых для величин соответствующего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c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^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^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= p1^ + p3^.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p3^ do writeln (d, s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6E13-79E1-4B4D-ADE9-7EB1414BEE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84640" y="1353960"/>
            <a:ext cx="3367080" cy="32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84640" y="2955600"/>
            <a:ext cx="336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23040" y="3506760"/>
            <a:ext cx="892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84880" y="3387600"/>
            <a:ext cx="5637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5840" y="3494160"/>
            <a:ext cx="9003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76960" y="2477880"/>
            <a:ext cx="1800" cy="124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8040" y="3375000"/>
            <a:ext cx="5619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4200" y="1757520"/>
            <a:ext cx="5623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57880" y="1762200"/>
            <a:ext cx="56376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700280"/>
            <a:ext cx="6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1773360"/>
            <a:ext cx="6732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2^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4400" y="2491920"/>
            <a:ext cx="2880" cy="118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41749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присваивании указателю другого значения старое значение теряется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Это приводит к появлению так называемого мусора (обозначен овалом), когда доступа к участку динамической памяти нет, а сам он помечен как занятый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869000"/>
            <a:ext cx="29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1)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2)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 := 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5805360"/>
            <a:ext cx="122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219640" y="5805360"/>
            <a:ext cx="122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084280" y="1353600"/>
            <a:ext cx="3367800" cy="3214440"/>
            <a:chOff x="5084280" y="1353600"/>
            <a:chExt cx="3367800" cy="3214440"/>
          </a:xfrm>
        </p:grpSpPr>
        <p:sp>
          <p:nvSpPr>
            <p:cNvPr id="193" name=""/>
            <p:cNvSpPr/>
            <p:nvPr/>
          </p:nvSpPr>
          <p:spPr>
            <a:xfrm>
              <a:off x="5084280" y="1353600"/>
              <a:ext cx="3367800" cy="32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084280" y="2954880"/>
              <a:ext cx="33678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1960" y="3506400"/>
              <a:ext cx="89244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876720" y="2417760"/>
              <a:ext cx="224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3800" y="3387600"/>
              <a:ext cx="56340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65120" y="3494520"/>
              <a:ext cx="900000" cy="71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176600" y="2477160"/>
              <a:ext cx="1080" cy="12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8400" y="3375360"/>
              <a:ext cx="56088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3840" y="1757880"/>
              <a:ext cx="56196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7520" y="1761480"/>
              <a:ext cx="563400" cy="71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5120" y="2237040"/>
              <a:ext cx="67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65120" y="1700280"/>
              <a:ext cx="6739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6720" y="2417760"/>
              <a:ext cx="0" cy="71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863680" y="313308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863680" y="3133080"/>
              <a:ext cx="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1360" y="1519560"/>
              <a:ext cx="1575360" cy="125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7DFF-F778-4AC1-BC14-B3A2FD132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вобождение памят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Arial"/>
              </a:rPr>
              <a:t>Dispose(var p : pointer)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освобождает участок памяти, выделенный New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100" spc="-1" strike="noStrike">
                <a:solidFill>
                  <a:srgbClr val="0000cc"/>
                </a:solidFill>
                <a:latin typeface="Arial"/>
              </a:rPr>
              <a:t>Freemem(var p : pointer; size : word)</a:t>
            </a: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освобождает участок памяти размером size, начиная с адреса p.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Если память выделялась с помощью 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ew, следует применять Dispose, в противном случае — Freemem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Значение указателя после вызова этих процедур становится неопределенным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B074-0C3F-4672-BD03-C6027FE747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вобождение памяти из-под группы переменных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Если требуется освободить память из-под нескольких переменных одновременно, можно применять процедуры Mark и Releas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ark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var p : pointer) записывает в указатель p адрес начала участка свободной динамической памяти на момент ее вызов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Relea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var p : pointer) освобождает участок динамической памяти, начиная с адреса, записанного в указатель p процедурой Мark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962-7B49-4870-9E24-B51B26ABCC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спомогательные функ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axava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: longint возвращает длину в байтах самого длинного свободного участка динамической памяти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emava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: longint возвращает полный объем свободной динамической памяти в байтах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спомогательная 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Sizeof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x) : word возвращает объем в байтах, занимаемый x, причем x может быть либо именем переменной любого типа, либо именем типа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C90B-4AAF-40F4-A527-870898351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636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Лекция 19. Динамические структуры данных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3834-230E-4EFF-A0E0-4923B01EB2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0000" y="285264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Элемент динамической структуры состоит из дву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информационно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указателе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 =  ^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 word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|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нформационна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|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ring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|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часть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             |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указатель на следующи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-243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иды динамических структур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99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программах чаще всего используются: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инейные списк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ек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4076640"/>
            <a:ext cx="4753080" cy="398880"/>
            <a:chOff x="3635280" y="4076640"/>
            <a:chExt cx="4753080" cy="398880"/>
          </a:xfrm>
        </p:grpSpPr>
        <p:sp>
          <p:nvSpPr>
            <p:cNvPr id="220" name=""/>
            <p:cNvSpPr/>
            <p:nvPr/>
          </p:nvSpPr>
          <p:spPr>
            <a:xfrm>
              <a:off x="3635280" y="4076640"/>
              <a:ext cx="43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67280" y="4076640"/>
              <a:ext cx="35290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96360" y="4076640"/>
              <a:ext cx="79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995640" y="1557360"/>
            <a:ext cx="43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инарные дерев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1F6D-DD79-45A9-A03F-A94567A043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Стек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ализует принцип обслуживания LIF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Last In – First Out)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работы со стеком используются две статические переменные: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ь на вершину стек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спомогательный указатель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top, 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ние первого элемента стека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top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d := 100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s := ‘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p := nil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147200" y="4343400"/>
            <a:ext cx="4232880" cy="1796040"/>
            <a:chOff x="4147200" y="4343400"/>
            <a:chExt cx="4232880" cy="1796040"/>
          </a:xfrm>
        </p:grpSpPr>
        <p:sp>
          <p:nvSpPr>
            <p:cNvPr id="227" name=""/>
            <p:cNvSpPr/>
            <p:nvPr/>
          </p:nvSpPr>
          <p:spPr>
            <a:xfrm>
              <a:off x="4147200" y="4343400"/>
              <a:ext cx="4232880" cy="17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7920" y="5202720"/>
              <a:ext cx="4232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21880" y="5381640"/>
              <a:ext cx="784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026480" y="4433040"/>
              <a:ext cx="947880" cy="568800"/>
              <a:chOff x="7026480" y="4433040"/>
              <a:chExt cx="947880" cy="568800"/>
            </a:xfrm>
          </p:grpSpPr>
          <p:sp>
            <p:nvSpPr>
              <p:cNvPr id="231" name=""/>
              <p:cNvSpPr/>
              <p:nvPr/>
            </p:nvSpPr>
            <p:spPr>
              <a:xfrm>
                <a:off x="7026480" y="4433040"/>
                <a:ext cx="47376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00240" y="4433040"/>
                <a:ext cx="47412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00240" y="4433040"/>
                <a:ext cx="474120" cy="56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499880" y="4433040"/>
                <a:ext cx="474120" cy="56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7121880" y="5001480"/>
              <a:ext cx="72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25200" y="4529160"/>
              <a:ext cx="1731600" cy="479520"/>
            </a:xfrm>
            <a:prstGeom prst="borderCallout1">
              <a:avLst>
                <a:gd name="adj1" fmla="val 18750"/>
                <a:gd name="adj2" fmla="val -8333"/>
                <a:gd name="adj3" fmla="val 69625"/>
                <a:gd name="adj4" fmla="val -94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27720" y="888840"/>
            <a:ext cx="1360800" cy="3206880"/>
          </a:xfrm>
          <a:custGeom>
            <a:avLst/>
            <a:gdLst/>
            <a:ahLst/>
            <a:rect l="l" t="t" r="r" b="b"/>
            <a:pathLst>
              <a:path w="857" h="2020">
                <a:moveTo>
                  <a:pt x="192" y="16"/>
                </a:moveTo>
                <a:cubicBezTo>
                  <a:pt x="227" y="4"/>
                  <a:pt x="259" y="0"/>
                  <a:pt x="295" y="9"/>
                </a:cubicBezTo>
                <a:cubicBezTo>
                  <a:pt x="340" y="39"/>
                  <a:pt x="353" y="108"/>
                  <a:pt x="364" y="160"/>
                </a:cubicBezTo>
                <a:cubicBezTo>
                  <a:pt x="361" y="285"/>
                  <a:pt x="372" y="543"/>
                  <a:pt x="281" y="674"/>
                </a:cubicBezTo>
                <a:cubicBezTo>
                  <a:pt x="270" y="707"/>
                  <a:pt x="253" y="748"/>
                  <a:pt x="233" y="777"/>
                </a:cubicBezTo>
                <a:cubicBezTo>
                  <a:pt x="224" y="805"/>
                  <a:pt x="209" y="835"/>
                  <a:pt x="192" y="859"/>
                </a:cubicBezTo>
                <a:cubicBezTo>
                  <a:pt x="180" y="896"/>
                  <a:pt x="166" y="930"/>
                  <a:pt x="144" y="962"/>
                </a:cubicBezTo>
                <a:cubicBezTo>
                  <a:pt x="134" y="992"/>
                  <a:pt x="116" y="1017"/>
                  <a:pt x="103" y="1045"/>
                </a:cubicBezTo>
                <a:cubicBezTo>
                  <a:pt x="91" y="1071"/>
                  <a:pt x="85" y="1100"/>
                  <a:pt x="76" y="1127"/>
                </a:cubicBezTo>
                <a:cubicBezTo>
                  <a:pt x="41" y="1235"/>
                  <a:pt x="13" y="1335"/>
                  <a:pt x="0" y="1449"/>
                </a:cubicBezTo>
                <a:cubicBezTo>
                  <a:pt x="8" y="1575"/>
                  <a:pt x="19" y="1662"/>
                  <a:pt x="89" y="1765"/>
                </a:cubicBezTo>
                <a:cubicBezTo>
                  <a:pt x="111" y="1797"/>
                  <a:pt x="120" y="1820"/>
                  <a:pt x="151" y="1840"/>
                </a:cubicBezTo>
                <a:cubicBezTo>
                  <a:pt x="187" y="1895"/>
                  <a:pt x="246" y="1926"/>
                  <a:pt x="302" y="1957"/>
                </a:cubicBezTo>
                <a:cubicBezTo>
                  <a:pt x="373" y="1996"/>
                  <a:pt x="317" y="1975"/>
                  <a:pt x="364" y="1991"/>
                </a:cubicBezTo>
                <a:cubicBezTo>
                  <a:pt x="384" y="2005"/>
                  <a:pt x="402" y="2010"/>
                  <a:pt x="425" y="2018"/>
                </a:cubicBezTo>
                <a:cubicBezTo>
                  <a:pt x="515" y="2013"/>
                  <a:pt x="539" y="2020"/>
                  <a:pt x="604" y="1998"/>
                </a:cubicBezTo>
                <a:cubicBezTo>
                  <a:pt x="622" y="1969"/>
                  <a:pt x="651" y="1955"/>
                  <a:pt x="665" y="1922"/>
                </a:cubicBezTo>
                <a:cubicBezTo>
                  <a:pt x="671" y="1909"/>
                  <a:pt x="674" y="1895"/>
                  <a:pt x="679" y="1881"/>
                </a:cubicBezTo>
                <a:cubicBezTo>
                  <a:pt x="681" y="1874"/>
                  <a:pt x="686" y="1861"/>
                  <a:pt x="686" y="1861"/>
                </a:cubicBezTo>
                <a:cubicBezTo>
                  <a:pt x="680" y="1781"/>
                  <a:pt x="669" y="1684"/>
                  <a:pt x="597" y="1634"/>
                </a:cubicBezTo>
                <a:cubicBezTo>
                  <a:pt x="583" y="1593"/>
                  <a:pt x="601" y="1633"/>
                  <a:pt x="569" y="1600"/>
                </a:cubicBezTo>
                <a:cubicBezTo>
                  <a:pt x="549" y="1580"/>
                  <a:pt x="546" y="1562"/>
                  <a:pt x="521" y="1545"/>
                </a:cubicBezTo>
                <a:cubicBezTo>
                  <a:pt x="512" y="1519"/>
                  <a:pt x="492" y="1507"/>
                  <a:pt x="480" y="1483"/>
                </a:cubicBezTo>
                <a:cubicBezTo>
                  <a:pt x="463" y="1449"/>
                  <a:pt x="454" y="1412"/>
                  <a:pt x="432" y="1381"/>
                </a:cubicBezTo>
                <a:cubicBezTo>
                  <a:pt x="406" y="1303"/>
                  <a:pt x="441" y="1207"/>
                  <a:pt x="487" y="1141"/>
                </a:cubicBezTo>
                <a:cubicBezTo>
                  <a:pt x="501" y="1098"/>
                  <a:pt x="529" y="1071"/>
                  <a:pt x="556" y="1038"/>
                </a:cubicBezTo>
                <a:cubicBezTo>
                  <a:pt x="577" y="1013"/>
                  <a:pt x="589" y="983"/>
                  <a:pt x="604" y="955"/>
                </a:cubicBezTo>
                <a:cubicBezTo>
                  <a:pt x="623" y="921"/>
                  <a:pt x="649" y="885"/>
                  <a:pt x="672" y="853"/>
                </a:cubicBezTo>
                <a:cubicBezTo>
                  <a:pt x="683" y="820"/>
                  <a:pt x="707" y="779"/>
                  <a:pt x="727" y="750"/>
                </a:cubicBezTo>
                <a:cubicBezTo>
                  <a:pt x="747" y="689"/>
                  <a:pt x="718" y="771"/>
                  <a:pt x="748" y="709"/>
                </a:cubicBezTo>
                <a:cubicBezTo>
                  <a:pt x="759" y="687"/>
                  <a:pt x="760" y="668"/>
                  <a:pt x="775" y="647"/>
                </a:cubicBezTo>
                <a:cubicBezTo>
                  <a:pt x="784" y="610"/>
                  <a:pt x="791" y="583"/>
                  <a:pt x="796" y="544"/>
                </a:cubicBezTo>
                <a:cubicBezTo>
                  <a:pt x="789" y="459"/>
                  <a:pt x="778" y="343"/>
                  <a:pt x="727" y="270"/>
                </a:cubicBezTo>
                <a:cubicBezTo>
                  <a:pt x="715" y="236"/>
                  <a:pt x="707" y="197"/>
                  <a:pt x="686" y="167"/>
                </a:cubicBezTo>
                <a:cubicBezTo>
                  <a:pt x="681" y="153"/>
                  <a:pt x="677" y="140"/>
                  <a:pt x="672" y="126"/>
                </a:cubicBezTo>
                <a:cubicBezTo>
                  <a:pt x="670" y="119"/>
                  <a:pt x="665" y="105"/>
                  <a:pt x="665" y="105"/>
                </a:cubicBezTo>
                <a:cubicBezTo>
                  <a:pt x="667" y="91"/>
                  <a:pt x="664" y="44"/>
                  <a:pt x="686" y="30"/>
                </a:cubicBezTo>
                <a:cubicBezTo>
                  <a:pt x="698" y="22"/>
                  <a:pt x="727" y="16"/>
                  <a:pt x="727" y="16"/>
                </a:cubicBezTo>
                <a:cubicBezTo>
                  <a:pt x="774" y="28"/>
                  <a:pt x="737" y="18"/>
                  <a:pt x="796" y="37"/>
                </a:cubicBezTo>
                <a:cubicBezTo>
                  <a:pt x="803" y="39"/>
                  <a:pt x="816" y="43"/>
                  <a:pt x="816" y="43"/>
                </a:cubicBezTo>
                <a:cubicBezTo>
                  <a:pt x="826" y="73"/>
                  <a:pt x="847" y="96"/>
                  <a:pt x="857" y="126"/>
                </a:cubicBezTo>
                <a:cubicBezTo>
                  <a:pt x="848" y="151"/>
                  <a:pt x="856" y="143"/>
                  <a:pt x="837" y="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3645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335772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36000" y="2997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2637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67640" y="2205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5080" y="184464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1413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12000" y="98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3123-8C13-42F2-ACBA-D39FAD5AD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14 -0.53333 C -0.02222 -0.51898 -0.02292 -0.50486 -0.02379 -0.49027 C -0.02309 -0.47175 -0.02535 -0.4574 -0.01771 -0.44282 C -0.01632 -0.43611 -0.01302 -0.42962 -0.01059 -0.42361 C -0.0092 -0.42036 -0.00747 -0.41736 -0.00591 -0.41411 C -0.00504 -0.41249 -0.00347 -0.40949 -0.00347 -0.40949 C -0.00052 -0.39791 0.00451 -0.38634 0.00955 -0.37615 C 0.01024 -0.37499 0.01024 -0.37291 0.01076 -0.37129 C 0.01146 -0.36967 0.01232 -0.36851 0.01319 -0.36666 C 0.01545 -0.3581 0.01597 -0.35092 0.01666 -0.34143 C 0.01493 -0.31759 0.01024 -0.29398 3.88889E-006 -0.27453 C -0.00139 -0.26782 -0.00417 -0.26134 -0.00712 -0.25578 C -0.00868 -0.25231 -0.01025 -0.2493 -0.01181 -0.24583 C -0.0125 -0.24421 -0.01424 -0.2412 -0.01424 -0.2412 C -0.01754 -0.22777 -0.02622 -0.21481 -0.03212 -0.203 C -0.03455 -0.19837 -0.03681 -0.19351 -0.03924 -0.18911 C -0.04011 -0.18726 -0.04167 -0.18402 -0.04167 -0.18402 C -0.04462 -0.17013 -0.04028 -0.18911 -0.04514 -0.17476 C -0.05122 -0.15671 -0.04427 -0.17152 -0.05 -0.16018 C -0.0507 -0.15694 -0.05087 -0.1537 -0.05226 -0.15069 C -0.05313 -0.1493 -0.05417 -0.14768 -0.05469 -0.14583 C -0.05573 -0.14305 -0.05712 -0.13634 -0.05712 -0.13634 C -0.05677 -0.128 -0.0566 -0.11944 -0.05591 -0.11111 C -0.05434 -0.0912 -0.04479 -0.07754 -0.03681 -0.0618 C -0.03229 -0.05277 -0.02813 -0.04074 -0.02136 -0.03472 C -0.01389 -0.0206 -0.02396 -0.03796 -0.01545 -0.02847 C -0.00834 -0.0206 -0.01788 -0.02546 -0.00938 -0.02222 C -0.00834 -0.01689 -0.00347 -0.00786 -0.00347 -0.00786 C -0.00191 -0.00161 -0.00313 -0.00416 3.88889E-006 7.40741E-006 E">
                                      <p:cBhvr>
                                        <p:cTn id="88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-0.4794 C 0.01632 -0.44884 0.01528 -0.44745 0.01771 -0.41273 C 0.01823 -0.4044 0.03142 -0.37824 0.03559 -0.36967 C 0.03767 -0.36551 0.03889 -0.35995 0.04045 -0.35555 C 0.04826 -0.33403 0.05382 -0.31458 0.0559 -0.29051 C 0.05417 -0.27384 0.05226 -0.25995 0.04514 -0.24606 C 0.04271 -0.2412 0.04132 -0.23657 0.03924 -0.23171 C 0.03785 -0.2287 0.03437 -0.22222 0.03437 -0.22222 C 0.03246 -0.21366 0.03403 -0.21898 0.02847 -0.20787 C 0.0276 -0.20625 0.02604 -0.20301 0.02604 -0.20301 C 0.02413 -0.19467 0.02569 -0.19977 0.02014 -0.18889 C 0.01927 -0.18727 0.01771 -0.18403 0.01771 -0.18403 C 0.0158 -0.17569 0.01736 -0.18079 0.0118 -0.16967 C 0.00816 -0.16227 0.00608 -0.1537 0.00226 -0.14606 C 0.00069 -0.14305 -0.00087 -0.13981 -0.00243 -0.13657 C -0.00313 -0.13495 -0.00486 -0.13171 -0.00486 -0.13171 C -0.00642 -0.12546 -0.00903 -0.11829 -0.01198 -0.11273 C -0.01406 -0.10417 -0.01615 -0.09606 -0.01788 -0.08727 C -0.01632 -0.06412 -0.01007 -0.04282 -0.00486 -0.0206 C -0.00347 -0.01481 2.5E-006 -0.00648 2.5E-006 3.33333E-006 E">
                                      <p:cBhvr>
                                        <p:cTn id="9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45 -0.43172 C 0.04114 -0.40672 0.04062 -0.38056 0.04409 -0.35556 C 0.04461 -0.35232 0.04687 -0.34144 0.04774 -0.33959 C 0.05156 -0.33195 0.05538 -0.32385 0.05833 -0.31574 C 0.06007 -0.31088 0.06441 -0.30162 0.06441 -0.30162 C 0.06562 -0.29607 0.06649 -0.29213 0.06909 -0.28727 C 0.06927 -0.28658 0.07204 -0.2757 0.07274 -0.27292 C 0.07343 -0.26968 0.075 -0.26343 0.075 -0.26343 C 0.0743 -0.24028 0.07621 -0.21112 0.06545 -0.19051 C 0.06423 -0.18496 0.06336 -0.18102 0.06076 -0.17616 C 0.05659 -0.15949 0.04774 -0.14422 0.04166 -0.12848 C 0.03993 -0.12385 0.03889 -0.11852 0.03698 -0.11412 C 0.03559 -0.11088 0.03211 -0.10463 0.03211 -0.10463 C 0.0302 -0.0963 0.03177 -0.10139 0.02621 -0.09051 C 0.02152 -0.08102 0.01788 -0.06968 0.01076 -0.06343 C 0.01041 -0.06274 0.00503 -0.05186 0.00364 -0.04908 C 0.00277 -0.04746 0.00121 -0.04445 0.00121 -0.04445 C -0.00052 -0.03774 -0.00296 -0.03218 -0.00469 -0.02524 C -0.00504 -0.02362 -0.00591 -0.02061 -0.00591 -0.02061 C -0.00573 -0.01829 -0.00348 2.59259E-006 4.44444E-006 2.59259E-006 E">
                                      <p:cBhvr>
                                        <p:cTn id="10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6 -0.36667 C 0.01042 -0.34329 0.01094 -0.31181 0.02153 -0.29051 C 0.02553 -0.28264 0.02952 -0.27454 0.03334 -0.26667 C 0.0356 -0.26204 0.03942 -0.25231 0.03942 -0.25231 C 0.0408 -0.24583 0.04358 -0.23889 0.04653 -0.23333 C 0.04931 -0.22245 0.04601 -0.23588 0.05001 -0.21898 C 0.0507 -0.21574 0.05244 -0.20949 0.05244 -0.20949 C 0.05209 -0.19792 0.05209 -0.18611 0.05122 -0.17454 C 0.05053 -0.16643 0.04653 -0.15787 0.0441 -0.15069 C 0.04133 -0.14259 0.03837 -0.13472 0.03577 -0.12685 C 0.03473 -0.12384 0.03473 -0.12014 0.03334 -0.11736 C 0.02952 -0.10972 0.0257 -0.10162 0.02275 -0.09352 C 0.02101 -0.08866 0.01667 -0.0794 0.01667 -0.0794 C 0.01546 -0.07477 0.0139 -0.06944 0.01199 -0.06505 C 0.0106 -0.06181 0.00712 -0.05556 0.00712 -0.05556 C 0.00435 -0.04259 -0.00086 -0.03079 -0.00347 -0.01736 C -0.00381 -0.01528 -0.00416 -0.01319 -0.00468 -0.01111 C -0.00538 -0.00787 -0.00711 -0.00162 -0.00711 -0.00162 C -0.00242 0.00046 -0.00468 1.85185E-006 5.55556E-006 1.85185E-006 E">
                                      <p:cBhvr>
                                        <p:cTn id="10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31899 C 0.00243 -0.31413 0.00122 -0.30926 -0.00121 -0.30463 C -0.0052 -0.27917 -0.00764 -0.24954 0.00365 -0.22686 C 0.00486 -0.22176 0.00955 -0.21274 0.00955 -0.21274 C 0.01094 -0.20718 0.01302 -0.20325 0.01545 -0.19838 C 0.01754 -0.18982 0.0224 -0.18195 0.02622 -0.17454 C 0.03056 -0.16598 0.03125 -0.15463 0.03577 -0.14607 C 0.03542 -0.12639 0.03525 -0.10695 0.03455 -0.08727 C 0.03438 -0.08218 0.03056 -0.07686 0.02865 -0.07292 C 0.0224 -0.06019 0.01615 -0.04746 0.00955 -0.03496 C 0.00625 -0.022 -5.55556E-007 -0.01505 -5.55556E-007 -5.55556E-006 E">
                                      <p:cBhvr>
                                        <p:cTn id="11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 -0.27014 C -0.02101 -0.26157 -0.02413 -0.25463 -0.02622 -0.24629 C -0.02743 -0.24143 -0.02969 -0.23194 -0.02969 -0.23194 C -0.02882 -0.21134 -0.03056 -0.20833 -0.02743 -0.19537 C -0.02674 -0.19213 -0.02639 -0.18866 -0.025 -0.18588 C -0.02344 -0.18264 -0.02014 -0.17639 -0.02014 -0.17639 C -0.01788 -0.1662 -0.01302 -0.15671 -0.00834 -0.14792 C -0.00643 -0.14004 -0.00313 -0.13125 -5.55556E-007 -0.1243 C 0.00139 -0.12083 0.00486 -0.11481 0.00486 -0.11481 C 0.00642 -0.10787 0.00955 -0.10185 0.01198 -0.09537 C 0.01389 -0.09028 0.01406 -0.08634 0.01666 -0.08125 C 0.01962 -0.06991 0.02118 -0.05278 0.01076 -0.04792 C 0.00989 -0.04629 0.00937 -0.04421 0.00833 -0.04305 C 0.00746 -0.04213 0.00573 -0.04259 0.00486 -0.04143 C 0.00399 -0.04028 0.00434 -0.03819 0.00364 -0.0368 C 0.00226 -0.03356 -0.00122 -0.02731 -0.00122 -0.02731 C -0.00087 -0.01829 -5.55556E-007 -0.00023 -5.55556E-007 -0.00023 E">
                                      <p:cBhvr>
                                        <p:cTn id="11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-0.20348 C -0.03056 -0.19213 -0.03351 -0.18125 -0.03576 -0.17014 C -0.03507 -0.1507 -0.03767 -0.13473 -0.02969 -0.11945 C -0.02778 -0.11065 -0.02222 -0.10325 -0.02031 -0.09561 C -0.01858 -0.08843 -0.01389 -0.08334 -0.01198 -0.07639 C -0.01024 -0.06991 -0.00764 -0.0632 -0.00469 -0.05741 C -0.0033 -0.05093 -0.00052 -0.04399 0.00243 -0.03866 C 0.00556 -0.0257 0.00642 -0.02061 0.00365 -0.00371 C 0.0033 -0.00162 2.5E-006 -0.00024 2.5E-006 -0.00024 E">
                                      <p:cBhvr>
                                        <p:cTn id="12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4 -0.13496 C -0.00815 -0.1294 -0.00694 -0.12153 -0.00486 -0.11597 C -0.00295 -0.11065 -0.00034 -0.10579 0.00122 -0.1 C 0.00417 -0.08866 0.00556 -0.07639 0.00834 -0.06505 C 0.0099 -0.04722 0.01563 -0.01042 6.11111E-006 -3.7037E-007 E">
                                      <p:cBhvr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201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деление памяти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w(p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826920" y="-360"/>
            <a:ext cx="800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Добавление элемента в сте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242100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нес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d :=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s :=  '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ет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78560" y="1052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язь с предыду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p := t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31960" y="912960"/>
            <a:ext cx="2171880" cy="1339560"/>
            <a:chOff x="2631960" y="912960"/>
            <a:chExt cx="2171880" cy="1339560"/>
          </a:xfrm>
        </p:grpSpPr>
        <p:sp>
          <p:nvSpPr>
            <p:cNvPr id="251" name=""/>
            <p:cNvSpPr/>
            <p:nvPr/>
          </p:nvSpPr>
          <p:spPr>
            <a:xfrm>
              <a:off x="2637360" y="912960"/>
              <a:ext cx="2166480" cy="13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1960" y="159372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60920" y="182268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5880" y="102204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9400" y="102204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9440" y="182268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56240" y="144072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884400" y="1022040"/>
              <a:ext cx="707400" cy="424080"/>
              <a:chOff x="3884400" y="1022040"/>
              <a:chExt cx="707400" cy="424080"/>
            </a:xfrm>
          </p:grpSpPr>
          <p:sp>
            <p:nvSpPr>
              <p:cNvPr id="259" name=""/>
              <p:cNvSpPr/>
              <p:nvPr/>
            </p:nvSpPr>
            <p:spPr>
              <a:xfrm>
                <a:off x="3884400" y="102204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37920" y="102204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37920" y="102204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237560" y="102204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V="1">
              <a:off x="3884400" y="147924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31600" y="3865680"/>
            <a:ext cx="2171880" cy="1339560"/>
            <a:chOff x="831600" y="3865680"/>
            <a:chExt cx="2171880" cy="1339560"/>
          </a:xfrm>
        </p:grpSpPr>
        <p:sp>
          <p:nvSpPr>
            <p:cNvPr id="265" name=""/>
            <p:cNvSpPr/>
            <p:nvPr/>
          </p:nvSpPr>
          <p:spPr>
            <a:xfrm>
              <a:off x="837000" y="3865680"/>
              <a:ext cx="2166480" cy="13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1600" y="454644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560" y="477540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55520" y="3974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9040" y="3974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89080" y="477540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055880" y="439344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084040" y="3974760"/>
              <a:ext cx="707400" cy="424080"/>
              <a:chOff x="2084040" y="3974760"/>
              <a:chExt cx="707400" cy="424080"/>
            </a:xfrm>
          </p:grpSpPr>
          <p:sp>
            <p:nvSpPr>
              <p:cNvPr id="273" name=""/>
              <p:cNvSpPr/>
              <p:nvPr/>
            </p:nvSpPr>
            <p:spPr>
              <a:xfrm>
                <a:off x="2084040" y="397476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37560" y="397476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37560" y="3974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37200" y="3974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2084040" y="443196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945040" y="1849680"/>
            <a:ext cx="2171880" cy="1339200"/>
            <a:chOff x="5945040" y="1849680"/>
            <a:chExt cx="2171880" cy="1339200"/>
          </a:xfrm>
        </p:grpSpPr>
        <p:sp>
          <p:nvSpPr>
            <p:cNvPr id="279" name=""/>
            <p:cNvSpPr/>
            <p:nvPr/>
          </p:nvSpPr>
          <p:spPr>
            <a:xfrm>
              <a:off x="5950440" y="1849680"/>
              <a:ext cx="216648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5040" y="253044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4000" y="275904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8960" y="1958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2480" y="1958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2520" y="275904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69320" y="237672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7197480" y="1958760"/>
              <a:ext cx="707400" cy="424080"/>
              <a:chOff x="7197480" y="1958760"/>
              <a:chExt cx="707400" cy="424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197480" y="195876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51000" y="195876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51000" y="1958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550640" y="1958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V="1">
              <a:off x="7197480" y="241560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730920" y="2060640"/>
            <a:ext cx="57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6880" y="3500280"/>
            <a:ext cx="255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казателя на верш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op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: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66040" y="3499200"/>
            <a:ext cx="2173320" cy="1339200"/>
            <a:chOff x="6566040" y="3499200"/>
            <a:chExt cx="2173320" cy="1339200"/>
          </a:xfrm>
        </p:grpSpPr>
        <p:sp>
          <p:nvSpPr>
            <p:cNvPr id="295" name=""/>
            <p:cNvSpPr/>
            <p:nvPr/>
          </p:nvSpPr>
          <p:spPr>
            <a:xfrm>
              <a:off x="6571080" y="3499200"/>
              <a:ext cx="216828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66040" y="4179960"/>
              <a:ext cx="1944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94640" y="44085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9600" y="36082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3480" y="36082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24240" y="44085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790320" y="40262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7819200" y="3608280"/>
              <a:ext cx="707760" cy="424080"/>
              <a:chOff x="7819200" y="3608280"/>
              <a:chExt cx="707760" cy="424080"/>
            </a:xfrm>
          </p:grpSpPr>
          <p:sp>
            <p:nvSpPr>
              <p:cNvPr id="303" name=""/>
              <p:cNvSpPr/>
              <p:nvPr/>
            </p:nvSpPr>
            <p:spPr>
              <a:xfrm>
                <a:off x="7819200" y="36082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73080" y="36082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173080" y="36082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172720" y="36082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361640" y="38368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98680" y="5030640"/>
            <a:ext cx="3875040" cy="1614600"/>
            <a:chOff x="3298680" y="5030640"/>
            <a:chExt cx="3875040" cy="1614600"/>
          </a:xfrm>
        </p:grpSpPr>
        <p:sp>
          <p:nvSpPr>
            <p:cNvPr id="309" name=""/>
            <p:cNvSpPr/>
            <p:nvPr/>
          </p:nvSpPr>
          <p:spPr>
            <a:xfrm>
              <a:off x="3298680" y="5030640"/>
              <a:ext cx="3875040" cy="16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98680" y="5835240"/>
              <a:ext cx="38750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42920" y="6015240"/>
              <a:ext cx="8978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84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508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002280" y="5114520"/>
              <a:ext cx="884160" cy="532080"/>
              <a:chOff x="6002280" y="5114520"/>
              <a:chExt cx="884160" cy="532080"/>
            </a:xfrm>
          </p:grpSpPr>
          <p:sp>
            <p:nvSpPr>
              <p:cNvPr id="315" name=""/>
              <p:cNvSpPr/>
              <p:nvPr/>
            </p:nvSpPr>
            <p:spPr>
              <a:xfrm>
                <a:off x="6002280" y="5114520"/>
                <a:ext cx="442080" cy="53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44360" y="5114520"/>
                <a:ext cx="442080" cy="53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44360" y="5114520"/>
                <a:ext cx="44208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444360" y="5114520"/>
                <a:ext cx="44208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V="1">
              <a:off x="3742920" y="5654520"/>
              <a:ext cx="72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462280" y="5384520"/>
              <a:ext cx="537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940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364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290840" y="5384520"/>
              <a:ext cx="53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951F-BAA6-423E-9E1C-AA0749D894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349200"/>
            <a:ext cx="7678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Лекция 5. Работа с динамической памятью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Указатели: виды, описание, использование. Динамические переменные. Динамические структуры данных: стек, очередь, линейный список, бинарное дерево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4090-6895-477F-9FD6-DEA7F5514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ыборка из сте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382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борка данных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top^ do writeln (d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81760" y="3002400"/>
            <a:ext cx="2172960" cy="1339200"/>
            <a:chOff x="3281760" y="3002400"/>
            <a:chExt cx="2172960" cy="1339200"/>
          </a:xfrm>
        </p:grpSpPr>
        <p:sp>
          <p:nvSpPr>
            <p:cNvPr id="327" name=""/>
            <p:cNvSpPr/>
            <p:nvPr/>
          </p:nvSpPr>
          <p:spPr>
            <a:xfrm>
              <a:off x="3286800" y="3002400"/>
              <a:ext cx="216792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1760" y="368316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0360" y="391176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,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05320" y="31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9200" y="31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9600" y="39117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506040" y="35294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534560" y="3111480"/>
              <a:ext cx="707760" cy="424080"/>
              <a:chOff x="4534560" y="3111480"/>
              <a:chExt cx="707760" cy="424080"/>
            </a:xfrm>
          </p:grpSpPr>
          <p:sp>
            <p:nvSpPr>
              <p:cNvPr id="335" name=""/>
              <p:cNvSpPr/>
              <p:nvPr/>
            </p:nvSpPr>
            <p:spPr>
              <a:xfrm>
                <a:off x="4534560" y="31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88440" y="31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88440" y="31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888080" y="31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077000" y="3340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281760" y="4802400"/>
            <a:ext cx="2172960" cy="1339200"/>
            <a:chOff x="3281760" y="4802400"/>
            <a:chExt cx="2172960" cy="1339200"/>
          </a:xfrm>
        </p:grpSpPr>
        <p:sp>
          <p:nvSpPr>
            <p:cNvPr id="341" name=""/>
            <p:cNvSpPr/>
            <p:nvPr/>
          </p:nvSpPr>
          <p:spPr>
            <a:xfrm>
              <a:off x="3286800" y="4802400"/>
              <a:ext cx="216792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1760" y="548316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0360" y="571176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05320" y="49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59200" y="49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9600" y="57117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040" y="53294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534560" y="4911480"/>
              <a:ext cx="707760" cy="424080"/>
              <a:chOff x="4534560" y="4911480"/>
              <a:chExt cx="707760" cy="424080"/>
            </a:xfrm>
          </p:grpSpPr>
          <p:sp>
            <p:nvSpPr>
              <p:cNvPr id="349" name=""/>
              <p:cNvSpPr/>
              <p:nvPr/>
            </p:nvSpPr>
            <p:spPr>
              <a:xfrm>
                <a:off x="4534560" y="49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88440" y="49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88440" y="49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888080" y="49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4077000" y="5140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534560" y="5368320"/>
              <a:ext cx="72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4560" y="571104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85440" y="1389240"/>
            <a:ext cx="2565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вободить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77400" y="2426040"/>
            <a:ext cx="2172960" cy="1341000"/>
            <a:chOff x="6377400" y="2426040"/>
            <a:chExt cx="2172960" cy="1341000"/>
          </a:xfrm>
        </p:grpSpPr>
        <p:sp>
          <p:nvSpPr>
            <p:cNvPr id="358" name=""/>
            <p:cNvSpPr/>
            <p:nvPr/>
          </p:nvSpPr>
          <p:spPr>
            <a:xfrm>
              <a:off x="6382440" y="2426040"/>
              <a:ext cx="2167920" cy="134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77400" y="310752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06000" y="3336480"/>
              <a:ext cx="795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00960" y="2535120"/>
              <a:ext cx="35388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54840" y="2535120"/>
              <a:ext cx="35388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5240" y="3336480"/>
              <a:ext cx="585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601680" y="2953800"/>
              <a:ext cx="36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630200" y="2535120"/>
              <a:ext cx="707760" cy="424800"/>
              <a:chOff x="7630200" y="2535120"/>
              <a:chExt cx="707760" cy="424800"/>
            </a:xfrm>
          </p:grpSpPr>
          <p:sp>
            <p:nvSpPr>
              <p:cNvPr id="366" name=""/>
              <p:cNvSpPr/>
              <p:nvPr/>
            </p:nvSpPr>
            <p:spPr>
              <a:xfrm>
                <a:off x="7630200" y="2535120"/>
                <a:ext cx="35388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84080" y="2535120"/>
                <a:ext cx="35388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84080" y="2535120"/>
                <a:ext cx="35388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983720" y="2535120"/>
                <a:ext cx="35388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172640" y="2764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30200" y="2992680"/>
              <a:ext cx="7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30200" y="3335760"/>
              <a:ext cx="79524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86480" y="2535120"/>
              <a:ext cx="800280" cy="80064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86480" y="2536920"/>
              <a:ext cx="914760" cy="57168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00720" y="342900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помнить ук-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= 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71640" y="5229360"/>
            <a:ext cx="1841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новить 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 верш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 := to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10A9-8003-4252-BBDC-033295224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о стеком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грамма формирует стек из пяти целых чисел и их текстового представления и выводит его на экран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gram s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st n = 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de = recor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 : string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s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ext : array [1 .. n]  of string =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'one', 'two', 'three', 'four', 'five'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D3BE-642B-4A8F-BF5A-BF9A0A762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- занесение в стек -----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unction push(top : pnode; d : word; const s : string)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^.d := d;     p^.s := s;     p^.p := to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ush := 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3500280"/>
            <a:ext cx="8281800" cy="29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- выборка из стека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unction pop(top : pnode; var d : word; var s : string)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= top^.d;         s := top^.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op := to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(t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684C-0692-48E7-B686-3016D52BF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 главная программа -----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top := nil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занесение в стек: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i := 1 to n do top := push(top, i, text[i]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выборка из стека: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ile top &lt;&gt; nil do 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 := pop(top, i, s);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riteln(i:2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59F8-EB88-4D71-8959-FE5C46B8E7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черед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002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еализует принцип обслуживания FIFO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865400" y="2355120"/>
            <a:ext cx="3805920" cy="1613520"/>
            <a:chOff x="4865400" y="2355120"/>
            <a:chExt cx="3805920" cy="1613520"/>
          </a:xfrm>
        </p:grpSpPr>
        <p:sp>
          <p:nvSpPr>
            <p:cNvPr id="385" name=""/>
            <p:cNvSpPr/>
            <p:nvPr/>
          </p:nvSpPr>
          <p:spPr>
            <a:xfrm>
              <a:off x="4865400" y="2355120"/>
              <a:ext cx="3805920" cy="161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6120" y="3127320"/>
              <a:ext cx="38052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0920" y="3287880"/>
              <a:ext cx="779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b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205240" y="2435760"/>
              <a:ext cx="852480" cy="511200"/>
              <a:chOff x="5205240" y="2435760"/>
              <a:chExt cx="852480" cy="511200"/>
            </a:xfrm>
          </p:grpSpPr>
          <p:sp>
            <p:nvSpPr>
              <p:cNvPr id="389" name=""/>
              <p:cNvSpPr/>
              <p:nvPr/>
            </p:nvSpPr>
            <p:spPr>
              <a:xfrm>
                <a:off x="5205240" y="2435760"/>
                <a:ext cx="426240" cy="51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31480" y="2435760"/>
                <a:ext cx="426240" cy="51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31480" y="2435760"/>
                <a:ext cx="4262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5631480" y="2435760"/>
                <a:ext cx="4262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V="1">
              <a:off x="5290920" y="2946600"/>
              <a:ext cx="7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205240" y="2954160"/>
              <a:ext cx="3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48640" y="2522160"/>
              <a:ext cx="1557000" cy="430560"/>
            </a:xfrm>
            <a:prstGeom prst="borderCallout1">
              <a:avLst>
                <a:gd name="adj1" fmla="val 18750"/>
                <a:gd name="adj2" fmla="val -8333"/>
                <a:gd name="adj3" fmla="val 61634"/>
                <a:gd name="adj4" fmla="val -159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859280" y="4514760"/>
            <a:ext cx="3875400" cy="1576800"/>
            <a:chOff x="4859280" y="4514760"/>
            <a:chExt cx="3875400" cy="1576800"/>
          </a:xfrm>
        </p:grpSpPr>
        <p:sp>
          <p:nvSpPr>
            <p:cNvPr id="397" name=""/>
            <p:cNvSpPr/>
            <p:nvPr/>
          </p:nvSpPr>
          <p:spPr>
            <a:xfrm>
              <a:off x="4908240" y="4514760"/>
              <a:ext cx="3788280" cy="157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584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4036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7551360" y="4596480"/>
              <a:ext cx="864360" cy="519840"/>
              <a:chOff x="7551360" y="4596480"/>
              <a:chExt cx="864360" cy="51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7551360" y="4596480"/>
                <a:ext cx="43200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983360" y="4596480"/>
                <a:ext cx="43236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83360" y="4596480"/>
                <a:ext cx="432360" cy="51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983000" y="4596480"/>
                <a:ext cx="432360" cy="51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flipV="1">
              <a:off x="7023240" y="4860000"/>
              <a:ext cx="525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068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484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878080" y="4860000"/>
              <a:ext cx="525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59280" y="5299920"/>
              <a:ext cx="3875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97760" y="5430600"/>
              <a:ext cx="7178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b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297760" y="5083200"/>
              <a:ext cx="72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589520" y="5091120"/>
              <a:ext cx="36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89520" y="5443200"/>
              <a:ext cx="7178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,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1700280"/>
            <a:ext cx="489600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чальное формирование очеред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(beg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^.d := 100; beg^.s :=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^.p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98560" y="4365720"/>
            <a:ext cx="394956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бавление элемента в коне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(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d := 10; p^.s := 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p :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^.p := p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748D-92CD-4D34-9D2A-81564F2AF4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ыборка элемента из начал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8163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beg^ do writeln (d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= beg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 := beg^.p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34040" y="2066760"/>
            <a:ext cx="378756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0920" y="2147760"/>
            <a:ext cx="43164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65800" y="2147760"/>
            <a:ext cx="4320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977160" y="2147760"/>
            <a:ext cx="863640" cy="520920"/>
            <a:chOff x="6977160" y="2147760"/>
            <a:chExt cx="863640" cy="520920"/>
          </a:xfrm>
        </p:grpSpPr>
        <p:sp>
          <p:nvSpPr>
            <p:cNvPr id="422" name=""/>
            <p:cNvSpPr/>
            <p:nvPr/>
          </p:nvSpPr>
          <p:spPr>
            <a:xfrm>
              <a:off x="6977160" y="2147760"/>
              <a:ext cx="4316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08800" y="2147760"/>
              <a:ext cx="43200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2147760"/>
              <a:ext cx="43200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408800" y="2147760"/>
              <a:ext cx="43200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448320" y="24130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86480" y="2147760"/>
            <a:ext cx="43164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19560" y="2147760"/>
            <a:ext cx="4320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03880" y="24130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84720" y="2852640"/>
            <a:ext cx="387504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22840" y="298296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722840" y="263520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5320" y="264312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15320" y="2995560"/>
            <a:ext cx="717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830920" y="263520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32360" y="298296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19560" y="3152880"/>
            <a:ext cx="554040" cy="0"/>
          </a:xfrm>
          <a:prstGeom prst="line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03600" y="2147760"/>
            <a:ext cx="1229040" cy="636840"/>
          </a:xfrm>
          <a:prstGeom prst="line">
            <a:avLst/>
          </a:prstGeom>
          <a:ln w="507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560840" y="2238480"/>
            <a:ext cx="1112760" cy="396720"/>
          </a:xfrm>
          <a:prstGeom prst="line">
            <a:avLst/>
          </a:prstGeom>
          <a:ln w="507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2997360"/>
            <a:ext cx="431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93D9-F21D-4979-B346-319CCE8875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Линейные списки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2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дносвязн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двусвязн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66920" y="1341360"/>
            <a:ext cx="3925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ольцев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842920" y="155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16360" y="162864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48360" y="1916280"/>
            <a:ext cx="36925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элемент списка содержит ключ, идентифицирующий этот элем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213000"/>
            <a:ext cx="78501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о спис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ое формирование списка (создание первого элемен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элемента в конец сп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элемента с заданным ключ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ка элемента в заданное место списка (до или после элемента с заданным ключ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элемента с заданным ключ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ивание списка по клю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BD30-1701-414C-BBB6-EA3B434EAD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о списком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ограмма, формирующая односвязный список из пяти элементов, содержащих число и его текстовое представление. Выполняет вставку и удаление заданного элемента. В качестве ключа используется число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39840" y="3711600"/>
            <a:ext cx="743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linked_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 n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 = ^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{ элемент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: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: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24360" y="3141720"/>
            <a:ext cx="4753080" cy="398880"/>
            <a:chOff x="3924360" y="3141720"/>
            <a:chExt cx="4753080" cy="398880"/>
          </a:xfrm>
        </p:grpSpPr>
        <p:sp>
          <p:nvSpPr>
            <p:cNvPr id="452" name=""/>
            <p:cNvSpPr/>
            <p:nvPr/>
          </p:nvSpPr>
          <p:spPr>
            <a:xfrm>
              <a:off x="3924360" y="3141720"/>
              <a:ext cx="43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56360" y="3141720"/>
              <a:ext cx="35290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85440" y="3141720"/>
              <a:ext cx="79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5BC-172E-4E0E-9F91-F53101160E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455840" y="687240"/>
            <a:ext cx="657216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начало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: array [1 .. n] of string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'one', 'two', 'three', 'four', 'fiv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5F2F-08F4-421B-81FF-73087A224B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71640" y="333360"/>
            <a:ext cx="784836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ление элемента в конец спис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add(var beg : pnode; d : word; const s : str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{ указатель на создаваемы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         { указатель для просмотра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создание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заполнение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p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eg = nil then beg :=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{ список не пус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&lt;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l d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{ проход по списку до конц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:= t^.p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привязка нового элемента к последнему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BE7-BA5C-48F7-A401-CCE1BC1015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новные понят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еременные для хранения адресов областей памяти называются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указателя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указателе можно хранить адрес данных или программного код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Адрес занимает четыре байта и хранится в виде двух слов, одно из которых определяет сегмент, второе — смещение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365720"/>
            <a:ext cx="266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с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726080"/>
            <a:ext cx="265896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5373720"/>
            <a:ext cx="2658960" cy="7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к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584520"/>
            <a:ext cx="265896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ая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42920" y="4076640"/>
            <a:ext cx="4001040" cy="1942920"/>
            <a:chOff x="1042920" y="4076640"/>
            <a:chExt cx="4001040" cy="1942920"/>
          </a:xfrm>
        </p:grpSpPr>
        <p:sp>
          <p:nvSpPr>
            <p:cNvPr id="59" name=""/>
            <p:cNvSpPr/>
            <p:nvPr/>
          </p:nvSpPr>
          <p:spPr>
            <a:xfrm>
              <a:off x="1500120" y="4419360"/>
              <a:ext cx="2514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дрес сегмен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5920" y="4991040"/>
              <a:ext cx="2514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меще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00120" y="5447880"/>
              <a:ext cx="32004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Физический адре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3043440" y="4133880"/>
              <a:ext cx="113760" cy="320040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700360" y="3104280"/>
              <a:ext cx="113040" cy="2514600"/>
            </a:xfrm>
            <a:custGeom>
              <a:avLst/>
              <a:gdLst>
                <a:gd name="textAreaLeft" fmla="*/ 72360 w 113040"/>
                <a:gd name="textAreaRight" fmla="*/ 113400 w 1130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3385800" y="3675960"/>
              <a:ext cx="113760" cy="251460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4300920" y="4019400"/>
              <a:ext cx="113760" cy="68544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71720" y="5790960"/>
              <a:ext cx="571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00680" y="4648320"/>
              <a:ext cx="570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4880" y="4076640"/>
              <a:ext cx="569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0" y="4076640"/>
              <a:ext cx="569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 би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15080" y="4419360"/>
              <a:ext cx="6854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2920" y="453348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7760" y="53341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7869-15FF-4058-8EFA-20598C43B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50760" y="326880"/>
            <a:ext cx="76536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элемента по ключ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find(beg : pnode; key : word; var p, pp : pnode)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be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 &lt;&gt; nil do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1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^.d = key then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2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:= true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 := p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3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p^.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4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: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2421000"/>
            <a:ext cx="360360" cy="2016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43280" y="2421000"/>
            <a:ext cx="1584360" cy="2087640"/>
          </a:xfrm>
          <a:custGeom>
            <a:avLst/>
            <a:gdLst>
              <a:gd name="textAreaLeft" fmla="*/ 0 w 1584360"/>
              <a:gd name="textAreaRight" fmla="*/ 1111320 w 158436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5A4B-9535-4A09-B453-C55B984BDF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55640" y="260280"/>
            <a:ext cx="6696000" cy="61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--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элем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insert(beg : pnode; key, d : word; const s : 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  { указатель на создаваемы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указатель на искомы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указатель на предыдущи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find(beg, key, pkey, pp) the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 вставка не выполнена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^.d := d; p^.s := s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^.p := pkey^.p;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^.p := p;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4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932360" y="3751200"/>
            <a:ext cx="4211640" cy="2702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300720" y="645336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C357-BC53-43B2-BAF4-6A897C17D8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384200" y="471600"/>
            <a:ext cx="7148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ение эле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del(var beg : pnode; key : 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удаляемы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предыдущи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find(beg, key, p, pp) then be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 удаление не выполнено'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{ удаление первого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pp^.p := 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A73B-A74C-4A32-B2AA-FFF6195134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166760" y="471600"/>
            <a:ext cx="76532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---------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print(beg : pn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для просмотра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be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 &lt;&gt; nil do be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p^.d:3, p^.s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{ переход к следующему элементу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0F03-BE1E-4F72-AE92-6B6D471329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384200" y="398520"/>
            <a:ext cx="70041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рограм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 := 1 to 5 do add(beg, i, text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 be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1 - вставка, 2 - уда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вывод, 4 - выход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op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op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встав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люч для вставки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яем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i); readln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, key, i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E3BF-5397-49BE-B8B1-E0A4445B62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23840" y="542880"/>
            <a:ext cx="7651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люч для удаления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, 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ывод списка: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: exi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4BD9-2289-49B0-A83A-10B9C73E30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Бинарное дерево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2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Бинарное дерев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—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инамическая структура данных, состоящая из узлов, каждый из которых содержит кроме данных не более двух ссылок на различные бинарные деревья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каждый узел имеется ровно одна ссылк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чальный узел называется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корне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дерев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BD35-5B00-4606-8A71-7EB775A24C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пер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бинарных деревьев определены операции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ключения узла в дерево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иска по дереву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хода дерева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даления узла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Элемент дерева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ta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ключ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eft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указатель на левое поддерево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ight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указатель на правое поддерево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395520" cy="452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8234-ED13-47D5-A80C-16776627C4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оиск по дереву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6408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function find(root : pnode; key : word; var p, 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arent : pnode) : boolean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 := root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{ поиск начинается от корня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while p &lt;&gt; nil do 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if key = p^.data then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такой узел есть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begin find := true; exit end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arent := p;   { запомнить ук-ль перед спуском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if key &lt; p^.data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then p := p^.left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{ спуститься влево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lse p := p^.right;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спуститься вправо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find := false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39640" y="2852640"/>
            <a:ext cx="360360" cy="2808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27640" y="342900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D6D9-1B27-4616-9997-4812106404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Включение в дерево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rocedure insert(var root : pnode; key : word)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var p, parent : pnode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find(root, key, p, parent) then 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writeln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(' такой элемент уже есть');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xit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)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создание нового элемента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data := key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left   := nil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right := nil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root = nil then root := p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первый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элемент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lse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присоед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е нового элемента к дереву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key &lt; parent^.data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then   parent^.left   := p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lse   parent^.right  := p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A2BF-899B-4924-A3E2-F4E22F24AD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иды указателей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2276280"/>
            <a:ext cx="2808360" cy="1439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тандартные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inter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276640"/>
            <a:ext cx="4897440" cy="234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пределяемые программис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ype pword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= ^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w : pword;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w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^wor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560" y="1197000"/>
            <a:ext cx="2016360" cy="936720"/>
          </a:xfrm>
          <a:prstGeom prst="line">
            <a:avLst/>
          </a:prstGeom>
          <a:ln w="158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1197000"/>
            <a:ext cx="2089080" cy="936720"/>
          </a:xfrm>
          <a:prstGeom prst="line">
            <a:avLst/>
          </a:prstGeom>
          <a:ln w="158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DE0-F64B-4A02-90B5-1D5D3C9BC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ход дерев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9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print_tree(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ерев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_tree(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ево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_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ддерев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сещение корня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_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e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 правое_поддерево 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B5EF-329A-4FC5-B205-7A5D1E5D69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Удаление из дерев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Найти узел, который будет поставлен на место удаляемого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Реорганизовать дерево так, чтобы не нарушились его свойств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соединить новый узел к узлу-предку удаляемого узл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свободить память из-под удаляемого узл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3855-E620-4764-8527-E1FF7F3A31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2843280" y="1197000"/>
            <a:ext cx="3529080" cy="1611360"/>
            <a:chOff x="2843280" y="1197000"/>
            <a:chExt cx="3529080" cy="1611360"/>
          </a:xfrm>
        </p:grpSpPr>
        <p:sp>
          <p:nvSpPr>
            <p:cNvPr id="487" name=""/>
            <p:cNvSpPr/>
            <p:nvPr/>
          </p:nvSpPr>
          <p:spPr>
            <a:xfrm>
              <a:off x="2843280" y="1197000"/>
              <a:ext cx="61380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1440" y="1197000"/>
              <a:ext cx="61380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57080" y="1810800"/>
              <a:ext cx="460080" cy="460440"/>
              <a:chOff x="3457080" y="1810800"/>
              <a:chExt cx="460080" cy="4604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57080" y="1810800"/>
                <a:ext cx="460080" cy="46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57080" y="211788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87120" y="211788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919960" y="2347920"/>
              <a:ext cx="460080" cy="460080"/>
              <a:chOff x="2919960" y="2347920"/>
              <a:chExt cx="460080" cy="460080"/>
            </a:xfrm>
          </p:grpSpPr>
          <p:sp>
            <p:nvSpPr>
              <p:cNvPr id="494" name=""/>
              <p:cNvSpPr/>
              <p:nvPr/>
            </p:nvSpPr>
            <p:spPr>
              <a:xfrm>
                <a:off x="291996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1996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5000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993840" y="2347920"/>
              <a:ext cx="460080" cy="460080"/>
              <a:chOff x="3993840" y="2347920"/>
              <a:chExt cx="460080" cy="460080"/>
            </a:xfrm>
          </p:grpSpPr>
          <p:sp>
            <p:nvSpPr>
              <p:cNvPr id="498" name=""/>
              <p:cNvSpPr/>
              <p:nvPr/>
            </p:nvSpPr>
            <p:spPr>
              <a:xfrm>
                <a:off x="399384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9384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2388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330336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6380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912280" y="1810800"/>
              <a:ext cx="460080" cy="460440"/>
              <a:chOff x="5912280" y="1810800"/>
              <a:chExt cx="460080" cy="460440"/>
            </a:xfrm>
          </p:grpSpPr>
          <p:sp>
            <p:nvSpPr>
              <p:cNvPr id="504" name=""/>
              <p:cNvSpPr/>
              <p:nvPr/>
            </p:nvSpPr>
            <p:spPr>
              <a:xfrm>
                <a:off x="5912280" y="1810800"/>
                <a:ext cx="460080" cy="46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912280" y="211788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142320" y="211788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375160" y="2347920"/>
              <a:ext cx="460080" cy="460080"/>
              <a:chOff x="5375160" y="2347920"/>
              <a:chExt cx="460080" cy="460080"/>
            </a:xfrm>
          </p:grpSpPr>
          <p:sp>
            <p:nvSpPr>
              <p:cNvPr id="508" name=""/>
              <p:cNvSpPr/>
              <p:nvPr/>
            </p:nvSpPr>
            <p:spPr>
              <a:xfrm>
                <a:off x="537516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7516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0520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 flipH="1">
              <a:off x="575856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61360" y="2117880"/>
              <a:ext cx="460080" cy="383400"/>
            </a:xfrm>
            <a:prstGeom prst="rightArrow">
              <a:avLst>
                <a:gd name="adj1" fmla="val 50000"/>
                <a:gd name="adj2" fmla="val 3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0336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0336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8188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916800" y="2271240"/>
              <a:ext cx="613800" cy="537120"/>
              <a:chOff x="3916800" y="2271240"/>
              <a:chExt cx="613800" cy="537120"/>
            </a:xfrm>
          </p:grpSpPr>
          <p:sp>
            <p:nvSpPr>
              <p:cNvPr id="517" name=""/>
              <p:cNvSpPr/>
              <p:nvPr/>
            </p:nvSpPr>
            <p:spPr>
              <a:xfrm flipH="1">
                <a:off x="3916800" y="2271240"/>
                <a:ext cx="613800" cy="53712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69800" y="2271240"/>
                <a:ext cx="460440" cy="4604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147560" y="2041200"/>
              <a:ext cx="230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484360" y="3789360"/>
            <a:ext cx="4752720" cy="2418840"/>
            <a:chOff x="2484360" y="3789360"/>
            <a:chExt cx="4752720" cy="2418840"/>
          </a:xfrm>
        </p:grpSpPr>
        <p:grpSp>
          <p:nvGrpSpPr>
            <p:cNvPr id="521" name=""/>
            <p:cNvGrpSpPr/>
            <p:nvPr/>
          </p:nvGrpSpPr>
          <p:grpSpPr>
            <a:xfrm>
              <a:off x="3175560" y="4480560"/>
              <a:ext cx="518400" cy="518400"/>
              <a:chOff x="3175560" y="4480560"/>
              <a:chExt cx="518400" cy="518400"/>
            </a:xfrm>
          </p:grpSpPr>
          <p:sp>
            <p:nvSpPr>
              <p:cNvPr id="522" name=""/>
              <p:cNvSpPr/>
              <p:nvPr/>
            </p:nvSpPr>
            <p:spPr>
              <a:xfrm>
                <a:off x="3175560" y="4480560"/>
                <a:ext cx="518400" cy="51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75560" y="482616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34760" y="482616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70400" y="5085360"/>
              <a:ext cx="518400" cy="518040"/>
              <a:chOff x="2570400" y="5085360"/>
              <a:chExt cx="518400" cy="518040"/>
            </a:xfrm>
          </p:grpSpPr>
          <p:sp>
            <p:nvSpPr>
              <p:cNvPr id="526" name=""/>
              <p:cNvSpPr/>
              <p:nvPr/>
            </p:nvSpPr>
            <p:spPr>
              <a:xfrm>
                <a:off x="2570400" y="5085360"/>
                <a:ext cx="518400" cy="51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70400" y="54306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29600" y="54306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780360" y="5085360"/>
              <a:ext cx="518400" cy="518040"/>
              <a:chOff x="3780360" y="5085360"/>
              <a:chExt cx="518400" cy="518040"/>
            </a:xfrm>
          </p:grpSpPr>
          <p:sp>
            <p:nvSpPr>
              <p:cNvPr id="530" name=""/>
              <p:cNvSpPr/>
              <p:nvPr/>
            </p:nvSpPr>
            <p:spPr>
              <a:xfrm>
                <a:off x="3780360" y="5085360"/>
                <a:ext cx="518400" cy="51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80360" y="54306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39560" y="54306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flipH="1">
              <a:off x="3002760" y="49125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21160" y="49125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93960" y="4998960"/>
              <a:ext cx="691200" cy="604800"/>
              <a:chOff x="3693960" y="4998960"/>
              <a:chExt cx="691200" cy="604800"/>
            </a:xfrm>
          </p:grpSpPr>
          <p:sp>
            <p:nvSpPr>
              <p:cNvPr id="536" name=""/>
              <p:cNvSpPr/>
              <p:nvPr/>
            </p:nvSpPr>
            <p:spPr>
              <a:xfrm flipH="1">
                <a:off x="3693960" y="4998960"/>
                <a:ext cx="691200" cy="6048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66760" y="4998960"/>
                <a:ext cx="518400" cy="5184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002760" y="43077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02760" y="43077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84360" y="3789360"/>
              <a:ext cx="691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3480" y="3789360"/>
              <a:ext cx="691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385520" y="5690160"/>
              <a:ext cx="518400" cy="518040"/>
              <a:chOff x="4385520" y="5690160"/>
              <a:chExt cx="518400" cy="518040"/>
            </a:xfrm>
          </p:grpSpPr>
          <p:sp>
            <p:nvSpPr>
              <p:cNvPr id="543" name=""/>
              <p:cNvSpPr/>
              <p:nvPr/>
            </p:nvSpPr>
            <p:spPr>
              <a:xfrm>
                <a:off x="4385520" y="5690160"/>
                <a:ext cx="518400" cy="518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5520" y="60354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4720" y="60354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4126320" y="5517360"/>
              <a:ext cx="34560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817520" y="4307760"/>
              <a:ext cx="2419560" cy="1296000"/>
              <a:chOff x="4817520" y="4307760"/>
              <a:chExt cx="2419560" cy="12960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113880" y="4480200"/>
                <a:ext cx="518400" cy="518400"/>
                <a:chOff x="6113880" y="4480200"/>
                <a:chExt cx="518400" cy="5184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13880" y="4480200"/>
                  <a:ext cx="518400" cy="51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113880" y="482580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373080" y="482580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508720" y="5085360"/>
                <a:ext cx="518400" cy="518400"/>
                <a:chOff x="5508720" y="5085360"/>
                <a:chExt cx="518400" cy="518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508720" y="5085360"/>
                  <a:ext cx="518400" cy="51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508720" y="54309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767920" y="543096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 flipH="1">
                <a:off x="5940720" y="49125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17520" y="4826160"/>
                <a:ext cx="518400" cy="432000"/>
              </a:xfrm>
              <a:prstGeom prst="rightArrow">
                <a:avLst>
                  <a:gd name="adj1" fmla="val 50000"/>
                  <a:gd name="adj2" fmla="val 3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54320" y="43077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6718680" y="5085360"/>
                <a:ext cx="518400" cy="518400"/>
                <a:chOff x="6718680" y="5085360"/>
                <a:chExt cx="518400" cy="5184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718680" y="5085360"/>
                  <a:ext cx="518400" cy="5184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718680" y="54309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77880" y="543096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6459480" y="49125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3160" y="4826160"/>
              <a:ext cx="2592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71920" y="5430960"/>
              <a:ext cx="2592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, не имеющего потомков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314172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4360" y="306864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даление узла с одним потом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F889-BD42-438C-9820-289B352401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908000" y="2133720"/>
            <a:ext cx="5472360" cy="3228480"/>
            <a:chOff x="1908000" y="2133720"/>
            <a:chExt cx="5472360" cy="3228480"/>
          </a:xfrm>
        </p:grpSpPr>
        <p:grpSp>
          <p:nvGrpSpPr>
            <p:cNvPr id="570" name=""/>
            <p:cNvGrpSpPr/>
            <p:nvPr/>
          </p:nvGrpSpPr>
          <p:grpSpPr>
            <a:xfrm>
              <a:off x="2625480" y="2851200"/>
              <a:ext cx="538200" cy="538200"/>
              <a:chOff x="2625480" y="2851200"/>
              <a:chExt cx="538200" cy="5382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25480" y="2851200"/>
                <a:ext cx="538200" cy="538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25480" y="321012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94400" y="321012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1997280" y="3479040"/>
              <a:ext cx="538200" cy="537840"/>
              <a:chOff x="1997280" y="3479040"/>
              <a:chExt cx="538200" cy="537840"/>
            </a:xfrm>
          </p:grpSpPr>
          <p:sp>
            <p:nvSpPr>
              <p:cNvPr id="575" name=""/>
              <p:cNvSpPr/>
              <p:nvPr/>
            </p:nvSpPr>
            <p:spPr>
              <a:xfrm>
                <a:off x="1997280" y="3479040"/>
                <a:ext cx="5382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97280" y="383760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66200" y="383760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253680" y="3479040"/>
              <a:ext cx="538200" cy="537840"/>
              <a:chOff x="3253680" y="3479040"/>
              <a:chExt cx="538200" cy="537840"/>
            </a:xfrm>
          </p:grpSpPr>
          <p:sp>
            <p:nvSpPr>
              <p:cNvPr id="579" name=""/>
              <p:cNvSpPr/>
              <p:nvPr/>
            </p:nvSpPr>
            <p:spPr>
              <a:xfrm>
                <a:off x="3253680" y="3479040"/>
                <a:ext cx="5382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53680" y="383760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22600" y="383760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flipH="1">
              <a:off x="2446200" y="329976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84400" y="329976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163320" y="3389400"/>
              <a:ext cx="717480" cy="627840"/>
              <a:chOff x="3163320" y="3389400"/>
              <a:chExt cx="717480" cy="627840"/>
            </a:xfrm>
          </p:grpSpPr>
          <p:sp>
            <p:nvSpPr>
              <p:cNvPr id="585" name=""/>
              <p:cNvSpPr/>
              <p:nvPr/>
            </p:nvSpPr>
            <p:spPr>
              <a:xfrm flipH="1">
                <a:off x="3163320" y="3389400"/>
                <a:ext cx="717480" cy="6278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42240" y="3389400"/>
                <a:ext cx="538200" cy="5382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2446200" y="267192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46200" y="267192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08000" y="2133720"/>
              <a:ext cx="71748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89000" y="2133720"/>
              <a:ext cx="71748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881520" y="4106880"/>
              <a:ext cx="538200" cy="537840"/>
              <a:chOff x="3881520" y="4106880"/>
              <a:chExt cx="538200" cy="537840"/>
            </a:xfrm>
          </p:grpSpPr>
          <p:sp>
            <p:nvSpPr>
              <p:cNvPr id="592" name=""/>
              <p:cNvSpPr/>
              <p:nvPr/>
            </p:nvSpPr>
            <p:spPr>
              <a:xfrm>
                <a:off x="3881520" y="4106880"/>
                <a:ext cx="538200" cy="537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881520" y="446544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50440" y="446544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61224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330080" y="2671920"/>
              <a:ext cx="2511720" cy="1344960"/>
              <a:chOff x="4330080" y="2671920"/>
              <a:chExt cx="2511720" cy="134496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5675760" y="2851200"/>
                <a:ext cx="538200" cy="538200"/>
                <a:chOff x="5675760" y="2851200"/>
                <a:chExt cx="538200" cy="5382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5675760" y="2851200"/>
                  <a:ext cx="538200" cy="53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675760" y="321012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944680" y="32101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5047560" y="3479040"/>
                <a:ext cx="538200" cy="537840"/>
                <a:chOff x="5047560" y="3479040"/>
                <a:chExt cx="538200" cy="5378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5047560" y="3479040"/>
                  <a:ext cx="538200" cy="537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47560" y="383760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316480" y="383760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 flipH="1">
                <a:off x="5496120" y="329976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330080" y="3209760"/>
                <a:ext cx="538200" cy="448560"/>
              </a:xfrm>
              <a:prstGeom prst="rightArrow">
                <a:avLst>
                  <a:gd name="adj1" fmla="val 50000"/>
                  <a:gd name="adj2" fmla="val 299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06480" y="267192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6303600" y="3479040"/>
                <a:ext cx="538200" cy="537840"/>
                <a:chOff x="6303600" y="3479040"/>
                <a:chExt cx="538200" cy="537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303600" y="3479040"/>
                  <a:ext cx="538200" cy="537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303600" y="383760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572520" y="383760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6034680" y="329976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307404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25480" y="4106880"/>
              <a:ext cx="538200" cy="537840"/>
              <a:chOff x="2625480" y="4106880"/>
              <a:chExt cx="538200" cy="537840"/>
            </a:xfrm>
          </p:grpSpPr>
          <p:sp>
            <p:nvSpPr>
              <p:cNvPr id="615" name=""/>
              <p:cNvSpPr/>
              <p:nvPr/>
            </p:nvSpPr>
            <p:spPr>
              <a:xfrm>
                <a:off x="2625480" y="4106880"/>
                <a:ext cx="538200" cy="5378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25480" y="446544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94400" y="446544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4240440" y="455544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419720" y="4824360"/>
              <a:ext cx="538200" cy="537840"/>
              <a:chOff x="4419720" y="4824360"/>
              <a:chExt cx="538200" cy="537840"/>
            </a:xfrm>
          </p:grpSpPr>
          <p:sp>
            <p:nvSpPr>
              <p:cNvPr id="620" name=""/>
              <p:cNvSpPr/>
              <p:nvPr/>
            </p:nvSpPr>
            <p:spPr>
              <a:xfrm>
                <a:off x="4419720" y="4824360"/>
                <a:ext cx="538200" cy="537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19720" y="518292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88640" y="518292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666252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842160" y="4196520"/>
              <a:ext cx="538200" cy="537840"/>
              <a:chOff x="6842160" y="4196520"/>
              <a:chExt cx="538200" cy="537840"/>
            </a:xfrm>
          </p:grpSpPr>
          <p:sp>
            <p:nvSpPr>
              <p:cNvPr id="625" name=""/>
              <p:cNvSpPr/>
              <p:nvPr/>
            </p:nvSpPr>
            <p:spPr>
              <a:xfrm>
                <a:off x="6842160" y="4196520"/>
                <a:ext cx="538200" cy="537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42160" y="455508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11080" y="455508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612432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765760" y="4196520"/>
              <a:ext cx="538200" cy="537840"/>
              <a:chOff x="5765760" y="4196520"/>
              <a:chExt cx="538200" cy="537840"/>
            </a:xfrm>
          </p:grpSpPr>
          <p:sp>
            <p:nvSpPr>
              <p:cNvPr id="630" name=""/>
              <p:cNvSpPr/>
              <p:nvPr/>
            </p:nvSpPr>
            <p:spPr>
              <a:xfrm>
                <a:off x="5765760" y="4196520"/>
                <a:ext cx="538200" cy="537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65760" y="455508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34680" y="455508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3432960" y="3209760"/>
              <a:ext cx="2689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71160" y="3837960"/>
              <a:ext cx="2689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 с двумя потомкам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6877080" y="692280"/>
            <a:ext cx="2074680" cy="276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04D8-ED50-4EB1-85C0-362545DD52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1763640" y="1628640"/>
            <a:ext cx="6503760" cy="4335480"/>
            <a:chOff x="1763640" y="1628640"/>
            <a:chExt cx="6503760" cy="4335480"/>
          </a:xfrm>
        </p:grpSpPr>
        <p:grpSp>
          <p:nvGrpSpPr>
            <p:cNvPr id="638" name=""/>
            <p:cNvGrpSpPr/>
            <p:nvPr/>
          </p:nvGrpSpPr>
          <p:grpSpPr>
            <a:xfrm>
              <a:off x="2430720" y="2295360"/>
              <a:ext cx="500040" cy="500040"/>
              <a:chOff x="2430720" y="2295360"/>
              <a:chExt cx="500040" cy="500040"/>
            </a:xfrm>
          </p:grpSpPr>
          <p:sp>
            <p:nvSpPr>
              <p:cNvPr id="639" name=""/>
              <p:cNvSpPr/>
              <p:nvPr/>
            </p:nvSpPr>
            <p:spPr>
              <a:xfrm>
                <a:off x="2430720" y="229536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30720" y="262872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680560" y="262872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846800" y="2879280"/>
              <a:ext cx="500040" cy="500040"/>
              <a:chOff x="1846800" y="2879280"/>
              <a:chExt cx="500040" cy="500040"/>
            </a:xfrm>
          </p:grpSpPr>
          <p:sp>
            <p:nvSpPr>
              <p:cNvPr id="643" name=""/>
              <p:cNvSpPr/>
              <p:nvPr/>
            </p:nvSpPr>
            <p:spPr>
              <a:xfrm>
                <a:off x="1846800" y="287928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846800" y="32126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096640" y="32126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3014280" y="2879280"/>
              <a:ext cx="500040" cy="500040"/>
              <a:chOff x="3014280" y="2879280"/>
              <a:chExt cx="500040" cy="500040"/>
            </a:xfrm>
          </p:grpSpPr>
          <p:sp>
            <p:nvSpPr>
              <p:cNvPr id="647" name=""/>
              <p:cNvSpPr/>
              <p:nvPr/>
            </p:nvSpPr>
            <p:spPr>
              <a:xfrm>
                <a:off x="3014280" y="287928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14280" y="32126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64120" y="32126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H="1">
              <a:off x="2263680" y="27126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64080" y="27126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2930400" y="2795760"/>
              <a:ext cx="667440" cy="583560"/>
              <a:chOff x="2930400" y="2795760"/>
              <a:chExt cx="667440" cy="583560"/>
            </a:xfrm>
          </p:grpSpPr>
          <p:sp>
            <p:nvSpPr>
              <p:cNvPr id="653" name=""/>
              <p:cNvSpPr/>
              <p:nvPr/>
            </p:nvSpPr>
            <p:spPr>
              <a:xfrm flipH="1">
                <a:off x="2930400" y="2795760"/>
                <a:ext cx="667080" cy="58356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97440" y="2795760"/>
                <a:ext cx="500400" cy="5000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2180160" y="212868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63640" y="1628640"/>
              <a:ext cx="6670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49240" y="1628640"/>
              <a:ext cx="6670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597840" y="3462840"/>
              <a:ext cx="500040" cy="500040"/>
              <a:chOff x="3597840" y="3462840"/>
              <a:chExt cx="500040" cy="500040"/>
            </a:xfrm>
          </p:grpSpPr>
          <p:sp>
            <p:nvSpPr>
              <p:cNvPr id="659" name=""/>
              <p:cNvSpPr/>
              <p:nvPr/>
            </p:nvSpPr>
            <p:spPr>
              <a:xfrm>
                <a:off x="3597840" y="3462840"/>
                <a:ext cx="500040" cy="5000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97840" y="379620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47680" y="379620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3348000" y="3296160"/>
              <a:ext cx="33336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15080" y="2629080"/>
              <a:ext cx="500040" cy="416880"/>
            </a:xfrm>
            <a:prstGeom prst="rightArrow">
              <a:avLst>
                <a:gd name="adj1" fmla="val 50000"/>
                <a:gd name="adj2" fmla="val 299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847600" y="3296160"/>
              <a:ext cx="33336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31560" y="387972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098240" y="4129920"/>
              <a:ext cx="500040" cy="500040"/>
              <a:chOff x="4098240" y="4129920"/>
              <a:chExt cx="500040" cy="500040"/>
            </a:xfrm>
          </p:grpSpPr>
          <p:sp>
            <p:nvSpPr>
              <p:cNvPr id="667" name=""/>
              <p:cNvSpPr/>
              <p:nvPr/>
            </p:nvSpPr>
            <p:spPr>
              <a:xfrm>
                <a:off x="4098240" y="4129920"/>
                <a:ext cx="500040" cy="5000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98240" y="446328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48080" y="44632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H="1">
              <a:off x="3431160" y="387972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097800" y="4129920"/>
              <a:ext cx="500040" cy="500040"/>
              <a:chOff x="3097800" y="4129920"/>
              <a:chExt cx="500040" cy="500040"/>
            </a:xfrm>
          </p:grpSpPr>
          <p:sp>
            <p:nvSpPr>
              <p:cNvPr id="672" name=""/>
              <p:cNvSpPr/>
              <p:nvPr/>
            </p:nvSpPr>
            <p:spPr>
              <a:xfrm>
                <a:off x="3097800" y="4129920"/>
                <a:ext cx="500040" cy="5000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97800" y="446328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347640" y="44632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H="1">
              <a:off x="2930760" y="45468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31160" y="45468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595960" y="4797000"/>
              <a:ext cx="500040" cy="500040"/>
              <a:chOff x="2595960" y="4797000"/>
              <a:chExt cx="500040" cy="500040"/>
            </a:xfrm>
          </p:grpSpPr>
          <p:sp>
            <p:nvSpPr>
              <p:cNvPr id="678" name=""/>
              <p:cNvSpPr/>
              <p:nvPr/>
            </p:nvSpPr>
            <p:spPr>
              <a:xfrm>
                <a:off x="2595960" y="4797000"/>
                <a:ext cx="500040" cy="500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95960" y="513036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45800" y="5130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514680" y="4797000"/>
              <a:ext cx="500040" cy="500040"/>
              <a:chOff x="3514680" y="4797000"/>
              <a:chExt cx="500040" cy="500040"/>
            </a:xfrm>
          </p:grpSpPr>
          <p:sp>
            <p:nvSpPr>
              <p:cNvPr id="682" name=""/>
              <p:cNvSpPr/>
              <p:nvPr/>
            </p:nvSpPr>
            <p:spPr>
              <a:xfrm>
                <a:off x="3514680" y="479700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4680" y="513036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64520" y="5130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2930760" y="521388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097800" y="5464080"/>
              <a:ext cx="500040" cy="500040"/>
              <a:chOff x="3097800" y="5464080"/>
              <a:chExt cx="500040" cy="500040"/>
            </a:xfrm>
          </p:grpSpPr>
          <p:sp>
            <p:nvSpPr>
              <p:cNvPr id="687" name=""/>
              <p:cNvSpPr/>
              <p:nvPr/>
            </p:nvSpPr>
            <p:spPr>
              <a:xfrm>
                <a:off x="3097800" y="5464080"/>
                <a:ext cx="500040" cy="5000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97800" y="57974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47640" y="57974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513880" y="3546360"/>
              <a:ext cx="500040" cy="500040"/>
              <a:chOff x="2513880" y="3546360"/>
              <a:chExt cx="500040" cy="500040"/>
            </a:xfrm>
          </p:grpSpPr>
          <p:sp>
            <p:nvSpPr>
              <p:cNvPr id="691" name=""/>
              <p:cNvSpPr/>
              <p:nvPr/>
            </p:nvSpPr>
            <p:spPr>
              <a:xfrm>
                <a:off x="2513880" y="3546360"/>
                <a:ext cx="500040" cy="5000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13880" y="387972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63720" y="387972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5432760" y="2128680"/>
              <a:ext cx="2834640" cy="3000960"/>
              <a:chOff x="5432760" y="2128680"/>
              <a:chExt cx="2834640" cy="300096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6016320" y="2295360"/>
                <a:ext cx="500040" cy="500040"/>
                <a:chOff x="6016320" y="2295360"/>
                <a:chExt cx="500040" cy="50004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016320" y="2295360"/>
                  <a:ext cx="500040" cy="500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016320" y="262872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266160" y="262872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432760" y="2878920"/>
                <a:ext cx="500040" cy="500040"/>
                <a:chOff x="5432760" y="2878920"/>
                <a:chExt cx="500040" cy="5000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432760" y="2878920"/>
                  <a:ext cx="500040" cy="500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432760" y="32122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82600" y="321228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 flipH="1">
                <a:off x="5849640" y="271224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66120" y="212868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6600240" y="2878920"/>
                <a:ext cx="500040" cy="500040"/>
                <a:chOff x="6600240" y="2878920"/>
                <a:chExt cx="500040" cy="5000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600240" y="2878920"/>
                  <a:ext cx="500040" cy="5000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600240" y="32122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850080" y="321228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350040" y="271224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33600" y="329580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433200" y="329580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6016320" y="3462480"/>
                <a:ext cx="500040" cy="500040"/>
                <a:chOff x="6016320" y="3462480"/>
                <a:chExt cx="500040" cy="5000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016320" y="3462480"/>
                  <a:ext cx="500040" cy="500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016320" y="379584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66160" y="379584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7183800" y="3462480"/>
                <a:ext cx="500040" cy="500040"/>
                <a:chOff x="7183800" y="3462480"/>
                <a:chExt cx="500040" cy="5000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183800" y="3462480"/>
                  <a:ext cx="500040" cy="5000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183800" y="379584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433640" y="379584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600240" y="4046040"/>
                <a:ext cx="500040" cy="500040"/>
                <a:chOff x="6600240" y="4046040"/>
                <a:chExt cx="500040" cy="5000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600240" y="4046040"/>
                  <a:ext cx="500040" cy="5000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00240" y="437940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850080" y="437940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 flipH="1">
                <a:off x="7017120" y="3879360"/>
                <a:ext cx="33336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7767360" y="4046040"/>
                <a:ext cx="500040" cy="500040"/>
                <a:chOff x="7767360" y="4046040"/>
                <a:chExt cx="500040" cy="5000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767360" y="4046040"/>
                  <a:ext cx="500040" cy="50004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767360" y="437940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017200" y="437940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517160" y="3879360"/>
                <a:ext cx="33336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7183800" y="4629600"/>
                <a:ext cx="500040" cy="500040"/>
                <a:chOff x="7183800" y="4629600"/>
                <a:chExt cx="500040" cy="5000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7183800" y="4629600"/>
                  <a:ext cx="5000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183800" y="496296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433640" y="496296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6933600" y="446292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6016320" y="4629600"/>
                <a:ext cx="500040" cy="500040"/>
                <a:chOff x="6016320" y="4629600"/>
                <a:chExt cx="500040" cy="500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016320" y="4629600"/>
                  <a:ext cx="500040" cy="5000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016320" y="496296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266160" y="496296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 flipH="1">
                <a:off x="6433200" y="446292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180960" y="2629080"/>
              <a:ext cx="2502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80560" y="4546800"/>
              <a:ext cx="2498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 (общий случай)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1"/>
          <a:stretch/>
        </p:blipFill>
        <p:spPr>
          <a:xfrm>
            <a:off x="6962760" y="333360"/>
            <a:ext cx="218124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801A-34D7-4CBF-A5BE-19261D123A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перации с указателям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исваивани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1 := p2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верка на равенство и неравенство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f p1 = p2 then …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213000"/>
            <a:ext cx="849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а присваивания указ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юбому указателю можно присвоить стандартную констант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, которая означает, что указатель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 ссылаетс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на какую-либо конкретную ячейку памят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p1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и стандартного типа pointer совместимы с указателями люб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ю на конкретный тип данных можно присвоить только значение указателя того же или стандарт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82D6-580D-4388-A99A-5FB7F2861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ерация разадреса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6192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меняется для обращения к значению переменной, адрес которой хранится в указателе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1: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ord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 разадресация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:= 2; inc(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;    writeln(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НА!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 величинами, адрес которых хранится в указателе, можно выполнять любые действия, допустимые для значений этого тип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81000" y="1773360"/>
            <a:ext cx="1810440" cy="1871280"/>
            <a:chOff x="6381000" y="1773360"/>
            <a:chExt cx="1810440" cy="1871280"/>
          </a:xfrm>
        </p:grpSpPr>
        <p:sp>
          <p:nvSpPr>
            <p:cNvPr id="84" name=""/>
            <p:cNvSpPr/>
            <p:nvPr/>
          </p:nvSpPr>
          <p:spPr>
            <a:xfrm>
              <a:off x="6381000" y="3081960"/>
              <a:ext cx="103032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6200" y="2345040"/>
              <a:ext cx="108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76400" y="2995560"/>
              <a:ext cx="6505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0480" y="1815120"/>
              <a:ext cx="64908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1680" y="1773360"/>
              <a:ext cx="77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24720" y="1773360"/>
            <a:ext cx="503280" cy="360360"/>
          </a:xfrm>
          <a:prstGeom prst="ellipse">
            <a:avLst/>
          </a:pr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F061-E4E9-4986-A916-D370BF71E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ерация @ и функция addr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зволяют получить адрес переменной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wor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 := @w;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pw := addr(w);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^ := 2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383160" y="1773360"/>
            <a:ext cx="2220840" cy="1871280"/>
            <a:chOff x="6383160" y="1773360"/>
            <a:chExt cx="2220840" cy="1871280"/>
          </a:xfrm>
        </p:grpSpPr>
        <p:sp>
          <p:nvSpPr>
            <p:cNvPr id="93" name=""/>
            <p:cNvSpPr/>
            <p:nvPr/>
          </p:nvSpPr>
          <p:spPr>
            <a:xfrm>
              <a:off x="6383160" y="3081960"/>
              <a:ext cx="1263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66000" y="2345040"/>
              <a:ext cx="144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04280" y="2995560"/>
              <a:ext cx="798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0200" y="1815120"/>
              <a:ext cx="79632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47480" y="1773360"/>
              <a:ext cx="956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4BC7-F089-4AF2-9A62-B645167D7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тандартные функ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работы с указателями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seg(x) : word — возвращает адрес сегмента для х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ofs(x) : word — возвращает смещение для х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cseg : word — возвращает значение регистра сегмента кода C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dseg : word — возвращает значение регистра сегмента данных D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ptr(seg, ofs : word) : pointer — по заданному сегменту и смещению формирует адрес типа pointer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7D7C-823E-46B4-A7B6-D7F58BF18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Динамические переменные 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ются в хипе во время выполнения программы с помощью подпрограмм new или getmem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var p : тип_указател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тип_указател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 : pointe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и функция new обычно применяются для типизированных указателей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getme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var p : pointer; size : wor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Эту процедуру можно применять и для указателей типа pointer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0EF4-EB67-4CDF-A144-406B95AAA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8:38:15Z</dcterms:created>
  <dc:creator>Mux</dc:creator>
  <dc:description/>
  <dc:language>en-US</dc:language>
  <cp:lastModifiedBy>мух</cp:lastModifiedBy>
  <dcterms:modified xsi:type="dcterms:W3CDTF">2010-08-12T14:50:49Z</dcterms:modified>
  <cp:revision>78</cp:revision>
  <dc:subject/>
  <dc:title>Слайд 1</dc:title>
</cp:coreProperties>
</file>