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A37-B370-4235-9A1B-18D54706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1DA8-E765-43EF-9466-6A7DCF3F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BDE-092F-4BFB-8E37-E76A2DF9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57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896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57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896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7F7-C166-4C03-ADAF-822BA6D1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1376-7E5D-4273-AFAD-611A96B1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ECDC-35D3-4341-B812-FBA42884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7034-C655-4A36-A335-EE2E9388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AA77-F7E7-459B-90DB-6F298000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BF2A-8EF7-4A3A-B3DB-A3A9BDE0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4920" y="-67284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07EA-3CF4-408C-B8A0-C31D0C1F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5312-D436-49CF-BB0C-D87D3232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545-DE27-43E3-90D6-8A571B91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2423-0E92-416F-97B1-D801337B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54EB-A7D1-43D6-AF02-0F9D6355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0BE8-0E83-4182-87DA-CB257CAC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F166-9EC7-4688-9F92-C7B0923A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572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48960" y="121932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572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48960" y="3766680"/>
            <a:ext cx="266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3AE2-B8D4-4F6A-87D3-014A2F8E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49B-1A14-42BF-8B86-37F3A44E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13E-258B-4AFB-A3E3-C6FCC2A9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4BF-64E2-4AA0-9FDB-77BEEBAA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-67284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A4A-D617-4B5E-8099-0A951443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212-5383-42E2-AF5C-B9C38A69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76668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457-8FB5-4094-B6A2-65ACBE4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219320"/>
            <a:ext cx="403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66680"/>
            <a:ext cx="826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7F3-F756-4031-9083-48A751DE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-67284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638400"/>
            <a:ext cx="5256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1971-B720-425C-B2DF-7E626B8F263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1295280"/>
            <a:ext cx="4892760" cy="763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-13932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6605280"/>
            <a:ext cx="60199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3583-6478-4DF7-9148-FBB5A86C71F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26080"/>
            <a:ext cx="8794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Курс «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аскаль. Программирование на языке высокого уровня»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37893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авловская Т.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авловская Т.А. Паскаль. Программирование на языке высокого уровня. Учебник. 2-е изд. — СПб.: ПИТЕР, 2010. — 464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C654-0706-4A18-A2B0-AF9D8DF568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имер процедур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565360"/>
            <a:ext cx="3743280" cy="271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 dif_averag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st n = 3;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ype mas = array[1 .. n] of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, b : m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f, av_a, av_b 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34136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ычислить разность между средними арифметическими значениями элементов двух вещественных масс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069-53D9-4361-9012-F5E6DEB329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419640" y="3429000"/>
            <a:ext cx="532908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for i := 1 to n do read(a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for i := 1 to n do read(b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Arial Narrow"/>
              </a:rPr>
              <a:t>average(a, av_a);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Arial Narrow"/>
              </a:rPr>
              <a:t>average(b, av_b);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dif := av_a - av_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writeln('Разность значений ', dif:6: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24360" y="2922120"/>
            <a:ext cx="32054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{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лавная программа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60280"/>
            <a:ext cx="4826160" cy="31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00"/>
                </a:solidFill>
                <a:latin typeface="Arial Narrow"/>
                <a:ea typeface="Times New Roman"/>
              </a:rPr>
              <a:t>procedure average(x : mas; var av : real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ar i 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v :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i := 1 to n do av := av + x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v := av /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429-D4D6-47F0-A1BF-D8F8FFA1E0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Функци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функ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functio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&lt;имя&gt; [(список параметров)] : &lt;тип&gt;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&lt;разделы описаний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&lt;раздел операторов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&lt;имя&gt; := &lt;выражение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ейший вызов функ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еременн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( список аргументов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836640"/>
            <a:ext cx="2663640" cy="865080"/>
          </a:xfrm>
          <a:prstGeom prst="wedgeRoundRectCallout">
            <a:avLst>
              <a:gd name="adj1" fmla="val 2203"/>
              <a:gd name="adj2" fmla="val 951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аголов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6BF-5A25-41DF-B65E-27B1BDADAC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907920"/>
            <a:ext cx="3671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 dif_average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st n = 3;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ype mas = array[1 .. n] of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, b : m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-2160"/>
            <a:ext cx="81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имер 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836640"/>
            <a:ext cx="4572000" cy="36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 Narrow"/>
                <a:ea typeface="Times New Roman"/>
              </a:rPr>
              <a:t>function average(const x : mas)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i : integer;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v 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v :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i := 1 to n do av := av + x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Arial Narrow"/>
                <a:ea typeface="Times New Roman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:= av / n;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d;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365720"/>
            <a:ext cx="5402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i := 1 to n do read(a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i := 1 to n do read(b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f := </a:t>
            </a:r>
            <a:r>
              <a:rPr b="0" lang="en-US" sz="2000" spc="-1" strike="noStrike">
                <a:solidFill>
                  <a:srgbClr val="9a0000"/>
                </a:solidFill>
                <a:latin typeface="Arial Narrow"/>
              </a:rPr>
              <a:t>average(a) - average(b);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riteln('Разность значений ', dif:6: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3931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{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лавная программа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3573360"/>
            <a:ext cx="2521080" cy="360360"/>
          </a:xfrm>
          <a:prstGeom prst="leftArrow">
            <a:avLst>
              <a:gd name="adj1" fmla="val 50000"/>
              <a:gd name="adj2" fmla="val 1749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6BF-08B5-4924-A629-8F5FDC5EF1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03680"/>
            <a:ext cx="865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иды параметров под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9918-BCD7-4668-8092-6CB42FF7E7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Обмен данным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Через глобальные перем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Через парамет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637000"/>
            <a:ext cx="410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раметры переда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знач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адрес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2708280"/>
            <a:ext cx="367200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ы парамет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м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ста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тип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кры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6A8-9DA1-4FD2-8F40-8DA970ADC2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араметры и аргумен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540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вызове подпрограммы после ее имени в скобках указываются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аргумент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то есть те конкретные величины, которые передаются в подпрограм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исок аргументов как бы накладывается на список параметров и замещает их, поэтому </a:t>
            </a:r>
            <a:r>
              <a:rPr b="1" lang="ru-RU" sz="2000" spc="-1" strike="noStrike">
                <a:solidFill>
                  <a:srgbClr val="9a0000"/>
                </a:solidFill>
                <a:latin typeface="Verdana"/>
              </a:rPr>
              <a:t>аргументы должны соответствовать параметрам по количеству, типу и порядку следо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каждого параметра обычно задается его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имя, тип и способ передач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бо тип, либо способ передачи могут не указыватьс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головке подпрограммы нельзя вводить описание нового тип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5435640" y="1025640"/>
            <a:ext cx="37083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y := sh(x, 1e-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function sh(x, e: real)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procedure a(var m: m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x: real; var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6432840" y="1711800"/>
            <a:ext cx="1008000" cy="266760"/>
          </a:xfrm>
          <a:prstGeom prst="rightArrow">
            <a:avLst>
              <a:gd name="adj1" fmla="val 40917"/>
              <a:gd name="adj2" fmla="val 888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605200">
            <a:off x="6793200" y="1711800"/>
            <a:ext cx="1008000" cy="266760"/>
          </a:xfrm>
          <a:prstGeom prst="rightArrow">
            <a:avLst>
              <a:gd name="adj1" fmla="val 40917"/>
              <a:gd name="adj2" fmla="val 888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BBA-FBDB-4A9B-A42F-2F8F02F30A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араметр-значение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мя : тип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P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e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вызове подпрограммы на месте параметра, передаваемого по значению, может находиться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выра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(x)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(3)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(1.2)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(a + b/2)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(a + 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 2)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{ var x, a, b : integer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ип выражения должен быть </a:t>
            </a:r>
            <a:r>
              <a:rPr b="0" i="1" lang="ru-RU" sz="2000" spc="-1" strike="noStrike">
                <a:solidFill>
                  <a:srgbClr val="9a0000"/>
                </a:solidFill>
                <a:latin typeface="Verdana"/>
              </a:rPr>
              <a:t>совместим по присваиванию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с типом параметр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933720"/>
            <a:ext cx="1224000" cy="647640"/>
          </a:xfrm>
          <a:prstGeom prst="line">
            <a:avLst/>
          </a:prstGeom>
          <a:ln w="6660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3933720"/>
            <a:ext cx="1224000" cy="647640"/>
          </a:xfrm>
          <a:prstGeom prst="line">
            <a:avLst/>
          </a:prstGeom>
          <a:ln w="6660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284720" y="3933720"/>
            <a:ext cx="1224000" cy="647640"/>
          </a:xfrm>
          <a:prstGeom prst="line">
            <a:avLst/>
          </a:prstGeom>
          <a:ln w="6660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700360" y="3933720"/>
            <a:ext cx="1224000" cy="647640"/>
          </a:xfrm>
          <a:prstGeom prst="line">
            <a:avLst/>
          </a:prstGeom>
          <a:ln w="6660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5B2-F609-4D33-8405-CDB4A534FA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араметр-переменная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000"/>
                </a:solidFill>
                <a:latin typeface="Verdana"/>
              </a:rPr>
              <a:t>var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мя : тип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P(var x : integ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вызове подпрограммы на месте параметра-переменной может находиться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только ссылка на переменну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точно того же тип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(a); P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FD6-5D36-498A-8C71-A2184917C1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араметр-константа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410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000"/>
                </a:solidFill>
                <a:latin typeface="Verdana"/>
              </a:rPr>
              <a:t>cons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мя : тип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P(const x : integ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вызове подпрограммы на месте параметра может быть записано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тип которого совместим по присваиванию с типом пара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E2D-8F31-47C7-A059-34C3142EFA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03680"/>
            <a:ext cx="7678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Лекция 4. Модульное программирование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оцедуры и функции: описание и использование. Виды параметров подпрограмм: значения, переменные, константы, открытые, процедурные. Рекурсия. Модули: описание и использование. Стандартные модули Паска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514E-3272-47D6-B773-0A4AB2E03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имер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907920"/>
            <a:ext cx="8209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a, b, c, d, e 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XaX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, b: real; 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;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e: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  c := a +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; d := c; e :=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 (‘c=‘, c, ‘ d=‘, d, ‘ e=‘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:=3; b :=5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XaX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, b, c, 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 (‘c=‘, c, ‘ d=‘, d, ‘ e=‘, 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27440" y="5300640"/>
            <a:ext cx="24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= 8 e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= 8 e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71C-F0F5-4766-A387-BC97119E18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имер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32000" y="2924280"/>
            <a:ext cx="52020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a:integer; b,c:char; d,x:re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-------------------------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(a,     b,  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(d+a, c,    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(x,     ’c’,   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(a,     b,   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a+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840320" y="1157400"/>
            <a:ext cx="64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Procedure P(a:real; b:char; var c:real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8400" y="765000"/>
            <a:ext cx="43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аголовок процедуры имеет вид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9600" y="2205000"/>
            <a:ext cx="69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менные в вызывающей программе описаны та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09D-88ED-48C5-99F1-810FD10670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Итоги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6330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ередачи в подпрограмму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исходных данных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спольуются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параметры-значения и параметры-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Параметры составных типов (массивы, записи, строки) предпочтительнее передавать как констант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Результат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аботы процедуры следует передавать через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параметры-переменны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результат функции — через ее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им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1E4-3750-42EF-9855-8028A5EBB3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Открытый массив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8412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жет быть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олько одномерны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состоять из элементов любого типа, кроме файлов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место открытого массива можно передавать одномерный массив любой размерности, состоящий из элементов такого же тип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лементы массива нумеруются с нуля. Номер максимального элемента в массиве можно определить с помощью функци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4076640"/>
            <a:ext cx="7632720" cy="248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 max_el(const mas : array of integer) 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i, max 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x := mas[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i := 0 to High(mas)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mas[i] &gt; max then max := mas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3500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Verdana"/>
              </a:rPr>
              <a:t>Пример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Функция, определяющая максимальный элемент любого целочисленного масси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04B-3E79-498A-AD57-4C91558F0F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Открытые строки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4837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ки произвольной длины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жно передават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по значению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место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параметра-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ередачи в подпрограмму строк любой длины </a:t>
            </a:r>
            <a:r>
              <a:rPr b="0" lang="ru-RU" sz="2000" spc="-1" strike="noStrike">
                <a:solidFill>
                  <a:srgbClr val="800000"/>
                </a:solidFill>
                <a:latin typeface="Verdana"/>
              </a:rPr>
              <a:t>по адресу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спользую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альный тип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OpenStr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называемый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ткрытой строко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п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включенном режиме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$P+}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3429000"/>
            <a:ext cx="5113440" cy="329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s20 = string[2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1 : string[4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2 : string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P(const x : s20; y : string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var z : open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(s2, s1, s1);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3AD-894D-492F-B773-D1AD7BDFD9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907920"/>
            <a:ext cx="79218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 EQ(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 </a:t>
            </a:r>
            <a:r>
              <a:rPr b="1" lang="en-US" sz="2000" spc="-1" strike="noStrike">
                <a:solidFill>
                  <a:srgbClr val="9a0000"/>
                </a:solidFill>
                <a:latin typeface="Verdana"/>
              </a:rPr>
              <a:t>x, 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size: word )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By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array[ 0 .. MaxInt ] of by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b: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By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absolu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b: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By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absolu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: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(n &lt; size) and (xb[n] = yb[n]) d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(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 := n =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Бестиповые параметр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426960" y="1341360"/>
            <a:ext cx="83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помощью функции EQ можно сравнить две любые величин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B08-E614-4D11-ACBA-127D54E7E5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8261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сть, например, в программе описаны переменны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ar a, b : array [1 .. 10] of byte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x     : re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c     : strin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ющие обращения к функции EQ будут корректн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EQ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izeof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)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{ сравнение двух массивов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EQ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[2]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[5], 4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{ сравнение 2–5 элементов массива 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" с 5–8 элементами массива 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", соответственно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EQ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sizeof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real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)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{ сравнение первых 6 байт строки с с переменной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D92-C42D-4452-80EF-53B2C8C22F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Параметры процедурного типа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6128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tabl_fun(x, Xk, dX : real;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f : fu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(' --------------------------- 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('|      X        |        Y        |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(' --------------------------- 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&lt;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k d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('|', x:9:2,'    |',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9:2,'    |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x := x + d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ln(' --------------------------- '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1B5-266D-4B44-A14A-4DEADDBE6E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4156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Работа с параметром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844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ределить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процедурный тип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ype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fun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= function(x : real) : re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ть для подпрограмм, предназначенных для передачи в качестве параметра, ключ компилятора {$F+}, определяющий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дальнюю адресац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{$F+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function Q(x : real) : re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begin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Q := 2 * x / sqrt(1 – sin(2 * x));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{$F–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ть в заголовке подпрограммы параметр процедурного тип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procedure tabl_fun(x, Xk, dX : real;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f : fun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дать в подпрограмму имя конкретной функци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цед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tabl_fun(0, 10, d,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759-5617-45E6-9C7A-AD3F023A7A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659640" y="2708280"/>
            <a:ext cx="2305080" cy="361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2520"/>
            <a:ext cx="9458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Рекурсивные подпрограмм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1268280"/>
            <a:ext cx="6048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 FTR(n : byte): longi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(n = 0) or (n = 1) then FTR :=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se   FTR :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TR(n - 1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*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:= FTR(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 rot="16015800">
            <a:off x="3214800" y="36360"/>
            <a:ext cx="3144960" cy="3600360"/>
          </a:xfrm>
          <a:custGeom>
            <a:avLst/>
            <a:gdLst>
              <a:gd name="textAreaLeft" fmla="*/ 0 w 3144960"/>
              <a:gd name="textAreaRight" fmla="*/ 3145320 w 3144960"/>
              <a:gd name="textAreaTop" fmla="*/ -360 h 3600360"/>
              <a:gd name="textAreaBottom" fmla="*/ 3600360 h 3600360"/>
            </a:gdLst>
            <a:ahLst/>
            <a:rect l="textAreaLeft" t="textAreaTop" r="textAreaRight" b="textAreaBottom"/>
            <a:pathLst>
              <a:path w="21600" h="21600">
                <a:moveTo>
                  <a:pt x="4859" y="3161"/>
                </a:moveTo>
                <a:arcTo wR="-9677" hR="-9677" stAng="-7672375" swAng="-16166705"/>
                <a:lnTo>
                  <a:pt x="2211" y="17347"/>
                </a:lnTo>
                <a:arcTo wR="10800" hR="10800" stAng="8560920" swAng="16166705"/>
                <a:lnTo>
                  <a:pt x="19088" y="21457"/>
                </a:lnTo>
                <a:lnTo>
                  <a:pt x="14511" y="20884"/>
                </a:lnTo>
                <a:lnTo>
                  <a:pt x="15083" y="16307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dddddd">
                  <a:alpha val="36078"/>
                </a:srgbClr>
              </a:gs>
            </a:gsLst>
            <a:lin ang="25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2720" y="5805360"/>
            <a:ext cx="216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= 4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32720" y="5300640"/>
            <a:ext cx="216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4797360"/>
            <a:ext cx="216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4292640"/>
            <a:ext cx="216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DFC-73D0-4EE9-8F97-ACB59EAECC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одпрограм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295280" y="53100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F4E-A4E9-4D21-95D1-D7880267B8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103680"/>
            <a:ext cx="865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Моду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844C-E26B-4CA9-B047-C80B5356B8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Структура модуля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981000"/>
            <a:ext cx="8261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uni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мя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{ заголовок модуля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interfa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{ интерфейсная секция модуля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{ описание глобальных элементов модул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видимых извне)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implementatio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{ секция реализации модуля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{ описание локальных (внутренних) элемен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я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begi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{ секция инициализации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{ может отсутствовать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422-A2E2-44F2-A520-2C04E9070E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Состав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модуля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058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876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В интерфейсной секции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модул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определяют константы, типы данных, переменные, а также заголовки процедур и функц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876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В секции реализаци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описываются подпрограммы, заголовки которых приведены в интерфейсной части. Кроме того, в этой секции можно определять константы, типы данных, переменные и внутренние подпрограм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876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Секция инициализаци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предназначена для присваивания начальных значений переменным, которые используются в модул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9AC-3051-4DD7-AD01-B5F8AA063E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86480"/>
            <a:ext cx="816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Создание и использование модуля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907560"/>
            <a:ext cx="8261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Verdana"/>
              </a:rPr>
              <a:t>Сохранение скомпилированного модул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а диск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д компиляцией задать режим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Compile -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&gt;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Destination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-&gt;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Disk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илятор создаст файл с расширением </a:t>
            </a:r>
            <a:r>
              <a:rPr b="1" lang="ru-RU" sz="2000" spc="-1" strike="noStrike">
                <a:solidFill>
                  <a:srgbClr val="006600"/>
                </a:solidFill>
                <a:latin typeface="Verdana"/>
              </a:rPr>
              <a:t>.tpu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который надо переместить в каталог, путь к которому указан в меню 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Options -&gt; 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Directories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9a0000"/>
                </a:solidFill>
                <a:latin typeface="Verdana"/>
              </a:rPr>
              <a:t>поле</a:t>
            </a:r>
            <a:r>
              <a:rPr b="0" lang="en-US" sz="2000" spc="-1" strike="noStrike">
                <a:solidFill>
                  <a:srgbClr val="9a0000"/>
                </a:solidFill>
                <a:latin typeface="Verdana"/>
              </a:rPr>
              <a:t> Unit Directori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ме того, откомпилированный модуль может находиться в том же каталоге, что и использующие его программ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Verdana"/>
              </a:rPr>
              <a:t>Использование в программ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личин, описанных в интерфейсной части модул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u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verag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CA9-60DE-4C8C-B9BD-82FC623293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Пример модуля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8000" y="765000"/>
            <a:ext cx="4248000" cy="5904000"/>
          </a:xfrm>
          <a:prstGeom prst="rect">
            <a:avLst/>
          </a:prstGeom>
          <a:solidFill>
            <a:srgbClr val="ffffff">
              <a:alpha val="24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6699"/>
                </a:solidFill>
                <a:latin typeface="Verdana"/>
              </a:rPr>
              <a:t>unit Average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9a0000"/>
                </a:solidFill>
                <a:latin typeface="Verdana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const </a:t>
            </a:r>
            <a:r>
              <a:rPr b="0" lang="sv-SE" sz="1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= 1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sv-SE" sz="1800" spc="-1" strike="noStrike">
                <a:solidFill>
                  <a:srgbClr val="336699"/>
                </a:solidFill>
                <a:latin typeface="Verdana"/>
              </a:rPr>
              <a:t>mas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= array[1 .. n] of re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procedure </a:t>
            </a:r>
            <a:r>
              <a:rPr b="0" lang="sv-SE" sz="1800" spc="-1" strike="noStrike">
                <a:solidFill>
                  <a:srgbClr val="336699"/>
                </a:solidFill>
                <a:latin typeface="Verdana"/>
              </a:rPr>
              <a:t>aver_mas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(x : ma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var av : re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9a0000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procedure aver_mas(x : ma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var av : real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var i : intege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v :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for i := 1 to n d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v := av + x[i]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v := av / n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4500720" y="1638360"/>
            <a:ext cx="4465440" cy="461916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0000"/>
                </a:solidFill>
                <a:latin typeface="Verdana"/>
              </a:rPr>
              <a:t>Использование модуля в программ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dif_avera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uses Avera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, b : m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, av_a, av_b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i := 1 to n do read(a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i := 1 to n do read(b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e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(a, av_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er_mas(b, av_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 := av_a – av_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'Разность:'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6: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37960"/>
                <a:tab algn="l" pos="482760"/>
                <a:tab algn="l" pos="727200"/>
                <a:tab algn="l" pos="971640"/>
                <a:tab algn="l" pos="1216080"/>
                <a:tab algn="l" pos="1461960"/>
                <a:tab algn="l" pos="1709640"/>
                <a:tab algn="l" pos="1955880"/>
                <a:tab algn="l" pos="2200320"/>
                <a:tab algn="l" pos="2444760"/>
                <a:tab algn="l" pos="2689200"/>
                <a:tab algn="l" pos="2933640"/>
                <a:tab algn="l" pos="3179880"/>
                <a:tab algn="l" pos="3424320"/>
                <a:tab algn="l" pos="3668760"/>
                <a:tab algn="l" pos="3913200"/>
                <a:tab algn="l" pos="4159080"/>
                <a:tab algn="l" pos="440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D1E-A37B-42DF-88C0-8346645CA3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103680"/>
            <a:ext cx="8650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тандартные модули Паска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F3B2-86D9-4AAB-A78D-3B2DA6E320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58320"/>
            <a:ext cx="90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Стандартные модули Паскал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017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s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F90-F264-40B8-B11B-BB27BC61C1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Модуль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ystem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049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ит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базовые средства язык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которые поддерживают ввод-вывод, работу со строками, операции с плавающей точкой и динамическое распределение памя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ит все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стандартные и встроенны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оцедуры, функции, константы и переменные Паска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автоматически используетс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о всех программах, его не требуется указывать в операторе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BBB-55FA-412A-BDD3-2BFF4534A7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Примеры переменных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System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 HeapOrg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i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казывает на конец динамической памя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var HeapPtr: Poi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казывает на начало динамической памя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var InOutRes: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ит код последней операции ввода-вывода. Его можно получить с помощью вызова функции IOResu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var Input: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начает стандартный файл вв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var RandSeed: Long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ит начальное значение встроенного генератора случайных чисе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5EB-15D7-4E61-95A5-F1AF8D01F3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Примеры подпрограмм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System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7724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var RandSeed: Long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 Ab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Assig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 f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procedure Contin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 C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y(s: String; Indx: Integer; Count: Integer): St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Dec(var x: &l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ядковый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и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[; n: Longint]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 Eof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 f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 ]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procedure Ex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 Exp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var Src, Dst; Count: Wor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MkDi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procedure Randomi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spcAft>
                <a:spcPts val="45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procedur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eln([var f: Text;] v1, [,v2, ..., vn]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F2E-3752-411B-8FAD-8B572A64C9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Общие положения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122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дпрограмма — это фрагмент кода, к которому можно обратиться по име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огические законченные части программы оформляются в виде подпрограм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дпрограмма записывается один раз, а вызываться может столько раз, сколько необходим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дна и та же подпрограмма может обрабатывать различные данные, переданные ей в качестве парамет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B3A-ECF6-4B51-A0E1-DD6A05D001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Модуль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rt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61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зволя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ыполнять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вывод в заданное мест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экрана заданным цветом символа и фон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ткрывать на экране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окн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ямоугольной формы и выполнять вывод в пределах этих око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очища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экран, окно, строку и ее ча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рабатывать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ввод с клавиату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правлять встроенным динами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B79-A8A4-4AB8-8245-FA30996781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Текстовый режим монитора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079640" y="720720"/>
            <a:ext cx="7669080" cy="5432040"/>
            <a:chOff x="1079640" y="720720"/>
            <a:chExt cx="7669080" cy="5432040"/>
          </a:xfrm>
        </p:grpSpPr>
        <p:sp>
          <p:nvSpPr>
            <p:cNvPr id="231" name=""/>
            <p:cNvSpPr/>
            <p:nvPr/>
          </p:nvSpPr>
          <p:spPr>
            <a:xfrm>
              <a:off x="6831360" y="4235400"/>
              <a:ext cx="1276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Атрибу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99680" y="1040400"/>
              <a:ext cx="4312440" cy="2395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58360" y="1040400"/>
              <a:ext cx="720" cy="239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99680" y="1679040"/>
              <a:ext cx="4312440" cy="7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1880" y="119988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31360" y="1199880"/>
              <a:ext cx="15696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30280" y="119988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31360" y="1199880"/>
              <a:ext cx="15840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1320" y="119988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91200" y="1199880"/>
              <a:ext cx="15840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50680" y="119988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0160" y="119988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71880" y="135936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31360" y="1359360"/>
              <a:ext cx="15696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30280" y="135936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31360" y="1359360"/>
              <a:ext cx="15840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11320" y="135936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1200" y="1359360"/>
              <a:ext cx="15840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50680" y="135936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10160" y="135936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71880" y="1519560"/>
              <a:ext cx="158040" cy="15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31360" y="1519560"/>
              <a:ext cx="15696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30280" y="151956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31360" y="1519560"/>
              <a:ext cx="158400" cy="15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11320" y="151956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1200" y="1519560"/>
              <a:ext cx="158400" cy="15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50680" y="1519560"/>
              <a:ext cx="158040" cy="15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0160" y="1519560"/>
              <a:ext cx="158040" cy="15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71880" y="167904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31360" y="1679040"/>
              <a:ext cx="15696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30280" y="167904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31360" y="1679040"/>
              <a:ext cx="15840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11320" y="167904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91200" y="1679040"/>
              <a:ext cx="15840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50680" y="167904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10160" y="167904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71880" y="183924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31360" y="1839240"/>
              <a:ext cx="15696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30280" y="183924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31360" y="1839240"/>
              <a:ext cx="15840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11320" y="183924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91200" y="1839240"/>
              <a:ext cx="158400" cy="160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50680" y="183924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10160" y="183924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71880" y="199872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31360" y="1998720"/>
              <a:ext cx="15696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30280" y="199872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31360" y="1998720"/>
              <a:ext cx="15840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11320" y="199872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91200" y="1998720"/>
              <a:ext cx="158400" cy="15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50680" y="199872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10160" y="199872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71880" y="215820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31360" y="2158200"/>
              <a:ext cx="15696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30280" y="215820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31360" y="2158200"/>
              <a:ext cx="15840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11320" y="215820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91200" y="2158200"/>
              <a:ext cx="158400" cy="160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50680" y="215820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0160" y="215820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71880" y="23187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1360" y="2318760"/>
              <a:ext cx="15696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30280" y="23187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31360" y="2318760"/>
              <a:ext cx="15840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11320" y="23187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91200" y="2318760"/>
              <a:ext cx="15840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50680" y="23187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10160" y="23187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71880" y="247824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31360" y="2478240"/>
              <a:ext cx="15696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30280" y="247824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31360" y="2478240"/>
              <a:ext cx="15840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11320" y="247824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91200" y="2478240"/>
              <a:ext cx="158400" cy="15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50680" y="247824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0160" y="247824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71880" y="26373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31360" y="2637360"/>
              <a:ext cx="15696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30280" y="26373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31360" y="2637360"/>
              <a:ext cx="15840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11320" y="26373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91200" y="2637360"/>
              <a:ext cx="15840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50680" y="26373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0160" y="26373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70000" y="119988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70000" y="135936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0000" y="151956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70000" y="167904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70000" y="183924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70000" y="199872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70000" y="2158200"/>
              <a:ext cx="158040" cy="16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70000" y="23187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70000" y="2478240"/>
              <a:ext cx="158040" cy="15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70000" y="2637360"/>
              <a:ext cx="158040" cy="16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384280" y="1249920"/>
              <a:ext cx="411912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32880" y="1763640"/>
              <a:ext cx="4041000" cy="10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99680" y="3755880"/>
              <a:ext cx="70286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11320" y="3755880"/>
              <a:ext cx="160560" cy="159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1880" y="3755880"/>
              <a:ext cx="159120" cy="159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27160" y="2784960"/>
              <a:ext cx="7920" cy="9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795000" y="2802600"/>
              <a:ext cx="790920" cy="9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95560" y="4872600"/>
              <a:ext cx="31968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15240" y="4872600"/>
              <a:ext cx="32004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34560" y="4872600"/>
              <a:ext cx="32004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54960" y="4872600"/>
              <a:ext cx="32112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73920" y="4872600"/>
              <a:ext cx="3189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3240" y="4872600"/>
              <a:ext cx="32112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14360" y="4872600"/>
              <a:ext cx="3189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32600" y="4872600"/>
              <a:ext cx="3189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1560" y="4872600"/>
              <a:ext cx="32112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73040" y="4872600"/>
              <a:ext cx="31788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91280" y="4872600"/>
              <a:ext cx="3189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10240" y="4872600"/>
              <a:ext cx="32112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31360" y="4872600"/>
              <a:ext cx="31788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49600" y="4872600"/>
              <a:ext cx="3189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68560" y="4872600"/>
              <a:ext cx="3189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788960" y="4872600"/>
              <a:ext cx="3189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73040" y="4555080"/>
              <a:ext cx="3168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93080" y="4555080"/>
              <a:ext cx="3178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11320" y="4555080"/>
              <a:ext cx="3222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51760" y="4555080"/>
              <a:ext cx="3178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70000" y="4555080"/>
              <a:ext cx="3196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90040" y="4555080"/>
              <a:ext cx="3200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4194720" y="3516120"/>
              <a:ext cx="159120" cy="2556000"/>
            </a:xfrm>
            <a:custGeom>
              <a:avLst/>
              <a:gdLst>
                <a:gd name="textAreaLeft" fmla="*/ 101880 w 159120"/>
                <a:gd name="textAreaRight" fmla="*/ 159480 w 159120"/>
                <a:gd name="textAreaTop" fmla="*/ 66600 h 2556000"/>
                <a:gd name="textAreaBottom" fmla="*/ 2489400 h 25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306680" y="3846600"/>
              <a:ext cx="229032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6751800" y="3515400"/>
              <a:ext cx="159120" cy="2557440"/>
            </a:xfrm>
            <a:custGeom>
              <a:avLst/>
              <a:gdLst>
                <a:gd name="textAreaLeft" fmla="*/ 101880 w 159120"/>
                <a:gd name="textAreaRight" fmla="*/ 159480 w 159120"/>
                <a:gd name="textAreaTop" fmla="*/ 66600 h 2557440"/>
                <a:gd name="textAreaBottom" fmla="*/ 2490840 h 25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42080" y="3836160"/>
              <a:ext cx="88200" cy="87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16200000">
              <a:off x="7391160" y="4633920"/>
              <a:ext cx="159120" cy="1278720"/>
            </a:xfrm>
            <a:custGeom>
              <a:avLst/>
              <a:gdLst>
                <a:gd name="textAreaLeft" fmla="*/ 101880 w 159120"/>
                <a:gd name="textAreaRight" fmla="*/ 159480 w 159120"/>
                <a:gd name="textAreaTop" fmla="*/ 33120 h 1278720"/>
                <a:gd name="textAreaBottom" fmla="*/ 1245600 h 127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16200000">
              <a:off x="6272640" y="4794120"/>
              <a:ext cx="159120" cy="958320"/>
            </a:xfrm>
            <a:custGeom>
              <a:avLst/>
              <a:gdLst>
                <a:gd name="textAreaLeft" fmla="*/ 101880 w 159120"/>
                <a:gd name="textAreaRight" fmla="*/ 159480 w 159120"/>
                <a:gd name="textAreaTop" fmla="*/ 24840 h 958320"/>
                <a:gd name="textAreaBottom" fmla="*/ 933480 h 95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35640" y="4235400"/>
              <a:ext cx="1277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д символ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31360" y="5354280"/>
              <a:ext cx="143712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Цвет символ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73040" y="5354280"/>
              <a:ext cx="143604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Цвет фон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74200" y="5672520"/>
              <a:ext cx="143604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ит мерц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12120" y="5193720"/>
              <a:ext cx="1080" cy="47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99680" y="3915360"/>
              <a:ext cx="12762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идеопамят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96280" y="720720"/>
              <a:ext cx="1278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Экра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11320" y="720720"/>
              <a:ext cx="1278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накомест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90040" y="2318760"/>
              <a:ext cx="798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Цвет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о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90040" y="1199880"/>
              <a:ext cx="9586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Цве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имвол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39840" y="2546640"/>
              <a:ext cx="30096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395120" y="1519560"/>
              <a:ext cx="39456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40200" y="720720"/>
              <a:ext cx="47844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79640" y="1040400"/>
              <a:ext cx="47844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79640" y="3277080"/>
              <a:ext cx="4784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93160" y="720720"/>
              <a:ext cx="4784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131-B22E-4498-AE28-A5CB1CB7D27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Константы цветов текста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763640" y="692280"/>
          <a:ext cx="4824360" cy="5997600"/>
        </p:xfrm>
        <a:graphic>
          <a:graphicData uri="http://schemas.openxmlformats.org/drawingml/2006/table">
            <a:tbl>
              <a:tblPr/>
              <a:tblGrid>
                <a:gridCol w="1948320"/>
                <a:gridCol w="2876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ста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Black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ы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Blue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Green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Cyan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голубо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Red</a:t>
                      </a: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красны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Magenta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малиновы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Brown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коричневы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LightGray</a:t>
                      </a: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светло-серы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DarkGray</a:t>
                      </a: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темно-серы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LightBlue</a:t>
                      </a: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светло-сини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LightGreen</a:t>
                      </a: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светло-зелены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LightCyan</a:t>
                      </a: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светло-голубо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LightRed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(розовы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LightMagenta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светло-малиновы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Yellow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White</a:t>
                      </a:r>
                      <a:r>
                        <a:rPr b="1" lang="en-US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(белы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Blink</a:t>
                      </a:r>
                      <a:r>
                        <a:rPr b="1" lang="ru-RU" sz="16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(мерцани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D17-C26B-48C9-AC1F-436F2744D03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Подпрограммы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модуля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Crt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907560"/>
            <a:ext cx="82612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procedure ClrSc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Delay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se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GoToXY(X, Y: By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unction KeyPressed: Boole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procedure NoS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 ReadKey: 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 Soun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r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TextBackGroud(Color: by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TextColor(Color: By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unction WhereX: By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unction WhereY: By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Window(X1, Y1, X2, Y2: By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125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D16-426E-40E8-971D-B584FFA07B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имер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84224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грамма создает меню из трех пунктов, управляемое клавишами курсора, а также клавишам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b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ift+Ta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бор пункта меню выполняется с помощью клавиш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ход из программы – клавиш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340000" y="2484360"/>
          <a:ext cx="607068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484360"/>
                    <a:ext cx="60706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F6E-2B8D-4E93-81D5-646B8D3FF7E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33904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 StupidMenu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es Cr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t n_items = 3;         l_item = 1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  <a:ea typeface="ＭＳ Ｐゴシック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array[1 .. n_items] of string[l_item]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'item1', 'item2', 'item3'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  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  <a:ea typeface="ＭＳ Ｐゴシック"/>
              </a:rPr>
              <a:t>p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: array[1 .. n_items] of intege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1, l_item+1, 2*l_item+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r DefaultMode,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  <a:ea typeface="ＭＳ Ｐゴシック"/>
              </a:rPr>
              <a:t>ActiveCol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  <a:ea typeface="ＭＳ Ｐゴシック"/>
              </a:rPr>
              <a:t>InactiveCol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wor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  : char;      i, j : wor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3141720"/>
            <a:ext cx="889308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edure InitMenu(ActiveColor, InactiveColor:  wor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r i : wor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ndow(1, 1, 80, 2);  TextBackGround(LightGr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rs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extColor(InactiveCo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rawItem(1, ActiveCo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 i := 2 to n_items do DrawItem(i, InactiveCo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toXY(1, 2);  write(‘_________________________________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toXY(3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FBD-EFFF-4171-AB03-B480E5B66BC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3390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edure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  <a:ea typeface="ＭＳ Ｐゴシック"/>
              </a:rPr>
              <a:t>DrawIt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i, Color: wor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ndow(1,1,80,2);  TextBackGround(LightGra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extColor(Color);  gotoXY(pos[i], 1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rite(item[i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3716280"/>
            <a:ext cx="83534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edure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  <a:ea typeface="ＭＳ Ｐゴシック"/>
              </a:rPr>
              <a:t>DoIt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i: word)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{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ение пункта меню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indow(3, 4, 78, 24);   TextBackGround(LightG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rite('Working: item ', 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d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6DA-E056-4949-A60E-3C2D0DA54B1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648036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egin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{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авная программ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rsc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aultMode := LastMo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veColor := LightGre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activeColor:= Gre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itMenu(ActiveColor, InactiveCol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 := 1; j :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65D-BB15-4ED3-A4F8-A35E11432D6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83390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ile true d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:= readke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se ord(c)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7: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3: DoItem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5 {Shift+Tab},  75 {Left}: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:= i; dec(i); if i = 0 then i := n_items; 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9  {Tab}, 77 {Right}: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:= i; inc(i); if i = n_items + 1 then i := 1; 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rawItem(j, InactiveCol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rawItem(i, ActiveCol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TextMode(DefaultMod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250920" y="333360"/>
            <a:ext cx="8281800" cy="4896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C89-C672-4C33-9DD3-2C8CEE2A6BC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Модули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os 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и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inDos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5549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25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ат подпрограммы, реализующие 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возможности операционной системы MS-DO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например, переименование, поиск и удаление файлов, получение и установку системного времени, выполнение программных прерыва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25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оддержки этих подпрограмм в модулях определены константы и типы дан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25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спользует строки Паскаля, 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o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строки с завершающим нуле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EF0-547A-4D24-9C9F-0B389A879BF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Структура программы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1052640"/>
            <a:ext cx="5834160" cy="547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28640" y="826920"/>
            <a:ext cx="11988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1197000"/>
            <a:ext cx="352908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Глобальные п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1989000"/>
            <a:ext cx="5184720" cy="136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49160" y="1773360"/>
            <a:ext cx="230076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дпрограмма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3645000"/>
            <a:ext cx="5111640" cy="129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0" y="3429000"/>
            <a:ext cx="23036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дпрограмма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4076640"/>
            <a:ext cx="439272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26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84040" y="3860640"/>
            <a:ext cx="229896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дпрограмма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133720"/>
            <a:ext cx="338436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Локальные п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03520" y="5084640"/>
            <a:ext cx="8604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43200" y="6308640"/>
            <a:ext cx="63792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58800" y="2421000"/>
            <a:ext cx="8604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27200" y="3068640"/>
            <a:ext cx="63792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2781360"/>
            <a:ext cx="4604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6021360"/>
            <a:ext cx="4604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7516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Вызов А ... Вызов А ... Вызов В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7B5-7CAC-40D4-81B3-689CB21B09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Подпрограммы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модуля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Do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1219320"/>
            <a:ext cx="87724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 DiskFree(Disk: byte): Longi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 DiskSi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isk: Byte): Longi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Exec(Path, CmdLine: String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FindFirst(Path: String; Attr: By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var S: SearchRe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GetDate(var Year, M, Day, D: Wor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GetAtt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f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Att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Intr(IntNum: Byte; var Regs: Regist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SetFAtt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 f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SetDate(var Y, M, D, Dw: Wor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e SetTime(var Hour, Min, Sec, Ssec: Wor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6520" indent="-23652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003-C504-4EBF-8EE4-F6E7D0DA26F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94920" y="583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Пример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772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count_rus_letter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s Do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9a0000"/>
                </a:solidFill>
                <a:latin typeface="Verdana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SearchRe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integer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longin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char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tex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a0000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FindFir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'*.txt', AnyFile, </a:t>
            </a:r>
            <a:r>
              <a:rPr b="0" lang="en-US" sz="1800" spc="-1" strike="noStrike">
                <a:solidFill>
                  <a:srgbClr val="9a0000"/>
                </a:solidFill>
                <a:latin typeface="Verdana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le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DosErr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= 0 do beg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ign(f, </a:t>
            </a:r>
            <a:r>
              <a:rPr b="0" lang="en-US" sz="1800" spc="-1" strike="noStrike">
                <a:solidFill>
                  <a:srgbClr val="9a0000"/>
                </a:solidFill>
                <a:latin typeface="Verdana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Name); reset(f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le not EOF(f) do beg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(f, 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e := ord(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(code &gt; $7F) and (code &lt; $B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(code &gt; $DF) and (code &lt; $F2) then inc(</a:t>
            </a:r>
            <a:r>
              <a:rPr b="0" lang="en-US" sz="1800" spc="-1" strike="noStrike">
                <a:solidFill>
                  <a:srgbClr val="9a0000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ose(f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FindNex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9a0000"/>
                </a:solidFill>
                <a:latin typeface="Verdana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writeln('Русских букв в текущем каталоге – ', 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5651640" y="404640"/>
            <a:ext cx="3166920" cy="192348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грамма определяет, сколько русских букв находится во всех текстовых файлах текущего ката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3141720"/>
            <a:ext cx="360360" cy="27352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13760 h 2735280"/>
              <a:gd name="textAreaBottom" fmla="*/ 262152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00000" y="3716280"/>
            <a:ext cx="287280" cy="1368360"/>
          </a:xfrm>
          <a:custGeom>
            <a:avLst/>
            <a:gdLst>
              <a:gd name="textAreaLeft" fmla="*/ 84240 w 287280"/>
              <a:gd name="textAreaRight" fmla="*/ 287640 w 2872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6C2-2F89-432F-8F97-9B020DD25CB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Модуль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raph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741672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еспечива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ывод линий и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геометрических фигу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заданным цветом и стиле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закрашивание областе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заданным цветом и шаблоно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вывод текста различным шрифто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заданного размера и направ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ение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око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и отсечение по их границ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спользование графических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спрай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и работу с графическими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страницам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0C7-6452-48CC-A0B7-F58D4F617D0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58920" y="186480"/>
            <a:ext cx="92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Использование графики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64738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ключение модуля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вод экрана в графический режи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ка параметров изображ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вод изображ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врат в текстовый реж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646-B86A-4BB1-B37F-8A8EBFB2918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Примеры типов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модуля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Graph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55640" y="1219320"/>
            <a:ext cx="82677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e LineSettingsType = re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neSty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W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tte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W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ckne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W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e TextSettingsType = re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nt, Direction, CharSize : W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riz, Vert : W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e ArcCoordsType = re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Inte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Start, Yst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Inte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End, Ye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Inte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5B9-55FD-4946-92ED-5748FA3A1ED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94920" y="1807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Примеры констант модуля Graph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"/>
          <p:cNvSpPr/>
          <p:nvPr/>
        </p:nvSpPr>
        <p:spPr>
          <a:xfrm>
            <a:off x="4190760" y="835920"/>
            <a:ext cx="45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Константы образцов закраши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851280" y="1268280"/>
          <a:ext cx="5106960" cy="2703600"/>
        </p:xfrm>
        <a:graphic>
          <a:graphicData uri="http://schemas.openxmlformats.org/drawingml/2006/table">
            <a:tbl>
              <a:tblPr/>
              <a:tblGrid>
                <a:gridCol w="1512720"/>
                <a:gridCol w="863640"/>
                <a:gridCol w="2730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стан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EmptyF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ашивание области фоновым цв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SolidF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ерывное закрашивание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LineF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ашивание -----------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ltSlashF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ашивание ////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SlashF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ашивание жирными линиями ///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574920" y="89136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Константы шриф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24000" y="1341360"/>
          <a:ext cx="3240000" cy="3097440"/>
        </p:xfrm>
        <a:graphic>
          <a:graphicData uri="http://schemas.openxmlformats.org/drawingml/2006/table">
            <a:tbl>
              <a:tblPr/>
              <a:tblGrid>
                <a:gridCol w="1511280"/>
                <a:gridCol w="1728720"/>
              </a:tblGrid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нста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Default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(растровый шриф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Triplex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векторный шрифт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Small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SanSerif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Gothic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HorizD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(слева направо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VertD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сверху вниз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"/>
          <p:cNvSpPr/>
          <p:nvPr/>
        </p:nvSpPr>
        <p:spPr>
          <a:xfrm>
            <a:off x="4190760" y="4091040"/>
            <a:ext cx="3144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763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Константы стиля ли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3780000" y="4653000"/>
          <a:ext cx="4017960" cy="1549440"/>
        </p:xfrm>
        <a:graphic>
          <a:graphicData uri="http://schemas.openxmlformats.org/drawingml/2006/table">
            <a:tbl>
              <a:tblPr/>
              <a:tblGrid>
                <a:gridCol w="1349280"/>
                <a:gridCol w="2668680"/>
              </a:tblGrid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стан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ч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SolidLn</a:t>
                      </a: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(непрерывная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DottedLn</a:t>
                      </a: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линия из точек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NormWidth</a:t>
                      </a: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обычная толщин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Courier New"/>
                          <a:ea typeface="Times New Roman"/>
                        </a:rPr>
                        <a:t>ThickWidth</a:t>
                      </a: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(жирная линия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B60-6AE9-4CD9-8117-F69E3E98A7C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80640" y="-18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Примеры подпрограмм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модуля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Graph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8628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A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Y: Integer; Angle1, Angle2, R: Wor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Circ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Y: Integer; R: Wor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procedure Close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FillPoly(N : Word; var 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unction GetColor: W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 GetMaxX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unction GraphResult: Inte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InitGraph(var GrDriver: Integer; var Mode: Integer; Path : Str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Line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e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OutTextX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Х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e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PutImage(X, Y: Integer; var Mass; Oper: Wor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Rectangle(X1, Y1, X2, X2: Integ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SetBkColo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SetColo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SetLineStyle(SType: Word; Pattern: Word; S: Wor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ure SetVisualPage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ge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44B-0F33-4AA2-B4C0-03E995CD4B6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94920" y="11952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Пример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741672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ses Graph;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st grDriver : integer = </a:t>
            </a: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Detec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le = 20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ar    grMode         : integer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xX, maxY : integer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{ -----------------------------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нициализация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фики ----- 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InitGraph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grDriver, grMode, </a:t>
            </a:r>
            <a:r>
              <a:rPr b="0" lang="en-US" sz="1700" spc="-1" strike="noStrike">
                <a:solidFill>
                  <a:srgbClr val="006600"/>
                </a:solidFill>
                <a:latin typeface="Verdana"/>
              </a:rPr>
              <a:t>'d:\tp\bgi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')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GraphResul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&lt;&gt; </a:t>
            </a: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GrO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then begi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riteln('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шибка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фики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: ', </a:t>
            </a: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GraphErrorMsg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ErrCod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);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it  end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5292720" y="333360"/>
            <a:ext cx="3456000" cy="1943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20000" y="476280"/>
            <a:ext cx="0" cy="165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08720" y="1341360"/>
            <a:ext cx="30956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64000" y="333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92720" y="155736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08720" y="105264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26000" y="2192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44791"/>
              <a:gd name="adj5" fmla="val 330435"/>
              <a:gd name="adj6" fmla="val 1824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00000" y="4941720"/>
            <a:ext cx="73440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{ ------------------------------------------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вод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текста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----- 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SetColo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Cyan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SetTextStyl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GothicFon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700" spc="-1" strike="noStrike">
                <a:solidFill>
                  <a:srgbClr val="800000"/>
                </a:solidFill>
                <a:latin typeface="Verdana"/>
              </a:rPr>
              <a:t>HorizDi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4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OuttextXY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pole, pole, 'The end');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adln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CloseGraph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55640" y="3716280"/>
            <a:ext cx="748836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{ ------------------------------------------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вод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лини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----- 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xX := </a:t>
            </a: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GetMaxX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maxY := </a:t>
            </a: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GetMaxY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Lin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pole, maxY div 2, maxX - pole, maxY div 2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336699"/>
                </a:solidFill>
                <a:latin typeface="Verdana"/>
              </a:rPr>
              <a:t>Lin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maxX div 2, pole, maxX div 2, maxY - pole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303-4093-49C4-BC53-78A7C2A5E8E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Модуль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ings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62120" y="764640"/>
            <a:ext cx="75549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назначен для работы со строками, заканчивающимися нуль-символом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CIIZ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строки) и содержит функции копирования, сравнения, слияния строк, преобразования их в строки тип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поиска подстрок и символ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модул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stem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ен тип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ha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представляющий собой указатель на символ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^Cha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. Этот тип можно использовать для работы с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CIIZ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строками. Эти строки располагаются в динамической памяти, и программист должен сам заниматься ее распределение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оме того, для хранения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CIIZ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строк используются массивы символов с нулевой базой, например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array[0 .. 4000] of cha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ссивы символов с нулевой базой и указатели на символы совместим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162-0699-45B4-B228-F9BE116B8D2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-2520"/>
            <a:ext cx="8600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Структура программы в оперативной памяти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219320"/>
            <a:ext cx="40323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IBM PC-совместимых компьютерах память условно разделена на сегмент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рес каждого байта составляется из номера сегмента и смещ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мпилятор формирует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гмент ко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в котором хранится программа в виде машинных команд, и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гмент данны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в котором выделена память под глобальные переменные програм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177336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гмент сте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2133720"/>
            <a:ext cx="265896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гмент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2854440"/>
            <a:ext cx="265896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гмент к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51640" y="992160"/>
            <a:ext cx="2658960" cy="7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намическая памя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057560" y="3933720"/>
            <a:ext cx="5078880" cy="2466720"/>
            <a:chOff x="4057560" y="3933720"/>
            <a:chExt cx="5078880" cy="2466720"/>
          </a:xfrm>
        </p:grpSpPr>
        <p:sp>
          <p:nvSpPr>
            <p:cNvPr id="116" name=""/>
            <p:cNvSpPr/>
            <p:nvPr/>
          </p:nvSpPr>
          <p:spPr>
            <a:xfrm>
              <a:off x="4637880" y="4368960"/>
              <a:ext cx="3192120" cy="29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Адрес сегмента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08360" y="5094720"/>
              <a:ext cx="3192120" cy="29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Смещение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37880" y="5674680"/>
              <a:ext cx="4062600" cy="29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Физический адрес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6596640" y="4006440"/>
              <a:ext cx="144720" cy="406260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05840 h 4062600"/>
                <a:gd name="textAreaBottom" fmla="*/ 3956760 h 406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6161760" y="2699280"/>
              <a:ext cx="143640" cy="319212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83160 h 3192120"/>
                <a:gd name="textAreaBottom" fmla="*/ 3108960 h 31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7031520" y="3425040"/>
              <a:ext cx="144720" cy="31921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83160 h 3192120"/>
                <a:gd name="textAreaBottom" fmla="*/ 3108960 h 31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8193240" y="3861000"/>
              <a:ext cx="144720" cy="87048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2680 h 870480"/>
                <a:gd name="textAreaBottom" fmla="*/ 847800 h 87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78840" y="6110280"/>
              <a:ext cx="72576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 бит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69720" y="4659480"/>
              <a:ext cx="72432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 бит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9240" y="3933720"/>
              <a:ext cx="7236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 бит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75440" y="3933720"/>
              <a:ext cx="7232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 бита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30360" y="4368960"/>
              <a:ext cx="870480" cy="29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57560" y="4513680"/>
              <a:ext cx="725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03360" y="5529960"/>
              <a:ext cx="49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EBB-C15F-4DCE-8D3B-D759620A01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Виды переменных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7280" y="1219320"/>
            <a:ext cx="676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Глобальным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называются переменные, которые описаны в главной программе. Время жизни глобальных переменных — с начала программы и до ее завершения. Располагаю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в сегменте данны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подпрограммах описываются </a:t>
            </a:r>
            <a:r>
              <a:rPr b="0" i="1" lang="en-US" sz="2000" spc="-1" strike="noStrike">
                <a:solidFill>
                  <a:srgbClr val="800000"/>
                </a:solidFill>
                <a:latin typeface="Verdana"/>
              </a:rPr>
              <a:t>локаль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переменные. Они располагаются в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сегменте сте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причем распределение памяти происходит в момент вызова подпрограммы, а ее освобождение — по завершении под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окальные переменные </a:t>
            </a: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автоматически не обнуляютс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428-3FCC-475E-804C-73FD79180F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Вызо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295280"/>
            <a:ext cx="8305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того чтобы подпрограмма выполнилась, ее над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зв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зов подпрограммы записывается в том месте программы, где требуется получить результаты рабо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цедура вызывается с помощью отдельного оператора, а функция — в правой части оператора присваивания, наприме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(i); writeln(a, b, c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зов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цеду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+ 1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{ вызов функции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EC4-BEEB-444E-89BC-758AB8AD92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-2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Процедур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440000"/>
            <a:ext cx="8304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 Narrow"/>
              </a:rPr>
              <a:t>procedure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&lt;имя&gt; [(список параметров)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&lt;разделы описаний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 Narrow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&lt;раздел операторов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 Narrow"/>
              </a:rPr>
              <a:t>end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476280"/>
            <a:ext cx="2663640" cy="865080"/>
          </a:xfrm>
          <a:prstGeom prst="wedgeRoundRectCallout">
            <a:avLst>
              <a:gd name="adj1" fmla="val -46305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аголов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авловская Т.А. (СПбГУИТМО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505-1EB0-4A76-9A41-F54C1A8C67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7:55:54Z</dcterms:created>
  <dc:creator>Аксенов Борис</dc:creator>
  <dc:description/>
  <dc:language>en-US</dc:language>
  <cp:lastModifiedBy>мух</cp:lastModifiedBy>
  <dcterms:modified xsi:type="dcterms:W3CDTF">2010-08-12T15:13:47Z</dcterms:modified>
  <cp:revision>83</cp:revision>
  <dc:subject/>
  <dc:title>Презентация PowerPoint</dc:title>
</cp:coreProperties>
</file>