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52A-AA5B-43CD-BF56-A6802F2D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6DB-1A58-44EA-B112-CD80F97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C1E-D9BD-48DA-9F92-97506323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DA1-0941-4520-864D-44F19E33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FA0C-B330-4D6B-A4D6-7EADAF5B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1773-F916-4C43-B3F4-460153E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FCE9-5426-4B36-B4B0-DDCD121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D18B-E72D-4ECD-B557-B4227FE2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6D0-7AE0-44B2-A089-32ACF908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E3F-605D-4663-9901-0D90102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BF1-BEC9-4772-9491-4DE09CE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C61-472E-4AFE-AB25-72B72D8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353E-2F11-4F4D-970F-B609BDA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1243-4246-47AE-A005-5291F76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27B4-CD8C-42B0-BCDB-7E0201BD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67F-7505-4D19-8A55-EC27B11B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67D2-19E8-4805-859E-3B012B1E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3B9-3229-453D-AA11-14651A8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523-950A-4DDE-B99A-FA2C04E3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FE7-2150-4CAB-A8A8-CDB3AAA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7B0-942A-4679-BFD9-9390085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064-6B3E-4073-A4BD-F3D734A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E87-9C83-4ADE-94B0-5C3361F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B19-1B91-4C86-B25E-1D92D79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638400"/>
            <a:ext cx="5256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81E-8644-4753-A8F1-911CF90269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295280"/>
            <a:ext cx="489276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13932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605280"/>
            <a:ext cx="6019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C51-9137-4BE2-9333-CBAE8C68EB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26080"/>
            <a:ext cx="8794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Курс «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аскаль. Программирование на языке высокого уровня»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3789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вловская Т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91C-4717-47F6-8BAD-238B4D3FF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4121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1" lang="ru-RU" sz="2400" spc="-1" strike="noStrike">
                <a:solidFill>
                  <a:srgbClr val="9a0000"/>
                </a:solidFill>
                <a:latin typeface="Verdana"/>
              </a:rPr>
              <a:t>Кол-во отрицательных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общая сумма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 Sum_Nu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 n = 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 a : array [1 .. n] of intege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, sum, num : intege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ln('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', n, '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сс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 := 1 to n do read(a[i]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um := 0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um := 0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 := 1 to n do 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if a[i] &lt; 0 then inc(num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um := sum + a[i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writeln</a:t>
            </a:r>
            <a:r>
              <a:rPr b="0" lang="ru-RU" sz="2400" spc="-1" strike="noStrike">
                <a:solidFill>
                  <a:srgbClr val="9a0000"/>
                </a:solidFill>
                <a:latin typeface="Verdana"/>
              </a:rPr>
              <a:t>('Отрицательных элементов: ',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um</a:t>
            </a:r>
            <a:r>
              <a:rPr b="0" lang="ru-RU" sz="2400" spc="-1" strike="noStrike">
                <a:solidFill>
                  <a:srgbClr val="9a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writeln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('Сумма элементов: ', 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um</a:t>
            </a: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45E-5A76-4C26-B174-D26903CE3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539640" y="1484280"/>
            <a:ext cx="7911360" cy="3745080"/>
            <a:chOff x="539640" y="1484280"/>
            <a:chExt cx="7911360" cy="3745080"/>
          </a:xfrm>
        </p:grpSpPr>
        <p:sp>
          <p:nvSpPr>
            <p:cNvPr id="109" name=""/>
            <p:cNvSpPr/>
            <p:nvPr/>
          </p:nvSpPr>
          <p:spPr>
            <a:xfrm>
              <a:off x="1550160" y="2108520"/>
              <a:ext cx="50508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0160" y="2732760"/>
              <a:ext cx="50508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52680" y="3356640"/>
              <a:ext cx="504000" cy="623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0160" y="3980880"/>
              <a:ext cx="505080" cy="6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0160" y="4605480"/>
              <a:ext cx="50508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7400" y="1484280"/>
              <a:ext cx="134568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-й просмотр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11" idx="3"/>
              <a:endCxn id="109" idx="3"/>
            </p:cNvCxnSpPr>
            <p:nvPr/>
          </p:nvCxnSpPr>
          <p:spPr>
            <a:xfrm flipH="1" flipV="1">
              <a:off x="2054880" y="2419920"/>
              <a:ext cx="1800" cy="1249200"/>
            </a:xfrm>
            <a:prstGeom prst="curvedConnector5">
              <a:avLst>
                <a:gd name="adj1" fmla="val -36000000"/>
                <a:gd name="adj2" fmla="val 49985"/>
                <a:gd name="adj3" fmla="val -360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1380960" y="2732760"/>
              <a:ext cx="1080" cy="24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9640" y="2732760"/>
              <a:ext cx="8413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=2.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640" y="3356640"/>
              <a:ext cx="836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n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43640" y="3564360"/>
              <a:ext cx="504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9640" y="2108520"/>
              <a:ext cx="837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=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043640" y="2317320"/>
              <a:ext cx="504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7400" y="2732760"/>
              <a:ext cx="67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6080" y="2108520"/>
              <a:ext cx="506160" cy="623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6080" y="2732760"/>
              <a:ext cx="5061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9680" y="3356640"/>
              <a:ext cx="50292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6080" y="3980880"/>
              <a:ext cx="506160" cy="6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6080" y="4605480"/>
              <a:ext cx="506160" cy="623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4760" y="1484280"/>
              <a:ext cx="13467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-й просмотр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7960" y="3356640"/>
              <a:ext cx="1080" cy="18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6640" y="3356640"/>
              <a:ext cx="8413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=3.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26640" y="4605480"/>
              <a:ext cx="83916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n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30640" y="4812840"/>
              <a:ext cx="504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640" y="2732760"/>
              <a:ext cx="83916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=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30640" y="2941560"/>
              <a:ext cx="504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4760" y="3356640"/>
              <a:ext cx="67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27" idx="3"/>
              <a:endCxn id="124" idx="3"/>
            </p:cNvCxnSpPr>
            <p:nvPr/>
          </p:nvCxnSpPr>
          <p:spPr>
            <a:xfrm flipV="1">
              <a:off x="4242240" y="3044160"/>
              <a:ext cx="1800" cy="1873080"/>
            </a:xfrm>
            <a:prstGeom prst="curvedConnector5">
              <a:avLst>
                <a:gd name="adj1" fmla="val 36000000"/>
                <a:gd name="adj2" fmla="val 50000"/>
                <a:gd name="adj3" fmla="val 360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5923080" y="2108520"/>
              <a:ext cx="507600" cy="623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23080" y="2732760"/>
              <a:ext cx="507600" cy="623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28120" y="3356640"/>
              <a:ext cx="50292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23080" y="3980880"/>
              <a:ext cx="507600" cy="624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23080" y="4605480"/>
              <a:ext cx="50760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82840" y="1484280"/>
              <a:ext cx="13467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-й просмотр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54960" y="3980880"/>
              <a:ext cx="1080" cy="12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3640" y="3980880"/>
              <a:ext cx="84132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=4.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3640" y="4188600"/>
              <a:ext cx="84024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n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17640" y="4397400"/>
              <a:ext cx="505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13640" y="3356640"/>
              <a:ext cx="8402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=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17640" y="3565800"/>
              <a:ext cx="505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82840" y="3980880"/>
              <a:ext cx="66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0" idx="3"/>
              <a:endCxn id="139" idx="3"/>
            </p:cNvCxnSpPr>
            <p:nvPr/>
          </p:nvCxnSpPr>
          <p:spPr>
            <a:xfrm flipV="1">
              <a:off x="6430680" y="3668400"/>
              <a:ext cx="1800" cy="624600"/>
            </a:xfrm>
            <a:prstGeom prst="curvedConnector5">
              <a:avLst>
                <a:gd name="adj1" fmla="val 36000000"/>
                <a:gd name="adj2" fmla="val 50000"/>
                <a:gd name="adj3" fmla="val 360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7943400" y="2108520"/>
              <a:ext cx="507600" cy="623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43400" y="2732760"/>
              <a:ext cx="507600" cy="623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48080" y="3356640"/>
              <a:ext cx="502920" cy="6238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43400" y="3980880"/>
              <a:ext cx="507600" cy="6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43400" y="4605480"/>
              <a:ext cx="507600" cy="6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03160" y="1484280"/>
              <a:ext cx="13467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-й просмотр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4200" y="4605480"/>
              <a:ext cx="21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33960" y="4605480"/>
              <a:ext cx="8402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=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3980880"/>
              <a:ext cx="83916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=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36880" y="4189680"/>
              <a:ext cx="506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02080" y="4605480"/>
              <a:ext cx="668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81000" y="1864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Сортировка выб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EC7-F4FE-4433-BC7B-664846252F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Алгоритм сортиров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772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, где расположен минимальный элемент масси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енять его местами с 1-м элементом. Первый элемент теперь на нужном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и элементов, начиная со 2-го, найти, где расположен минимальный элемент масси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енять его местами со 2-м элементом. Второй элемент теперь на нужном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и элементов, начиная с 3-го, найти, где расположен минимальный элемент масси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енять его местами с 3-м элементом. Третий элемент теперь на нужном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и элементов, начиная с предпоследнего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-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айти, где расположен минимальный элемент масси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енять его местами с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-1)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элемент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71520" y="765000"/>
            <a:ext cx="8772480" cy="5042160"/>
          </a:xfrm>
          <a:prstGeom prst="rect">
            <a:avLst/>
          </a:prstGeom>
          <a:solidFill>
            <a:srgbClr val="ddddd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ть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-1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з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:= 1 to n-1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и элементов, начина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го, найти, где расположен минимальный элемент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нять его местами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м элементом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й элемент теперь на нужно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555-ED45-4FE9-80DD-523EFDC55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Обмен значений двух переменны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1413000"/>
            <a:ext cx="1008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1413000"/>
            <a:ext cx="1008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08360" y="3645000"/>
            <a:ext cx="1008000" cy="4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3404400">
            <a:off x="2592000" y="2529000"/>
            <a:ext cx="1873440" cy="504720"/>
          </a:xfrm>
          <a:prstGeom prst="rightArrow">
            <a:avLst>
              <a:gd name="adj1" fmla="val 50000"/>
              <a:gd name="adj2" fmla="val 92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087600">
            <a:off x="4032360" y="2457000"/>
            <a:ext cx="1873080" cy="505080"/>
          </a:xfrm>
          <a:prstGeom prst="rightArrow">
            <a:avLst>
              <a:gd name="adj1" fmla="val 50000"/>
              <a:gd name="adj2" fmla="val 92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3276360" y="1413000"/>
            <a:ext cx="1873080" cy="504720"/>
          </a:xfrm>
          <a:prstGeom prst="rightArrow">
            <a:avLst>
              <a:gd name="adj1" fmla="val 50000"/>
              <a:gd name="adj2" fmla="val 92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1413000"/>
            <a:ext cx="1008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1413000"/>
            <a:ext cx="1008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3645000"/>
            <a:ext cx="1008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8FE-F52A-4ED2-96A3-7D69611F65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ортировка выбором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31708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S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 n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 : array [1 .. n] of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nmin, buf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Введите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' элементов массива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do read(a[i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- 1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min :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or j := i + 1 to n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f a[j] &lt; a[nmin] then nmin := j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buf := a[i];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a[i] := a[nmin];   a[nmin] := 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Упорядоченный массив: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do write(a[i]: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664-378B-43A2-9382-06B9B03EF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Сортировка выбором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831708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S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 n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 : array [1 .. n] of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nmin, buf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Введите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' элементов массива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do read(a[i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- 1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min := 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j := i + 1 to n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[j] &lt; a[nmin] then nmin := j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f := a[i]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[i] := a[nmin]; a[nmin] := 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Упорядоченный массив: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do write(a[i]: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490-5600-4F87-814A-3AA18F64DE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Двумерные массив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550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 n = 4; m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array [1 ..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2 = array [1 ..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of mas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mas2 = array [1 ..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1 ..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of integer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a11  a12  a13   a14  a21  a22  a23  a24  a31  a32  a33  a34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|   - 1-я строка -    |    - 2-я строка -    |   - 3-я строка -   |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211640" y="198360"/>
            <a:ext cx="4774680" cy="3112200"/>
            <a:chOff x="4211640" y="198360"/>
            <a:chExt cx="4774680" cy="3112200"/>
          </a:xfrm>
        </p:grpSpPr>
        <p:sp>
          <p:nvSpPr>
            <p:cNvPr id="183" name=""/>
            <p:cNvSpPr/>
            <p:nvPr/>
          </p:nvSpPr>
          <p:spPr>
            <a:xfrm flipH="1" flipV="1">
              <a:off x="8078400" y="880560"/>
              <a:ext cx="227160" cy="1364760"/>
            </a:xfrm>
            <a:custGeom>
              <a:avLst/>
              <a:gdLst>
                <a:gd name="textAreaLeft" fmla="*/ 145080 w 227160"/>
                <a:gd name="textAreaRight" fmla="*/ 227520 w 227160"/>
                <a:gd name="textAreaTop" fmla="*/ 35280 h 1364760"/>
                <a:gd name="textAreaBottom" fmla="*/ 1329480 h 136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16200000">
              <a:off x="6370560" y="1221840"/>
              <a:ext cx="228600" cy="2729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0920 h 2729880"/>
                <a:gd name="textAreaBottom" fmla="*/ 265896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51"/>
                  </a:lnTo>
                  <a:cubicBezTo>
                    <a:pt x="10800" y="9951"/>
                    <a:pt x="5400" y="10851"/>
                    <a:pt x="0" y="10851"/>
                  </a:cubicBezTo>
                  <a:cubicBezTo>
                    <a:pt x="5400" y="10851"/>
                    <a:pt x="10800" y="11751"/>
                    <a:pt x="10800" y="126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0160" y="2630160"/>
              <a:ext cx="6800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06280" y="1335240"/>
              <a:ext cx="6800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20280" y="88128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3920" y="88128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5400" y="88128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8680" y="88128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20280" y="133524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3920" y="133524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85400" y="133524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8680" y="133524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20280" y="179064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03920" y="179064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5400" y="1790640"/>
              <a:ext cx="6832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8680" y="1790640"/>
              <a:ext cx="681480" cy="45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8800" y="1108440"/>
              <a:ext cx="6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8800" y="2019240"/>
              <a:ext cx="681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347800" y="198360"/>
              <a:ext cx="144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96200" y="198360"/>
              <a:ext cx="288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38800" y="644400"/>
              <a:ext cx="6800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38800" y="1554120"/>
              <a:ext cx="6782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a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96200" y="198360"/>
              <a:ext cx="6829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99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47800" y="198360"/>
              <a:ext cx="6800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57880" y="198360"/>
              <a:ext cx="6818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1108440"/>
              <a:ext cx="6800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CC3-6D2E-467E-BF8C-D22AB4EDE0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Инициализация массива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 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=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2, 3, 1, 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1, 9, 1, 3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3, 5, 7, 0) 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i := 1 to m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j := 1 to n do read (a[i, j]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A98-9181-4BE7-A4AC-9D586CE170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0" i="1" lang="ru-RU" sz="44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219320"/>
            <a:ext cx="27367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ограмма, которая для целочисленной матрицы 3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 4 определяет среднее арифметическое ее элементов и количество положительных элементов в каждой ст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80000" y="0"/>
            <a:ext cx="5158800" cy="6858000"/>
            <a:chOff x="3780000" y="0"/>
            <a:chExt cx="5158800" cy="6858000"/>
          </a:xfrm>
        </p:grpSpPr>
        <p:sp>
          <p:nvSpPr>
            <p:cNvPr id="214" name=""/>
            <p:cNvSpPr/>
            <p:nvPr/>
          </p:nvSpPr>
          <p:spPr>
            <a:xfrm>
              <a:off x="4847400" y="0"/>
              <a:ext cx="1778760" cy="26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57840" y="439200"/>
              <a:ext cx="3380040" cy="439560"/>
            </a:xfrm>
            <a:prstGeom prst="parallelogram">
              <a:avLst>
                <a:gd name="adj" fmla="val 1922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Ввод массив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58480" y="1054800"/>
              <a:ext cx="1778760" cy="26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sred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24600" y="1494360"/>
              <a:ext cx="2846160" cy="351360"/>
            </a:xfrm>
            <a:prstGeom prst="hexagon">
              <a:avLst>
                <a:gd name="adj" fmla="val 20251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 = 1,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24600" y="2461680"/>
              <a:ext cx="2846160" cy="351360"/>
            </a:xfrm>
            <a:prstGeom prst="hexagon">
              <a:avLst>
                <a:gd name="adj" fmla="val 202510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 = 1,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58480" y="2022120"/>
              <a:ext cx="177876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n_pos_el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9560" y="2989440"/>
              <a:ext cx="2134800" cy="26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sred = sred +</a:t>
              </a: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Verdana"/>
                </a:rPr>
                <a:t>i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1440" y="3446640"/>
              <a:ext cx="2668320" cy="5274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Verdana"/>
                </a:rPr>
                <a:t>ij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15720" y="3604680"/>
              <a:ext cx="142308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inc(n_pos_e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600" y="26352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6600" y="87912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6600" y="131868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600" y="184608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600" y="2286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6600" y="28134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6600" y="32529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736600" y="3966840"/>
              <a:ext cx="864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59120" y="4220280"/>
              <a:ext cx="355680" cy="175680"/>
            </a:xfrm>
            <a:prstGeom prst="diamond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9120" y="5187600"/>
              <a:ext cx="355680" cy="175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957480" y="4308120"/>
              <a:ext cx="1600920" cy="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957840" y="2637720"/>
              <a:ext cx="0" cy="16704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7840" y="2637720"/>
              <a:ext cx="355680" cy="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780000" y="5275440"/>
              <a:ext cx="1779120" cy="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780000" y="1670040"/>
              <a:ext cx="0" cy="360468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80000" y="1670400"/>
              <a:ext cx="533520" cy="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47400" y="6594480"/>
              <a:ext cx="1778760" cy="26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4880" y="37101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736600" y="4044240"/>
              <a:ext cx="249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27440" y="38685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6160" y="3516840"/>
              <a:ext cx="711360" cy="1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5680" y="4572000"/>
              <a:ext cx="3380040" cy="439200"/>
            </a:xfrm>
            <a:prstGeom prst="parallelogram">
              <a:avLst>
                <a:gd name="adj" fmla="val 1923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ывод n_pos_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36600" y="50115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36600" y="43959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7840" y="5978880"/>
              <a:ext cx="3201840" cy="439200"/>
            </a:xfrm>
            <a:prstGeom prst="parallelogram">
              <a:avLst>
                <a:gd name="adj" fmla="val 1822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ывод s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69560" y="5539320"/>
              <a:ext cx="2312640" cy="26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sred = sred / m /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36600" y="536328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36600" y="580284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6600" y="641844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7F0-2AE7-4B74-A7DF-292015E977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4121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sred_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 m = 3; n = 4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 : array [1 .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1 .. n] of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n_pos_el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ed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m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j := 1 to n do read(a[i, j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ed :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or i := 1 to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m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_pos_el :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for j := 1 to n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ed := sred + a[i, j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[i, j] &gt; 0 then inc(n_pos_e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', i, '–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', n_pos_el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положительных элементов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ed := sred / m / 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Среднее арифметическое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EC0-8FD7-481B-9789-E549A28E7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0368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екция 3. Типы данных, определяемые программистом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писываются одномерные и двумерные массивы, строки, записи, множества и файл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C99-9066-4ED3-ACCE-EBB21B166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тро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194-DD70-4D1C-A3F1-007EFCA3D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Типы стро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аскале три типа строк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ные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яемые программистом на основ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ки в динамической памя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ка тип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жет содержать до 255 символов. Под каждый символ отводится по 1 байту, в котором хранится код символа. Еще один байт отводится под фактическую длину стро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471-D6D0-4B09-B02C-5D46D2973F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исание стро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st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[5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 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 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{ строка стандартого типа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{ строка тип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];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{ описание типа задано при описании переменной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C9F-81CC-49BB-A185-4FCC156743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ерации со строкам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219320"/>
            <a:ext cx="8339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сваива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:= s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катенац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1 := 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 + 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у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авн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s3 &gt; s1 then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од-вывод – как целиком, так и посимволь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520-51BA-4A24-A23C-B510B71209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оцедуры и функци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47640" y="1267920"/>
            <a:ext cx="625824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cat(s1, s2, ..., s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py(s, start, 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lete(s, start, 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(s, x, errco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2AF-37FE-41F5-AE34-EE2DC28DBE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265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аписать программу, которая определяет, встречается ли в заданном текстовом файле заданная последовательность символ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екст не содержит переносов слов, длина строки текста не превышает 80 симво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250-402D-4475-B43B-88EB648339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Алгоритм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26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рочно считывать текст из фай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каждой строки проверять, содержится ли в ней заданная последовательно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да, напечатать сообщение о наличии заданной последовательности и завершить программ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нормальном выходе из цикла напечатать сообщение об отсутствии заданной последовательности и завершить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468-9765-4BC3-BF50-85CCF34B02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ограмма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4837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gram search_substr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st len = 8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;                                       { 1 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a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ord, line : string[len];                         { 2 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n : text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sign(fin, ’text.txt’); reset(fin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ведите слово для поиска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);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ln(word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while not eof(fin) do begi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               { 3 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ln(fin, lin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f pos(word, line) &lt;&gt; 0 then begin       { 4 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riteln(’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рисутствует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!’); exit end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end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Отсутствует!’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DE-C0C6-41DC-99E0-94D0B787A4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770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Программа, которая читает текст из файла и выводит его на экран, заменяя заданную с клавиатуры последовательность символов на многоточ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411-1766-4AF4-B459-C5F27603DE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261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Change_wo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, str : string[80]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 : tex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dl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(f, 'primer.txt'); reset(f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writeln('Какое слово заменять?')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l := length(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t Eof(f)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ln(f, str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 :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while i&lt;&gt;0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 := Pos(s, st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f i&lt;&gt;0 then begi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Delete(str, i, d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Insert('...', str, i);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st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lose(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n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6F5-B69D-424D-BE6D-C9A213786D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остые типы данны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0B15-09A4-4819-8252-E7702D515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аписи и множеств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CA7-17A2-4915-B1BC-4086B9B7EA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исание запис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typ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мя_типа =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 поля запис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ние 2-го поля запис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го поля запис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335-A4B5-4AEC-9D49-8B6BFF95F1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меры описания записе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goods =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: string [2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1, g2 : goo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ck : array [1 .. 100] of goo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: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: string [3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: by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s : array [1 .. 4] of by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61F-6D6D-4DF0-9326-46BBAC108F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Действия с записям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28080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c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[3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1.price := 2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2349360"/>
            <a:ext cx="583272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1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200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149720"/>
            <a:ext cx="826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ициализация записе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 g : goods = ( name : ’boots’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20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10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416-BF18-4839-AAD1-8B344893CD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мер использования записей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63640" y="3357720"/>
            <a:ext cx="383400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Program SKLA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x_n = 1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20 = string [2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s =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: str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83664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едения о товарах на складе хранятся в текстовом файле. Для каждого товара отводится одна строка, в первых 20 позициях которой записано наименование товара, а затем через произвольное количество пробелов его цена и количество един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по запросу выдает сведения о товаре или сообщение о том, что товар не най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190-2B22-425D-AE0A-34B813AEBC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640" y="3141720"/>
            <a:ext cx="80582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(f, 'stock.txt'); reset(f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: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t Eof(f)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stock[i] do readln(f, name, price, number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(i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 &gt; Max_n then be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’Переполнение массива’);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221000"/>
            <a:ext cx="360360" cy="1800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74880 h 1800360"/>
              <a:gd name="textAreaBottom" fmla="*/ 17254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17080" y="573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1052640"/>
            <a:ext cx="660708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ck : array[1 .. Max_n] of goo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len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: str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 : 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E45-B693-480C-82AB-D1C7041C48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317080" cy="71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ile true do be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едит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менова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ln(name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 := length(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len = 0 then break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j := len + 1 to 20 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:= name + ' 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:=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or j := 1 to i - 1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name &lt;&gt; stock[j].name the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stock[j]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 (name:22, price:7:2, number:5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: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not found then writeln ('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ва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де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341360"/>
            <a:ext cx="374328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5013360"/>
            <a:ext cx="3743640" cy="0"/>
          </a:xfrm>
          <a:prstGeom prst="line">
            <a:avLst/>
          </a:prstGeom>
          <a:ln w="47520">
            <a:solidFill>
              <a:srgbClr val="9a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3357720"/>
            <a:ext cx="360360" cy="2016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4640"/>
            <a:ext cx="431640" cy="5616720"/>
          </a:xfrm>
          <a:custGeom>
            <a:avLst/>
            <a:gdLst>
              <a:gd name="textAreaLeft" fmla="*/ 126720 w 431640"/>
              <a:gd name="textAreaRight" fmla="*/ 432000 w 43164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727-87AE-45E6-AA25-F502F46172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Записи с вариантной частью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6128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contact = rec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 : string [40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 : string [15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 : integer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: (post: string [20]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: (date: string [10]; code: word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5157720"/>
            <a:ext cx="38163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5157720"/>
            <a:ext cx="143964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4360" y="5157720"/>
            <a:ext cx="3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84720" y="5157720"/>
            <a:ext cx="187200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0920" y="509580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65520" y="516744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84720" y="5300640"/>
            <a:ext cx="9352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300640"/>
            <a:ext cx="3603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1A3-984F-432F-A0C8-CAFD04EFFE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мер вариантной запис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gure = (rect, triangle, circle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pe = rec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y : re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se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kind : fig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(x2, y2, x3, y3 : real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l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diu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4BC-D685-4CCE-BFB1-22F0E44965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Множест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ип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set of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зовы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и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Caps = set of 'A'..'Z'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s = set of (RED, GREEN, BLUE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of by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t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et of 0..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FF2-EC37-483D-8C42-AF3DABA201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исание типа данных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6128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yp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_типа = описание_тип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_переменной : имя_тип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508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_переменной : описание_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454-A327-4830-AF93-51E77CAC9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онстанты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и переменные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'A', '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'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.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]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et of 1 .. 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 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1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3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1,2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1,3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2,3]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[1,2,3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C49-7BB7-4A56-BEB7-FF0DA31450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ерации с множествам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476360" y="1341360"/>
          <a:ext cx="5033880" cy="4845240"/>
        </p:xfrm>
        <a:graphic>
          <a:graphicData uri="http://schemas.openxmlformats.org/drawingml/2006/table">
            <a:tbl>
              <a:tblPr/>
              <a:tblGrid>
                <a:gridCol w="2171520"/>
                <a:gridCol w="2862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ва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ждеств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ждеств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адлеж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BDA-2F6A-4F22-9CD4-63EDAA5CF8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ример работы с множествами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844120" cy="71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Cap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o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..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, b, c : Cap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:= ['A', 'U' .. 'Z']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:= [ 'M' .. 'Z'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{ присваивание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{ объединение, результат [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,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..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]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{ пересечение, результат [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..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]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{ вычитание, результат [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 .. 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{ вычитание, результат [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']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then 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’тождественны’); { не выполнитс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&lt;&gt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then 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’не тождественны’); { выполнится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&lt;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hen 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ся в а’); { выполнитс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’N’ in b then writeln (’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’); {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т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7A8-2057-48DF-810A-5285479719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Фай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7990-1B6B-4788-9CE9-10FFA07EA5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360" y="-2520"/>
            <a:ext cx="2340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Файл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0560" y="3789000"/>
            <a:ext cx="7093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 описания файл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var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t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text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b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ile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fc : file of real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оненты могут быть любого типа, кроме файло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507600" y="1268280"/>
            <a:ext cx="1941120" cy="3988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стандар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1268280"/>
            <a:ext cx="4321440" cy="3988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определяемые программи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1160" y="2349360"/>
            <a:ext cx="1944000" cy="8254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ести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l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2880" y="2349360"/>
            <a:ext cx="1889280" cy="8254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ex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45440" y="2349360"/>
            <a:ext cx="2430000" cy="8254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омпоне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le 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319" idx="2"/>
            <a:endCxn id="322" idx="0"/>
          </p:cNvCxnSpPr>
          <p:nvPr/>
        </p:nvCxnSpPr>
        <p:spPr>
          <a:xfrm flipH="1">
            <a:off x="1307520" y="1674720"/>
            <a:ext cx="1702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19" idx="2"/>
            <a:endCxn id="321" idx="0"/>
          </p:cNvCxnSpPr>
          <p:nvPr/>
        </p:nvCxnSpPr>
        <p:spPr>
          <a:xfrm>
            <a:off x="1477800" y="1674720"/>
            <a:ext cx="238680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0" idx="2"/>
            <a:endCxn id="323" idx="0"/>
          </p:cNvCxnSpPr>
          <p:nvPr/>
        </p:nvCxnSpPr>
        <p:spPr>
          <a:xfrm>
            <a:off x="5795640" y="1674720"/>
            <a:ext cx="9658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7" idx="2"/>
            <a:endCxn id="319" idx="0"/>
          </p:cNvCxnSpPr>
          <p:nvPr/>
        </p:nvCxnSpPr>
        <p:spPr>
          <a:xfrm flipH="1">
            <a:off x="1477440" y="762120"/>
            <a:ext cx="19612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7" idx="2"/>
            <a:endCxn id="320" idx="0"/>
          </p:cNvCxnSpPr>
          <p:nvPr/>
        </p:nvCxnSpPr>
        <p:spPr>
          <a:xfrm>
            <a:off x="3438000" y="762120"/>
            <a:ext cx="235836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 flipV="1">
            <a:off x="4643280" y="537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D2E-F420-4F6B-801C-D07E432B34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4720" y="3281400"/>
            <a:ext cx="424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Доступ к файлам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Последовательны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Прямой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776160"/>
            <a:ext cx="3745080" cy="32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Текстовые файл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хранят данные в виде строк символов. При выводе данные преобразуются из внутренней формы представления в символьную, при вводе выполняется обратное пре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1376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Хранение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187280" y="4653000"/>
          <a:ext cx="7056720" cy="1911240"/>
        </p:xfrm>
        <a:graphic>
          <a:graphicData uri="http://schemas.openxmlformats.org/drawingml/2006/table">
            <a:tbl>
              <a:tblPr/>
              <a:tblGrid>
                <a:gridCol w="2303640"/>
                <a:gridCol w="1008000"/>
                <a:gridCol w="1584360"/>
                <a:gridCol w="216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тип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досту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4427640" y="692280"/>
            <a:ext cx="4535280" cy="25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buClr>
                <a:srgbClr val="9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Бестиповые и компонентные файл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хранят данные в том же виде, в котором они представлены в оперативной памяти, то есть при обмене с файлом происходит побитовое копир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71D-FD1F-4B10-8FE0-CFF316FB5D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-2520"/>
            <a:ext cx="870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рганизация ввода-вывода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2026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вить файловую переменную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ar f : tex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ть ее с физическим файло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ssign(f, ‘vasia.txt’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ь файл для чтения и/или запис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rewrite(f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ть операции ввода-вывод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writeln(f, ‘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Здесь был Вася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’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рыть фай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close(f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1E5-C6E5-4E3A-8303-A737E959D9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оцедуры и функци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боты со всеми типами файл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(var f; filename : str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(var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ase(var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ame(var f; newname : str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t(var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write(var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o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var f)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ool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esult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62B-EEE8-4B1D-A7BF-26B1CD64CA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Текстовые файл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835280" y="1219320"/>
            <a:ext cx="540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й файл - последовательность строк символов переменной дли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строка заканчивается символами перевода строки и возврата каретки (коды — 13 и 1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й файл можно открыть не только для чтения или записи, но и для добавления информации в конец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append(var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D12-0613-48B1-BC6B-EEDAD8E204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166320"/>
            <a:ext cx="86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одпрограммы для текстовых файлов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d(f, &lt;список&gt;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dln(f, [&lt;список&gt;]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rite(f,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[&lt;список&gt;]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sh(var f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textbu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 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x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 bu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fsiz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ekEof(var f : Text): boole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ekEoln(var f : text): boole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BD1-861E-4019-A5A6-9F34D6DCCD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Перечисляемый тип данных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я = (список имен констан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u = (READ, WRITE, EDIT, QU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082880" y="4148640"/>
            <a:ext cx="23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m, n : 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 := READ; n :=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0B3-4430-415A-B7AA-6A390CF25F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естиповые и компонентные фай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B3C3-5FF9-4C2A-A623-F93071178A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Бестиповые файлы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хранения участков оперативной памяти на внешних носителях. После описания файловой переме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ar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имя :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ile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е требуется связать с физическим файлом с помощью процедуры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бмен производится через буфер «порциями», равными размеру буфера. Размер буфера, отличающийся от стандартного (128 байт), можно задать 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t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writ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1 до 6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reset(var f : file; bufsize : wo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rewrite(var f : file; bufsize : wo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5300640"/>
            <a:ext cx="8280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ение и 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lockread(var f : file; var x; count : word; var num : 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lockwrite(var f : file; var x; count : word; var num : word);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5AB-4B01-4ABC-B035-BDB8C735363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133720"/>
            <a:ext cx="777240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reate_bfi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a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uf  : array[1 .. 4] of re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  <a:ea typeface="Courier New"/>
              </a:rPr>
              <a:t>f_in : text;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  <a:ea typeface="Courier New"/>
              </a:rPr>
              <a:t>f_out: fi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, k 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(f_in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_in’); reset(f_i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(f_out, ‘name_out’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(f_out, sizeof(real) * 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5520" y="754200"/>
            <a:ext cx="501336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создает бестиповой фай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итая четверки веществен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текстового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EF5-909B-4B53-A10E-26F39C83B70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0"/>
            <a:ext cx="7543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 :=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not eof(f_in) do beg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(i); read(f_in, buf[i])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= 4 then 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  <a:ea typeface="Courier New"/>
              </a:rPr>
              <a:t>blockwrite(f_out, buf, 1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 := 0; 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3573360"/>
            <a:ext cx="78483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 &lt;&gt; 0 then 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k := i + 1 to 4 do buf[k] :=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write(f_out, buf, 1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_in); close(f_out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F6D-2F30-4387-B70E-6E67A8686E6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Компонентные файл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5640" y="692280"/>
            <a:ext cx="82677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яются для хранения однотипных элементов в их внутренней форме представления. Тип компонент задается после ключевых сло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o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ar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имя :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ile of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тип_компонен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оненты могут быть любого типа, кроме файло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ерациях ввода-вывода могут участвовать только величины того же типа, что и компоненты фай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826920" y="3397320"/>
            <a:ext cx="799308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mas = array [1 .. 100] of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, b : m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 : file of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m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(f, ’some_file.dat’); rewrit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(f, 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C73-F843-43C8-94C9-CDD0D37BB37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ямой доступ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692280"/>
            <a:ext cx="82612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следовательном доступе чтение/запись очередного элемента файла возможно только после аналогичной операции с предыдущим элемент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стиповые и компонентные файлы состоят из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блоко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ого размера. В бестиповом файле размер блока равен длине буфера, а в компонентном — длине компоненты. Это позволяет применить к таким файлам прямой доступ, при котором операции выполняются с заданным блок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помощью стандартной процедуры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ee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ся установка текущей позиции в файле на начало заданного блока, и следующая операция чтения/записи выполняется, начиная с этой позиции. Первый блок файла имеет номер 0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F77-57AE-4DB2-B350-056D2BFC8AE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2924280"/>
            <a:ext cx="7543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Get_bf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uf : array[1 .. 4] of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: file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, k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(f, ‘fil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(f, sizeof(real) * 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1160" y="969840"/>
            <a:ext cx="5967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считывает из бестипового фай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ормированного в предыдущем приме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мую запис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6B0-1A00-4341-A245-0F41261FEE8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0"/>
            <a:ext cx="8305920" cy="65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 do be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'Введите номер или -1 для окончания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k &gt; filesize(f))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(k &lt; 0) then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‘такой записи нет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 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ek(f, 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read(f, buf,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 1 to 4 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rite(buf[i]:6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189000"/>
            <a:ext cx="502920" cy="4752720"/>
          </a:xfrm>
          <a:custGeom>
            <a:avLst/>
            <a:gdLst>
              <a:gd name="textAreaLeft" fmla="*/ 147600 w 502920"/>
              <a:gd name="textAreaRight" fmla="*/ 503280 w 502920"/>
              <a:gd name="textAreaTop" fmla="*/ 198000 h 4752720"/>
              <a:gd name="textAreaBottom" fmla="*/ 455472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260280"/>
            <a:ext cx="649440" cy="4680000"/>
          </a:xfrm>
          <a:custGeom>
            <a:avLst/>
            <a:gdLst>
              <a:gd name="textAreaLeft" fmla="*/ 0 w 649440"/>
              <a:gd name="textAreaRight" fmla="*/ 455760 w 649440"/>
              <a:gd name="textAreaTop" fmla="*/ 194760 h 4680000"/>
              <a:gd name="textAreaBottom" fmla="*/ 448524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B65-FA15-49F7-BCFC-C4BA4873792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064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Интервальный тип данных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ype имя = конст_1 .. конст_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Hou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0 .. 2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ge = -100 .. 10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ters = ’a’ .. ’z’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.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I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 r : -100 .. 10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C71-1285-4080-807D-FAE1D6C7F5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ассив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2A0-89A5-4FD1-9D37-A35336D8A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писание массив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4837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type имя_типа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[тип_индекса]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тип_эле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31624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y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[1 .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] of real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= array [byte] of m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array [Menu] of boole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, b : array [1 .. n] of integer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45600" y="5445000"/>
            <a:ext cx="56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 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(0,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-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100, 15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BE4-7692-4039-8C00-80C0074E8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83390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 Max_Elem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с. элемент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 n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 : array [1 .. n] of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: integ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Введите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' элементов массива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1 to n do read(a[i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 := a[1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2 to n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[i] &gt; max then max := a[i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'Максимальный элемент: '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6: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1E3-8CE8-481B-BBFC-AC168ED27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7:18:11Z</dcterms:created>
  <dc:creator>Mux</dc:creator>
  <dc:description/>
  <dc:language>en-US</dc:language>
  <cp:lastModifiedBy>мух</cp:lastModifiedBy>
  <dcterms:modified xsi:type="dcterms:W3CDTF">2010-08-12T15:11:08Z</dcterms:modified>
  <cp:revision>63</cp:revision>
  <dc:subject/>
  <dc:title>Типы данных, определяемые программистом</dc:title>
</cp:coreProperties>
</file>