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4730-CFE9-4660-B9F3-FED5FB630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34D-B9EB-43C9-90E0-1F610967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461-C8A6-4EC3-8790-E7066B3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410-AD08-4E17-AFE4-3022F89D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BDD-F1F8-4819-B63E-CDC37224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078-28C0-4C9A-9D8C-FEF1C8B1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5EC8-B08B-480A-A9CF-F5004E6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1C24-23F1-4C4F-89E4-5E8D08B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908-9CD8-428F-AA25-45F82D41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98DE-A4BB-444D-9BB2-D3EDA77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DB9-5BC2-448D-ACD5-78F73E4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504-FA2E-408B-97DE-3A3898E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C4D-16D7-4AEC-9867-2DC21FC6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716-856D-485B-8717-5395CE8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B06-22AF-4E57-828F-43559EF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3A5-F2B4-424E-B37F-674061E9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5333-7FEE-47DC-B3A6-292811F9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53F-5860-4DDA-9BA0-99A1B249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33B-0793-440C-BFBC-B064266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4E3-4DD7-4741-84B1-2EA80C1F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A13-DA69-4C63-8A8C-045D0DD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A08-B210-4652-9244-AA75B34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995-5792-4209-B39F-3B46168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E77-3EF6-4508-BF4E-4F6123F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37C-38A4-480A-ACB3-C07A2E63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638400"/>
            <a:ext cx="5256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082E-EDB3-4F1E-8277-A20DBA11FA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1295280"/>
            <a:ext cx="4892760" cy="763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13932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605280"/>
            <a:ext cx="6019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3DBB-73B6-4C9F-97F0-74AEC4FB97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26080"/>
            <a:ext cx="8794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Курс «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аскаль. Программирование на языке высокого уровня»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3789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авловская Т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авловская Т.А. Паскаль. Программирование на языке высокого уровня. Учебник. 2-е изд. — СПб.: ПИТЕР, 2010. — 464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D56F-40CF-444B-9E98-3C29C77CE3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826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утреннее представление данных, а следовательно и множество их возможны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пустимые действия над данными (операции и функци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81000" y="159336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ип данных опреде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Концепция типа данных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DC3-C544-44F0-8C6D-BADCF247AC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7200"/>
            <a:ext cx="816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Классификация типов Паскаля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341360"/>
          <a:ext cx="8272440" cy="3888000"/>
        </p:xfrm>
        <a:graphic>
          <a:graphicData uri="http://schemas.openxmlformats.org/drawingml/2006/table">
            <a:tbl>
              <a:tblPr/>
              <a:tblGrid>
                <a:gridCol w="2087640"/>
                <a:gridCol w="2253960"/>
                <a:gridCol w="1735200"/>
                <a:gridCol w="2195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ндар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ые программи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логические целы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щественные</a:t>
                      </a:r>
                      <a:br>
                        <a:rPr sz="2000"/>
                      </a:b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имвольный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ковый адресный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с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ечисляем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интерв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ре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нож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дурные ти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70080" y="37882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06D-90B3-49BB-8CDF-D394FC71F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9458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Структура программы в оперативной памяти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8240" y="1281600"/>
            <a:ext cx="3706920" cy="4942080"/>
            <a:chOff x="2208240" y="1281600"/>
            <a:chExt cx="3706920" cy="4942080"/>
          </a:xfrm>
        </p:grpSpPr>
        <p:sp>
          <p:nvSpPr>
            <p:cNvPr id="121" name=""/>
            <p:cNvSpPr/>
            <p:nvPr/>
          </p:nvSpPr>
          <p:spPr>
            <a:xfrm>
              <a:off x="2208240" y="3135240"/>
              <a:ext cx="3706920" cy="61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мент ст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8240" y="3754080"/>
              <a:ext cx="3706920" cy="12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мент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8240" y="4988880"/>
              <a:ext cx="3706920" cy="12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мент к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8240" y="1281600"/>
              <a:ext cx="3706920" cy="18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39B-8C43-4717-B82B-987705059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тандартные типы данных Паска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334D-2D2B-44A0-8404-9F71B3BB1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Логически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Основной логический тип данных -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boolean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еличины этого типа занимают в памяти 1 байт и могут принимать два значения: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истина) или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ложь). Внутреннее представление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0 (нуль), знач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совместимости с другими языками определены типы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yteBoo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Boo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Boo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линой 1, 2 и 4 байта соответственно. Истинным в них считается любое отличное от нуля знач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величинам логического типа применяются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ог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8FA-9A94-4571-836D-180DE8EA7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Логические операции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1197000"/>
          <a:ext cx="1990440" cy="4876560"/>
        </p:xfrm>
        <a:graphic>
          <a:graphicData uri="http://schemas.openxmlformats.org/drawingml/2006/table">
            <a:tbl>
              <a:tblPr/>
              <a:tblGrid>
                <a:gridCol w="955440"/>
                <a:gridCol w="103500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771640" y="1197000"/>
          <a:ext cx="1527480" cy="4876920"/>
        </p:xfrm>
        <a:graphic>
          <a:graphicData uri="http://schemas.openxmlformats.org/drawingml/2006/table">
            <a:tbl>
              <a:tblPr/>
              <a:tblGrid>
                <a:gridCol w="152748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84720" y="1197000"/>
          <a:ext cx="1579680" cy="4876920"/>
        </p:xfrm>
        <a:graphic>
          <a:graphicData uri="http://schemas.openxmlformats.org/drawingml/2006/table">
            <a:tbl>
              <a:tblPr/>
              <a:tblGrid>
                <a:gridCol w="157968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867280" y="1197000"/>
          <a:ext cx="1582920" cy="4876920"/>
        </p:xfrm>
        <a:graphic>
          <a:graphicData uri="http://schemas.openxmlformats.org/drawingml/2006/table">
            <a:tbl>
              <a:tblPr/>
              <a:tblGrid>
                <a:gridCol w="158292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x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451640" y="1197000"/>
          <a:ext cx="1224000" cy="487692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5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D81-6F73-49F6-A733-E44A62E5AB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Операции отношени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219320"/>
          <a:ext cx="6618240" cy="4876560"/>
        </p:xfrm>
        <a:graphic>
          <a:graphicData uri="http://schemas.openxmlformats.org/drawingml/2006/table">
            <a:tbl>
              <a:tblPr/>
              <a:tblGrid>
                <a:gridCol w="3089160"/>
                <a:gridCol w="352908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или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ьше или рав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BF3-F766-45B3-9B53-4BE035A64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Целы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1268280"/>
          <a:ext cx="8261280" cy="4876920"/>
        </p:xfrm>
        <a:graphic>
          <a:graphicData uri="http://schemas.openxmlformats.org/drawingml/2006/table">
            <a:tbl>
              <a:tblPr/>
              <a:tblGrid>
                <a:gridCol w="1822320"/>
                <a:gridCol w="1166760"/>
                <a:gridCol w="787680"/>
                <a:gridCol w="448452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знач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й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768 .. 32767  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rt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8 .. 127   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.. 255   (0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.. 65535   (0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47483648 .. 2147483647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58E-E2FF-40B5-93E3-70BE1993F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перации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с целыми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00000" y="1773360"/>
          <a:ext cx="7201080" cy="3289320"/>
        </p:xfrm>
        <a:graphic>
          <a:graphicData uri="http://schemas.openxmlformats.org/drawingml/2006/table">
            <a:tbl>
              <a:tblPr/>
              <a:tblGrid>
                <a:gridCol w="3894120"/>
                <a:gridCol w="3306960"/>
              </a:tblGrid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ок от д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900000" y="5300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азрядные операции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, xo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сдвига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0280" y="117648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ифметически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599-D78B-46B5-91D4-DC2A99E197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тандартные функции для целы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211480" y="57837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197000"/>
          <a:ext cx="8208720" cy="5471640"/>
        </p:xfrm>
        <a:graphic>
          <a:graphicData uri="http://schemas.openxmlformats.org/drawingml/2006/table">
            <a:tbl>
              <a:tblPr/>
              <a:tblGrid>
                <a:gridCol w="889920"/>
                <a:gridCol w="2500920"/>
                <a:gridCol w="1634040"/>
                <a:gridCol w="318384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ангенс уг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tg 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t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инус уг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 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й логариф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на че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аст в результат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е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(3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ст в результат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ус уг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ный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ыва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ующе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(3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ст в результате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211480" y="5007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8B7-050A-4CD5-BBC6-1593F0F29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03680"/>
            <a:ext cx="7678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Лекция 1. Основные понятия языка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 этой лекции описано то, что необходимо для создания простейших программ: элементарные строительные блоки языка, стандартные типы данных, структура программы, переменные, операции, выражения и процедуры ввода-вывод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0FC-18F0-483D-B541-6C986BA30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тандартные процедуры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55640" y="1197000"/>
          <a:ext cx="7488360" cy="3578040"/>
        </p:xfrm>
        <a:graphic>
          <a:graphicData uri="http://schemas.openxmlformats.org/drawingml/2006/table">
            <a:tbl>
              <a:tblPr/>
              <a:tblGrid>
                <a:gridCol w="897120"/>
                <a:gridCol w="2517480"/>
                <a:gridCol w="4073760"/>
              </a:tblGrid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кр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величить х н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3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величить х на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рем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меньшить х н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3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уменьшить х на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26A-441A-45BB-B2F8-EC73F8B6DC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Вещественны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ее представление вещественного числа состоит из двух частей —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мантисс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поряд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и каждая часть имеет зна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несколько вещественных типов, различающихся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точность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диапазо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ставления данны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числа определяется длиной мантиссы, а диапазон — длиной поряд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867-51AF-4CC9-93ED-E41422FEFF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864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Характеристика вещественных типов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981000"/>
          <a:ext cx="8280360" cy="5472360"/>
        </p:xfrm>
        <a:graphic>
          <a:graphicData uri="http://schemas.openxmlformats.org/drawingml/2006/table">
            <a:tbl>
              <a:tblPr/>
              <a:tblGrid>
                <a:gridCol w="1827360"/>
                <a:gridCol w="1168200"/>
                <a:gridCol w="789120"/>
                <a:gridCol w="4495680"/>
              </a:tblGrid>
              <a:tr h="19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ащих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знач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й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e-39 .. 1.7e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e-45 .. 3.4e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e-324 .. 1.7e+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e-4932 .. 1.1e+4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.22e18 .. 9.22e18 (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08F-AB57-4601-99C2-44A181F6DD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6640" y="258840"/>
            <a:ext cx="8847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Операции с вещественными величинами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ифмет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+     -     *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E40-1F19-489D-91D2-4B00F3CEED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1864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Функции для вещественных величин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1052640"/>
          <a:ext cx="8064720" cy="5376600"/>
        </p:xfrm>
        <a:graphic>
          <a:graphicData uri="http://schemas.openxmlformats.org/drawingml/2006/table">
            <a:tbl>
              <a:tblPr/>
              <a:tblGrid>
                <a:gridCol w="2055960"/>
                <a:gridCol w="2033640"/>
                <a:gridCol w="1325520"/>
                <a:gridCol w="2649600"/>
              </a:tblGrid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й логариф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ангенс у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числа 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инус у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ение до це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ус у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ная часть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ая часть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ный 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ая часть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138400" y="4353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343-66D2-429B-A9A8-CF6567BA27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Символьный тип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тип данных, обозначаемый ключевым словом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служит для представления любого символа из набора допустимых символов. Под каждый символ отводится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1 бай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символам можно применять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&lt;, &lt;=, &gt;,&gt;=, =, &lt;&gt;), при этом сравниваются коды симво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715-8AC9-427A-89F1-F3EFFC1B99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5848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Функции для символьных величин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1268280"/>
          <a:ext cx="7632720" cy="5038920"/>
        </p:xfrm>
        <a:graphic>
          <a:graphicData uri="http://schemas.openxmlformats.org/drawingml/2006/table">
            <a:tbl>
              <a:tblPr/>
              <a:tblGrid>
                <a:gridCol w="1487520"/>
                <a:gridCol w="3660840"/>
                <a:gridCol w="24843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симв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ие в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ыдущий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ующий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 в верхний регис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065400" y="40471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04C-C681-4AAB-8DEA-F0D287D136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Порядковые тип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8202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возможные значения порядкового типа представляют собой ограниченное упорядоченное множе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любому порядковому типу могут быть применены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звращает порядковый номер конкретного значения в данном тип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звращают предыдущее и последующее значения соответственно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возвращают наименьшее и наибольшее значения величин данного тип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К порядковым относятся: логические, целые, символьный, перечисляемый, интерваль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3A7-0AC6-48B7-9265-1CC564FC99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11280" y="292392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инейные програм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95280" y="65232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55C4-892D-491E-AE18-5C8BB8813B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еременные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555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менна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это величина, которая во время работы программы может изменять свое знач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переменные, используемые в программе, должны быть опис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ой переменной задается ее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имя и тип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teger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al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 переменной выбирается исходя из диапазона и требуемой точности представления дан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аскале переменные описываются в разделе описания переменных, начинающемся со служебного слов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2997360"/>
            <a:ext cx="0" cy="93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E59-1A48-4CB4-B6D1-D5989CA0C5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7640" y="-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Состав язы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680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мвол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квы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-Z, a-z, 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фры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. символы: +, *, {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ельные символ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673280" y="2708280"/>
            <a:ext cx="7291440" cy="1921680"/>
          </a:xfrm>
          <a:prstGeom prst="rect">
            <a:avLst/>
          </a:prstGeom>
          <a:solidFill>
            <a:srgbClr val="c0c0c0">
              <a:alpha val="61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кс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тант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      0.11    ‘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с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ia     a     _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ючевые сло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    var     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и операц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        -      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ител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  [ ]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24280"/>
            <a:ext cx="74707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ло вычисления знач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няем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:= a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, b 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C41-DB9A-4C06-9DDD-132B70B79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9520"/>
            <a:ext cx="8989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Инициализация переменных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6128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бъявлении можно присвоить переменной некоторое начальное значение (инициализировать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ициализированные переменные в Паскале описываются после ключевого слова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ger = 10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al = 0.0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ar = 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’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6F5-CE21-41A5-808F-3E147230B6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Именованные константы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1218960"/>
            <a:ext cx="862812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место значений констант мож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и нужно!) использовать в программе их имен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облегчает читабельность программы и внесение в нее изменен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 61.5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= 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 = 9.8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E3E-E0D3-4ABA-B8D9-6F2D9BAA32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Выраже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40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— правило вычисления знач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выражении участвуют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операнд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объединенные знаками опера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ерандами выражения могут быть константы, переменные и вызовы фун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ерации выполняются в соответствии с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приоритета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ля изменения порядка выполнения операций используются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круглые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скоб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зультатом выражения всегда является значение определенного типа, который определяется типами операн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личины, участвующие в выражении, должны быть 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совместимых тип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836640"/>
            <a:ext cx="3089520" cy="5165640"/>
          </a:xfrm>
          <a:prstGeom prst="rect">
            <a:avLst/>
          </a:prstGeom>
          <a:noFill/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in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)/2 *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результат имеет веществен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&lt;=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результат имеет логически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&gt; 0)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&lt; 0)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результат имеет логически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769-E637-44E1-8375-38755D92C1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иоритеты операций Паскал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вичные - ()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нар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no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инус -, взятие адреса @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типа умноже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типа сложе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o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buClr>
                <a:srgbClr val="9a0000"/>
              </a:buClr>
              <a:buSzPct val="7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и отноше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&gt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&gt;=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E6A-3207-4D04-B13D-520390AD81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Контрольный вопрос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но значение выражений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+  1e1 / 2  *  5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1 + 1 div 2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946-799C-42C3-B344-217EE78165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труктура програм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0A9F-DD4F-4669-B367-7E6319F0A1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90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Структура простейшей программы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а Паскале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&lt;имя&gt;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{ заголовок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разделы описаний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&lt;раздел операторов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*    программа заканчивается точкой    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56C-D900-4C9E-9CF2-63BEF7D622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Разделы описаний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модул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cr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констан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Le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100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9.8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eff 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er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переменн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ger;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, 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al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Verdana"/>
              </a:rPr>
              <a:t>Раздел описания меток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, 2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делы описания 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типов, процедур и функ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удут рассмотрены позж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56B-8DFC-488F-A000-232AD29CDC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4768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Общая структура программы на Паскале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1052640"/>
            <a:ext cx="5834160" cy="547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28640" y="826920"/>
            <a:ext cx="11988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1197000"/>
            <a:ext cx="352908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Глобальны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1989000"/>
            <a:ext cx="518472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49160" y="1773360"/>
            <a:ext cx="23007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645000"/>
            <a:ext cx="5111640" cy="129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0" y="3429000"/>
            <a:ext cx="23036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407664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2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84040" y="3860640"/>
            <a:ext cx="22989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33843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Локальны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03520" y="5084640"/>
            <a:ext cx="8604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43200" y="6308640"/>
            <a:ext cx="637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58800" y="2421000"/>
            <a:ext cx="8604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0" y="3068640"/>
            <a:ext cx="637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2781360"/>
            <a:ext cx="460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6021360"/>
            <a:ext cx="460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5589720"/>
            <a:ext cx="47516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Вызов А ... Вызов А ... Вызов В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27F-E9C2-405C-B9B9-43D605B87A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20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сваивание – это замена старого значения переменной на ново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ое значение стирается бесслед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менная := выра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+ 0.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личины в левой и правой части должны быть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вместимы по присваивани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апример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вещественная переменная := целое выраж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Оператор присваиван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286080"/>
            <a:ext cx="718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2205000"/>
            <a:ext cx="2087280" cy="108108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3286080"/>
            <a:ext cx="15825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648200">
            <a:off x="6155640" y="3862080"/>
            <a:ext cx="2087640" cy="108108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3286080"/>
            <a:ext cx="8636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FDE-92BD-43C4-B04F-20D2503135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Константы Паскаля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268280"/>
          <a:ext cx="8261280" cy="4079880"/>
        </p:xfrm>
        <a:graphic>
          <a:graphicData uri="http://schemas.openxmlformats.org/drawingml/2006/table">
            <a:tbl>
              <a:tblPr/>
              <a:tblGrid>
                <a:gridCol w="1071720"/>
                <a:gridCol w="1298520"/>
                <a:gridCol w="1560240"/>
                <a:gridCol w="1386000"/>
                <a:gridCol w="1559160"/>
                <a:gridCol w="1385640"/>
              </a:tblGrid>
              <a:tr h="797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Цел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Вещ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Символь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Строко</a:t>
                      </a: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_FuturaRound"/>
                          <a:ea typeface="Times New Roman"/>
                        </a:rPr>
                        <a:t>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7400">
                <a:tc>
                  <a:txBody>
                    <a:bodyPr lIns="0" rIns="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Дес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т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р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С плава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 точ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_FuturaRound"/>
                          <a:ea typeface="Times New Roman"/>
                        </a:rPr>
                        <a:t>С поряд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FF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E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’      #186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^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ырвалг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’’m fine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771640" y="5661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Булевск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5C3-34D2-4FBC-AF3D-1848C72314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вод-вывод в Паскал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32F2-8110-4F8E-B603-B197DD6946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58680"/>
            <a:ext cx="870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Ввод с консоли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82720" y="836640"/>
            <a:ext cx="765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ead(список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eadln[(список)]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од значения каждой переменной выполняется та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е переменной выделяется как группа символов, расположенных между разделител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 символы преобразуются во внутреннюю форму представления, соответствующую типу переменно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е записывается в ячейку памяти, определяемую именем перемен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5300640"/>
            <a:ext cx="4392360" cy="1233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integer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ln(a,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333360"/>
            <a:ext cx="3600360" cy="1410120"/>
          </a:xfrm>
          <a:prstGeom prst="rect">
            <a:avLst/>
          </a:prstGeom>
          <a:solidFill>
            <a:srgbClr val="c0c0c0">
              <a:alpha val="54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я при вводе разделяются пробелами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40F-967B-437B-9E74-9B479C0FC6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19520"/>
            <a:ext cx="9134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Вывод на консоль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список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ln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[(список)]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intege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: re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ln(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= ’, a:3, ’ b = ’, b:5:2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(a) + b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5516640"/>
            <a:ext cx="8640720" cy="45972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=   1 b =  4.12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4.9614709848E+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55F-8463-4012-AC9F-8D4C37D4AE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авила записи процедур вывода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699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писок вывода разделяется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запяты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писок содержит выражения логических, целых, вещественных, символьного и строкового тип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сле любого значения можно через двоеточие указать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количество отводимых под него позиц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ля вещественных чисел можно указать второй формат, указывающий, сколько позиций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из общего колич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озиций отводится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под дробную час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чис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сли форматы не указаны, под целое число, символ и строку отводится минимально необходимое для их представления количество позиций. Под вещественное число отводится 17 позиций, 10 из них — под дробную ча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орматы могут быть выражениями целого тип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593-B932-471A-B34C-E1226D95D3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24156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Пример: перевод температуры из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 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в С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temperatu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fahr, cels : real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Введите температуру по Фаренгейту'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h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5 / 9 *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h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32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По Фаренгейту: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h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6:2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 в градусах Цельсия: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6: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98A-8235-432E-841A-BFE5713C1F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ест №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ля само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Паскаль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0BF3-4BD6-408D-A529-0D07FCDA52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переменной типа byte можно хранить числ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 -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  1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исло 256 можно хранить в переменной т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 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 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  short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long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8D9-635B-4691-8740-05D21DDB87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Выберите все допустимые конста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'\\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$0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-7.1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 'Ж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  1,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Какие выражения не содержат синтаксических ошибо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-0.18 * Pi / r - 0.2 *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(-0.18) * Pi / 1(r - 0.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 cos^2 * x + 0,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(-0.18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0.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7FE-53CB-4C18-A226-61D58AFA44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Чему равно значение выражени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 * 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/ 2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4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3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Чему равно значение выраж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and not b xor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= true, b = true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= fal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fals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нечто средн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91D-D97F-453D-AAD1-35A03FCA84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) Какие выражения не содержат синтаксических ошибо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 sin(abs(0.6e3 * y_t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 a div b / c * m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$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3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_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 1_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xp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) Чему равно значение переменной А после выполнения фрагмента программы, если В=5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:= 2; if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&gt;= 4 then C := 1 el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B &gt; 2 then C := 0; A := C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95B-A25B-4B16-8B09-0A1B93DC3F7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Имена (идентификаторы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791352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я должно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начинаться с буквы или _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я должно содержать только буквы, знак подчеркивания и циф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писные и строчные буквы не различаются в Паскале и различаются в др. языка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ина имени практически не огранич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12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43700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меры правильных име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Vasia, A, A13, A_and_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меры неправильных име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late, Big gi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ля С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ь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A1B-817E-42C7-B186-0C2EB1E86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тветы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ест №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ля само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0C71-2537-44F5-B170-BAC1EBA83B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переменной типа byte можно хранить числ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 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3  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4  -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5  12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Выберите все правильные отве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исло 256 можно хранить в переменной т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Verdana"/>
              </a:rPr>
              <a:t>1 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 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Verdana"/>
              </a:rPr>
              <a:t>3  short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long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FBD-AD39-4A18-9C85-7C336B0E56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Выберите все допустимые конста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'\\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2  $00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F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 -7.1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4  'Ж'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5  1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Какие выражения не содержат синтаксических ошибо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-0.18 * Pi / r - 0.2 *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2 (-0.18) * Pi / 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1(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r - 0.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3 cos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^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2 * x + 0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4 (-0.18)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Pi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\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r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0.2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 t</a:t>
            </a: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EBB-D168-4625-AC51-7D4677503DF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Чему равно значение выражени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+ ((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 * 10) / 2)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4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3 ?       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Чему равно значение выраж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and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xor c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= true, b = true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= fal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 fals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Verdana"/>
              </a:rPr>
              <a:t>2 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Verdana"/>
              </a:rPr>
              <a:t>3  нечто средн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87640" y="28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718-F85C-4DC6-965E-E9E37EF9D64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) Какие выражения не содержат синтаксических ошибок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sin(abs(0.6e3 * y_t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2  a div b / c * 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 $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34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_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4  </a:t>
            </a:r>
            <a:r>
              <a:rPr b="1" lang="ru-RU" sz="1800" spc="-1" strike="noStrike">
                <a:solidFill>
                  <a:srgbClr val="9a0000"/>
                </a:solidFill>
                <a:latin typeface="Verdana"/>
              </a:rPr>
              <a:t>1_2</a:t>
            </a: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i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exp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y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b2b2b2"/>
                </a:solidFill>
                <a:latin typeface="Verdana"/>
              </a:rPr>
              <a:t>*</a:t>
            </a: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) Чему равно значение переменной А после выполнения фрагмента программы, если В=5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A := 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if </a:t>
            </a:r>
            <a:r>
              <a:rPr b="1" lang="ru-RU" sz="2000" spc="-1" strike="noStrike">
                <a:solidFill>
                  <a:srgbClr val="336699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 &gt;= 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n C :=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 if B &gt;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C := 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A := C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D73-6F26-4374-AA59-47C1D04A51E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Итог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-8 баллов – «отличн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баллов – «хорош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-5 баллов – «удовлетворительн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E0C-9FCA-4B9D-BABC-4487AF41180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Нотации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765000"/>
            <a:ext cx="8772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нятные и согласованные между собой имена — основа хорошего стиля. Существует несколько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отац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соглашений о правилах создания име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отация Паскал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каждое слово начинается с прописной букв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MaxLength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FuzzyShooshpanch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нгерская нотац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личается от предыдущей наличием префикса, соответствующего типу величин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iMaxLength, lpf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FuzzyShooshpanch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Camel notation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 прописной буквы начинается каждое слово, составляющее идентификатор, кроме первог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maxLength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FuzzyShooshpanch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88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ще одна традиция — разделять слова, составляющие имя, знаками подчеркивания, при этом все составные части начинаются со строчной букв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85840">
              <a:lnSpc>
                <a:spcPct val="115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max_length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zzy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oshpanchi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87A-CF9E-4FF2-A37B-B454A7D434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1134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Ключевые слова и знаки операций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Ключевые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идентификаторы, имеющие специальное значение для компилятора. Их можно использовать только в том смысле, в котором они определе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для оператора перехода определено слово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goto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Знак опе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один или более символов, определяющих действие над операндами. Внутри знака операции пробелы не допускают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целочисленное деление в Паскале записывается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di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деля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нар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с одним операндом) и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инар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с двум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ть также одна тернарная опер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440320"/>
            <a:ext cx="8893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Разделител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спользуются для разделения или, наоборот, группирования элементов. Примеры разделителей: скобки, точка, запя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AE3-2CC5-4938-AE81-899ECC620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Ключевые слова Паскал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7848720" cy="5543640"/>
          </a:xfrm>
          <a:prstGeom prst="rect">
            <a:avLst/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and array asm begin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cas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constructor destructor div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do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downto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end exports file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function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goto if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implementation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in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inherited inline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interfac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label library mod nil not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objec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of or packed procedure program record repeat set shl shr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then to type unit until uses var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while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 with x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89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892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absolute assembler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export external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far forward index interrup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name near 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89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public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resident</a:t>
            </a: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Lucida Console"/>
              </a:rPr>
              <a:t>virtual</a:t>
            </a:r>
            <a:r>
              <a:rPr b="1" lang="ru-RU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4F6-A338-472D-A3A6-6A5272C59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11280" y="299736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ипы да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5280" y="65232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CEDB-66DC-4704-8B43-9AECA6E2A7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1:53:58Z</dcterms:created>
  <dc:creator>Mux</dc:creator>
  <dc:description/>
  <dc:language>en-US</dc:language>
  <cp:lastModifiedBy>мух</cp:lastModifiedBy>
  <dcterms:modified xsi:type="dcterms:W3CDTF">2010-08-12T15:04:20Z</dcterms:modified>
  <cp:revision>97</cp:revision>
  <dc:subject/>
  <dc:title>Основные понятия языка</dc:title>
</cp:coreProperties>
</file>