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CEF-847F-468C-AD9E-F27C1EAAB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C21-1990-4F1A-B603-81E35A5E0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94B-18EC-45F1-91EE-284A5C1B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C64-3B39-4A90-B285-CEC39B7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0BC-F84C-4367-8BDB-839705F8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203-EE6A-402B-B05D-DF941D50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D95B-0D5F-4000-8072-046D1FBC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D8B8-AA01-46BE-8043-2FB0D78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AF8A-CFA2-451A-8134-CFB73ED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7E7-F219-48DD-8863-FEF96A3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EA3B-A790-4523-BEC5-A1387731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E53D-985F-4B53-935A-8ABECB9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5739-A976-4BD8-9538-A26E682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A5F-F389-484C-A81A-441FC13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0E2-276A-48A6-A21B-6988C37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AA09-6718-48B2-AA60-7EFEF6E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3DD9-269F-4ECE-A310-4276B398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CB7-B931-4582-8E49-488709F4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4DF-BFD3-4EBE-B753-2D16080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C920-DB3D-417E-A248-D286CBB0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74DC-8F5F-43F9-9780-57014403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AC65-0533-4470-8A13-80930D52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D602-9A46-4522-A746-D2D9199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9E69-92BA-49A4-B8DD-49A7915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824-881D-494C-8F42-6E8815F3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B3E6-C3A5-4A1A-9D5A-7B5D324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45A9-66BC-47CC-AA1E-935D731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61A0-81AF-4501-A596-C9C3102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4CD4-4C3B-46CC-8E6C-9873B44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79A7-6F16-4C06-B956-F5F3DE78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C20F-C346-42CF-8F14-7E1E7A78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28B9-B035-448F-B7FB-D37A9540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33DC-98B0-4A1A-BFB3-987A5821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EAD1-ABCA-4619-911A-2F2BCBF3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06CE-A403-4A4A-984C-0DB9E0C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853-509B-4070-A515-375DFAB5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2AA1-65DD-4C9A-A36F-1123890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D74D-47D4-4E54-9D67-644CD06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A434-675F-4040-B560-131EFDD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2ACD-26AB-4443-8432-D00A640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A464-EE09-4729-B236-C255A89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E775-014F-4F25-9559-C15E3C9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F69C-2460-4769-A96D-5FE01852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C542-837F-4B12-A874-092B90F2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540D-11DB-4510-B764-2FDE5B0C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557D-438B-4469-851F-0232DB1E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161-5CB9-4F32-B57E-322A28B3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AC2C7-D53D-4333-B629-8054D2C9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507A-71FE-48D8-B0EA-5B78220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E688-1B9C-4054-BFBA-9CC69060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02BA-C701-4422-B623-464015C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02B4-E701-422E-9739-A5D5CAF9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B952-6CDD-46C5-A7CF-777BE9C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1281E-99D6-42C9-A7EE-DE23207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0C96-A2CA-4D98-A719-85DA4E4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E8D7-BAD4-4DBD-A807-31F4BB7F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3433-E757-41A6-97DA-5C81334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79D-8365-40F0-AF5F-F94519B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5A82-004D-4F19-97A8-8934808B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6C64-AAE3-43B4-9FFB-02B98CE3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1410-D78A-4A54-9B43-1CC3750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0C71-3286-4D90-8AA6-F9C245B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4F24-E41C-476C-9AA4-084770D3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AFAE-DFC2-411A-8965-0C5E2157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9672-8959-470C-9AAF-8E50E6B9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542B7-9DBD-4D11-87E1-599AF6E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BA46-E3CA-43CC-A331-88D3ACA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1DAD-D537-42CF-90F6-621B435B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4B7-8B49-4F38-B8AB-6449DD8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B502-672D-470A-BFCF-9C23B39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A841-1AE3-499B-80F9-A07F403E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AACD-C7C6-44A0-B019-4CA091BD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FF7-C6BC-4D3C-B5BB-57792FD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D29-B885-4987-8FF9-7E4326D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3B0-7D17-4483-B81C-F80972C718E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5AA-25D2-49DC-AC86-65DBE25FA79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107-1C63-4BF4-BD57-F64B47AB437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24D-7564-41A5-A3A4-943EFA5A7B3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3B9-A0CD-498D-B533-A89025738A2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DB0C-87F8-4E05-AB89-D718402EEF2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68360" y="465300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7. Программирование с использование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P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ь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250920" y="549360"/>
            <a:ext cx="855648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структоры производных тип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struc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является наиболее общим конструктором типа в MPI - программист может использовать полное описание каждого элемента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сли пересылаемые данные содержат подмножество элементов массива, такая детальная информация не нуж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у всех элементов один и тот же базовый ти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 MPI есть три конструктора, которые можно использовать в такой ситуац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SzPct val="99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сontiguo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- создает производный тип, элементы которого являются непрерывно расположенными элементами масс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SzPct val="99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vecto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- создает тип, элементы которого расположены на одинаковых расстояниях друг от др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SzPct val="99000"/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indexe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- создает тип, содержащий произвольные эле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260280" y="1273320"/>
            <a:ext cx="888372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ектор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тип создается конструк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vecto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ype_vector(int count, int blocklen, int stride, MPI_Datatype oldtype, MPI_Datatype *new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vector(count, blocklen, stride, oldtype, newtype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личество блоков (неотрицательное целое знач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blockl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ина каждого блока (количество элементов, неотрицательное цело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rid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личество элементов, расположенных между началом предыдущего и началом следующего блока («гребенка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old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базовый т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ой параметр - идентификатор нового тип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ew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Этот идентификатор назначается программистом. Исходные данные здесь однотип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260280" y="1273320"/>
            <a:ext cx="8556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хема расположения данных в новом тип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05-09"/>
          <p:cNvPicPr/>
          <p:nvPr/>
        </p:nvPicPr>
        <p:blipFill>
          <a:blip r:embed="rId1"/>
          <a:stretch/>
        </p:blipFill>
        <p:spPr>
          <a:xfrm>
            <a:off x="250920" y="1773360"/>
            <a:ext cx="60418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260280" y="1273320"/>
            <a:ext cx="855684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unt = 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ride = 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blocklen = 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oldtype = dou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рта нового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SimSun"/>
              </a:rPr>
              <a:t>{(double, 0), (double, 1), (double, 2), (double, 4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SimSun"/>
              </a:rPr>
              <a:t>(double, 5), (double, 6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260280" y="1273320"/>
            <a:ext cx="855684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структоро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труктур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типа является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struc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Она позволяет создать тип, содержащий элементы различных базовых ти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ype_struct(int count, int blocklengths[], MPI_Aint indices[], MPI_Datatype oldtypes[], MPI_Datatype *new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struct(count, blocklengths, indices, oldtypes, newtype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е 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задает количество элементов в производном типе, а также длину массиво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oldtyp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ic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blocklength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blocklength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личество элементов в каждом блоке (масси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ic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мещение каждого блока в байтах (масси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oldtyp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тип элементов в каждом блоке (масси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ой параметр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дентификатор производного тип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ew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260280" y="1273320"/>
            <a:ext cx="8556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хема расположения данных в структурном ти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05-10"/>
          <p:cNvPicPr/>
          <p:nvPr/>
        </p:nvPicPr>
        <p:blipFill>
          <a:blip r:embed="rId1"/>
          <a:stretch/>
        </p:blipFill>
        <p:spPr>
          <a:xfrm>
            <a:off x="324000" y="1844640"/>
            <a:ext cx="567360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260280" y="1273320"/>
            <a:ext cx="855684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мер создания структурного производного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blen[0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ices[0]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oldtypes[0] = MPI_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blen[1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ndices[1] = &amp;data.b — &amp;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oldtypes[1] = MPI_CH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blen[2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ndices[2] = sizeof(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oldtypes[2] = MPI_FLO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struct(3, blen, indices, oldtypes, &amp;newtyp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131760" y="549360"/>
            <a:ext cx="89470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гистрация и удаление производных тип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 помощью вызова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comm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производный тип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сконструированный программистом, регистрируется. После этого он может использоваться в операциях обм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t MPI_Type_commit(MPI_Datatype *data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commit(datatype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Аннулировать производный тип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можно с помощью вызова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fre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ype_free(MPI_Datatype *data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free(datatype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Предопределенные (базовые) типы данных не могут быть аннулиров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31760" y="549360"/>
            <a:ext cx="89470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 algn="just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– создание структур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 algn="just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#include "mpi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newtyp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int argc,char *argv[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yran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PI_Datatype NEW_MESSAGE_TYP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lock_lengths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PI_Aint displacements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PI_Aint addresses[4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PI_Datatype typelist[3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blocks_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 newtype in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ag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Status status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131760" y="1103400"/>
            <a:ext cx="894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Init(&amp;argc, &amp;argv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rank(MPI_COMM_WORLD, &amp;myra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typelist[0] = MPI_FLO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typelist[1] = MPI_FLO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typelist[2] = MPI_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block_lengths[0] = block_lengths[1] = block_lengths[2]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Address(&amp;indata, &amp;addresses[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Address(&amp;(indata.a), &amp;addresses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Address(&amp;(indata.b), &amp;addresses[2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Address(&amp;(indata.n), &amp;addresses[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displacements[0] = addresses[1] — addresses[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displacements[1] = addresses[2] — addresses[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displacements[2] = addresses[3] — addresses[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blocks_number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struct(blocks_number, block_lengths, displacements, typelist, &amp;NEW_MESSAGE_TYP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commit(&amp;NEW_MESSAGE_TYP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2861280" y="18900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62080" y="1927080"/>
            <a:ext cx="8621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ские ти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ые топ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31760" y="1157400"/>
            <a:ext cx="89470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f (myrank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ndata.a = 3.1415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ndata.b = 2.7182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indata.n =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Send(&amp;indata, 1,NEW_MESSAGE_TYPE, 1, tag, MPI_COMM_WORL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printf("Process %i send: %f %f %i\n", myrank, indata.a, indata.b, indata.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Recv(&amp;indata, 1, NEW_MESSAGE_TYPE, 0, tag, MPI_COMM_WORLD, &amp;statu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printf("Process %i received: %f %f %i, status %s\n", myrank, indata.a, indata.b, indata.n, status.MPI_ERR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MPI_Type_free(&amp;NEW_MESSAGE_TYP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Finaliz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华文楷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195120" y="1125360"/>
            <a:ext cx="8948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к работает эта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даются типы членов производного т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даётся количество элементов каждого т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числяются адреса элементов тип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at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определяются смещения трех членов производного типа относительно адреса первого, для которого смещение равно 0. Располагая этой информацией, можно определить производный тип, что и делается с помощью подпрограм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struc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ype_comm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зданный таким образом производный тип можно использовать в любых операциях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3"/>
          <p:cNvSpPr/>
          <p:nvPr/>
        </p:nvSpPr>
        <p:spPr>
          <a:xfrm>
            <a:off x="1560600" y="2349360"/>
            <a:ext cx="64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ые топ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326880" y="1339920"/>
            <a:ext cx="862200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рганизация обмена основана на свойствах коммуникатора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писателя области взаимодействия. Кроме списка процессов и контекста обмена с коммуникатором может быть связана дополнительная информ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ажнейшей разновидностью такой информации явля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ополог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бменов. В MPI топология представляет собой механизм сопоставления процессам, принадлежащим группе, альтернативных по отношению к обычной схем нум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опологии обменов сообщениями в MPI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иртуальны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они не связаны с физической топологией коммуникационной сети параллельной вычислительной системы. Использование коммуникаторов и топологий отличает MPI от большинства других систем передачи сооб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326880" y="1339920"/>
            <a:ext cx="86220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опологией в данном случае называют структуру соединений - линий и узлов сети без учета характеристик самих этих узлов. Узлами здесь являются процессы, соединениями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аналы обмена сообщениями, а сетью мы, фактически, называем все процессы, входящие в состав паралле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Часто в прикладных программах процессы упорядочены в соответствии с определенной топологией. Такая ситуация возникает, например, если выполняются расчеты, в которых используются решетки (сетки). Это может быть при программировании сеточных методов решения дифференциальных уравнений, а также в других случа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нание топологии задачи можно использовать для того, чтобы эффективно распределить процессы между процессорами параллельной вычислитель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326880" y="1339920"/>
            <a:ext cx="862200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MPI существуют два типа топологии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екарт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топология — прямоугольная решетка произвольной размерности и тополог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граф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(в этом случае процессы соединены между собой ребрами, показывающими направление обме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05-06"/>
          <p:cNvPicPr/>
          <p:nvPr/>
        </p:nvPicPr>
        <p:blipFill>
          <a:blip r:embed="rId1"/>
          <a:stretch/>
        </p:blipFill>
        <p:spPr>
          <a:xfrm>
            <a:off x="392040" y="2841480"/>
            <a:ext cx="3070440" cy="3365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05-07"/>
          <p:cNvPicPr/>
          <p:nvPr/>
        </p:nvPicPr>
        <p:blipFill>
          <a:blip r:embed="rId2"/>
          <a:stretch/>
        </p:blipFill>
        <p:spPr>
          <a:xfrm>
            <a:off x="4440240" y="3168720"/>
            <a:ext cx="4060800" cy="30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26880" y="1339920"/>
            <a:ext cx="8622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ад топологиями можно выполнять различные оп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екартовы решетки можно расщеплять на гиперплоскости, удаляя некоторые изме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анные можно сдвигать вдоль выбранного измерения декартовой решетки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двиг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 этом случае называют пересылку данных между процессами вдоль определенного изме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доль избранного измерения могут быть организованы коллективные об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131760" y="1208160"/>
            <a:ext cx="90122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связать структуру декартовой решетки с коммун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OMM_WORL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о задать следующи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тки (значение 2, например, соответствует плоской решет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тки вдоль каждого измерения (размеры {10, 5},  например, соответ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ой плоской решетке,  протяженность которой вдоль ос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ов-проце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доль ос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узл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ные усло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доль каждого измерения (решетка может бы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находящиеся на противоположных концах ряда, взаимодействуют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PI дает возможность системе оптимизировать отображение виртуальной топологии процессов на физическую с помощью изменения порядка нумерации процессов в груп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260280" y="476280"/>
            <a:ext cx="862164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ртова тополог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с операциями создания и преобразова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ртовых тополог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мена.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art_creat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ет новый коммуникато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_car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деляя декартовой топологией исходный коммуникато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_ol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_Cart_create(MPI_Comm comm_old, int ndims, int *dims, int *periods, int reorder, MPI_Comm *comm_c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art_create(comm_old, ndims, dims, periods, reorder, comm_car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_ol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ный коммуника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мерность декартовой реш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численный массив, состоящий из ndims элементов, зад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цессов в каждом измер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326880" y="1339920"/>
            <a:ext cx="86220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rio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гический массив из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ментов, который  определяет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ли решетка периодической (значение true) вдоль каждого изм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ord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значении этого параметра «истина», системе разрешено 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нумерации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труктуре декартовой топологии содержится в параметрах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rio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art_creat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коллективной операцией (эту подпрограмму должны вызывать все процессы из коммуникатора, наделяемого декартовой топологи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1485360" y="2349360"/>
            <a:ext cx="63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ьские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131760" y="1077840"/>
            <a:ext cx="8947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сле создания виртуальной топологии можно использовать соответствующую схему адресации процессов, но для этого требуется пересчет ранга процесса в его декартовы координаты и наоборот. Определить декартовы координаты процесса по его рангу в группе можно с помощью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Cart_coor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Cart_coords(MPI_Comm comm, int rank, int maxdims, int *co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art_coords(comm, rank, maxdims, coord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ммуникатор, наделенный декартовой тополог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an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ранг процесса в com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ax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ина вектора coords в вызывающей програм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м параметром этой подпрограммы является одномерный целочисленный масси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or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(его размер равен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, содержащий декартовы координаты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131760" y="1077840"/>
            <a:ext cx="894708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братным действием обладает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Cart_ran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С ее помощью можно определить ранг процесса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an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по его декартовым координатам в коммуникатор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Cart_rank(MPI_Comm comm, int *coords, int *r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art_rank(comm, coords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or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целочисленный массив размер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задающий декартовы координаты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131760" y="476280"/>
            <a:ext cx="894708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#include "mpi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PI_Comm grid_com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m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iodic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order = 1, q = 5, ndims = 2, maxdims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ordinat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y_grid_ra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ord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PI_Comm row_com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131760" y="1077840"/>
            <a:ext cx="89470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  <a:ea typeface="SimSun"/>
              </a:rPr>
              <a:t>dims[0] = dims[1] = q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eriodic[0] = periodic[1]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ords[0] = 0; coords[1]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Init(&amp;argc, &amp;arg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art_create(MPI_COMM_WORLD, ndims, dims, periodic, reorder, &amp;grid_com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rank(grid_comm, &amp;my_grid_ra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art_coords(grid_comm, my_grid_rank, maxdims, coordinat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f("Process rank %i has coordinates %i %i\n", my_grid_rank, coordinates[0], coordinates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Fin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131760" y="1077840"/>
            <a:ext cx="894708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формацию о декартовой топологии, связанной с коммуникатором comm, можно получить с помощью подпрограммы MPI_Cart_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Cart_get(MPI_Comm comm, int maxdims, int *dims, int *periods, int *co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art_get(comm, maxdims, dims, periods, coord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ax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задает длину массиво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perio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vecto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 вызывающей программе, а 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dim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целочисленный массив, задающий количество процессов для кажд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зм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perio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массив логических значений, задающих периодичность (true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шетка периодическая) для каждого изм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or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целочисленный массив, задающий декартовы координаты вызы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у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131760" y="476280"/>
            <a:ext cx="86202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огия граф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Graph_creat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ет новый коммуникато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_grap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деленный топологией граф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_Graph_create(MPI_Comm comm, int nnodes, int *index, int *edges, int reorder, MPI_Comm *comm_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Graph_create(comm, nnodes, index, edges, reorder, comm_graph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ный коммуникатор, не наделенный тополог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nod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вершин 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численный одномерный массив, содержащий порядок каждого уз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личество связанных с ним ребер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численный одномерный массив, описывающий ребра 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ord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значение «истина» разрешает изменение порядка нумерации проце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31760" y="1077840"/>
            <a:ext cx="894708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лучить информацию о топологии графа, связанной с коммун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можно с помощью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Graph_ge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Graph_get(MPI_Comm comm, int maxindex, int maxedges, int *index, int *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Graph_get(comm, maxindex, maxedges, index, edg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ммуника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axinde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ина массива index в вызывающей програм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axed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ина массива edges в вызывающей програм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целочисленный массив, содержащий структуру 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ed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целочисленный массив, содержащий сведения о ребрах 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131760" y="1077840"/>
            <a:ext cx="894708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Graphdims_ge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позволяет получить информацию о топологии графа, связанной с коммун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Graphdims_get(MPI_Comm comm, int *nnodes, int *ned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Graphdims_get(comm, nnodes, nedg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ми параметрами этой подпрограммы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nod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личество вершин 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nedg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оличество ребер 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пределить тип топологии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top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, связанной с коммун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можно с помощью под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opo_test(MPI_Comm comm, int *top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OPO_TEST(COMM, TOPTYPE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м параметром является тип топологи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top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(значения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CAR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я декартовой топологии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GRAP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ля топологии граф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260280" y="1273320"/>
            <a:ext cx="85568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общение в MPI представляет собой массив однотипных данных, элементы которого расположены в последовательных ячейках памяти. Такая структура не всегда удоб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огда возникает необходимость в пересылке разнотипных данных или фрагментов массивов, содержащих элементы, расположенные не в последовательных ячейках. Так бывает, например, при программировании вычислений, связанных с операциями с матрицами и векторами, а также в други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PI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грамме для решения этой проблемы придется создать производный тип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95120" y="476280"/>
            <a:ext cx="85568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численных расчетах часто приходится иметь дело с матрицами. В языках 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rtra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C используется линейная модель памяти, в которой матрица хранится в виде последовательно расположенных столбцов (строк). Один из алгоритмов параллельного умножения матриц требует пересылки строк матрицы, а в линейной модели Фортрана элементы строк расположены в оперативной памяти не непрерывно, а с промежу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05-08"/>
          <p:cNvPicPr/>
          <p:nvPr/>
        </p:nvPicPr>
        <p:blipFill>
          <a:blip r:embed="rId1"/>
          <a:stretch/>
        </p:blipFill>
        <p:spPr>
          <a:xfrm>
            <a:off x="2268360" y="3429000"/>
            <a:ext cx="4438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60280" y="1273320"/>
            <a:ext cx="85568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шать проблему пересылки разнотипных данных или данных, расположенных не в последовательных ячейках памяти, можно разными сред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ожно, например, «уложить» элементы исходного массива во вспомогательный массив так, чтобы данные располагались непрерывно. Это неудобно и требует дополнительных затрат памяти и процессорно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ожно различные элементы данных пересылать по отдельности. Это медленный и неудобный способ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олее эффективным решением является использ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изводных типов дан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260280" y="1273320"/>
            <a:ext cx="85568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изводные типы данных создаются во время выполнения программы (а не во время ее трансляции), как правило, перед их использ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оздание типа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двухступенчатый процесс, который состоит из двух ша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струирование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гистрация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сле завершения работы с производным типом, он аннулируется. При этом все производные от него типы остаются и могут использоваться дальше, пока и они не будут уничто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Коммуникаторы, группы, типы данных, определённые пользователем операции, атрибуты коммуникаторов, обработчики ошибок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 все это примеры объектов, которые (если они были созданы в процессе работы программы) должны уда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260280" y="1273320"/>
            <a:ext cx="86886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изводные типы данных создаются из базовых типов с помощью подпрограмм–констру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изводный тип данных в MPI характеризуется последовательностью базовых типов и набором целочисленных значений см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мещения отсчитываются относительно начала буфера обмена и определяют те элементы данных, которые будут участвовать в обмене. Не требуется, чтобы они были упорядочены (например, по возрастанию или по убывани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Отсюда следует, что порядок элементов данных в производном типе может отличаться от исходного и, кроме того, один элемент данных может появляться в новом типе многокр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260280" y="1273320"/>
            <a:ext cx="8556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следовательность пар (тип, смещение)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ртой ти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lec07_pic02"/>
          <p:cNvPicPr/>
          <p:nvPr/>
        </p:nvPicPr>
        <p:blipFill>
          <a:blip r:embed="rId1"/>
          <a:stretch/>
        </p:blipFill>
        <p:spPr>
          <a:xfrm>
            <a:off x="0" y="1927080"/>
            <a:ext cx="9144000" cy="30704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179280" y="5375880"/>
            <a:ext cx="8817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асстояние в количестве ячеек задается между началом элементов, поэтому элементы могут располагаться с разрывами и перекрываться между собой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21:18:22Z</dcterms:modified>
  <cp:revision>28</cp:revision>
  <dc:subject/>
  <dc:title>Слайд 1</dc:title>
</cp:coreProperties>
</file>