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9B64-6E27-481F-8C66-29457F102AA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A9F-A016-4407-82A1-8739937A288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4CC-AB5A-4C50-BEC2-FF694739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DAD-ADF0-4346-884D-EA42AC14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A1E-A212-4E89-A52D-34576300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FE3-FA62-4881-A1C5-6C0A65CD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7A7-C5C1-4986-ACF7-6BD6BEE1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8549-7DC4-4085-84B6-A1EE6276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C020-E982-425F-A78A-4396CFD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3BDA-3C45-4550-8A32-036E584D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A898-9BAC-4563-8810-7C3A874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8E2-C9FE-4AEF-9419-1B1A1922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4AD5-F88C-49BA-80ED-2BB5B54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86A-92B1-40EA-A924-71F2B6BB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17C7-91F3-4077-B9C3-973817B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9DE2-28C0-4B9E-8AE7-C25DEA6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F0E-0CEA-4313-91CB-BE5CF43E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48B8-9A24-4FFB-89B6-AADD2832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102-6DB3-48D9-B6F8-ECF74425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2E68-B16F-4FEC-8635-4281EF54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16EC-D6A8-4EE8-931A-CE64073E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D5F5-F3AF-413C-88BF-C37B172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89D1-CD7A-4888-A038-6B46D6C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B370-AE07-4C0B-96A9-99DEBAF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D05-E37F-4077-B2BC-B13CAA12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7D62-729D-43C3-9EC3-E0EF84A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FDC1-8BE4-47C0-B1F4-50527DC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CB03-84CF-4154-9277-A0B199A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C3EC-3D37-407E-8AA1-EFF4007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9195-2E3C-49BA-A349-F5F47B4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75C6-EB2B-4B9A-B754-C66F8103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42E9-4B41-407F-9E0D-95553709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E5E2-4477-456C-8217-754F300F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668FA-4237-4EB3-A169-89BD5D8F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5EE4-8196-40FB-A970-A54DC87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ED2-C729-4260-A7CB-36C85FEB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9A5F-75D3-4C25-AEAF-13293151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3915F-59FF-4EAD-9125-B81F567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B3E4F-00E8-4C9D-81CC-A04FA735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FC86-F5F7-4E7E-9F1E-E3D215B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F6A2-3872-4A06-A4C7-21A5196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5892-CDA1-43C9-AF13-CE70C40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F586-61F0-4DD5-B1FB-35CC9AE2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E54A-9D2F-4D5A-8137-23239D17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A948-2411-4150-80F3-17CC4D6F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9FCA-BCED-487B-A630-6A165F9A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28E-47FA-4922-A085-1FE19AB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3FAF2-BA0E-42E7-B115-0655C890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5905-2F16-4E0E-92CD-A43286A8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5193-DB00-40C1-BA7C-C879C647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4629-4DD0-4FDA-AB26-51C6DC6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C5CA-AB2A-4078-82AA-BF15CFE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0BC0-3A06-47A3-9747-D2393B7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F505-D652-4CC0-95EE-9EB28415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39D7-CD51-43CC-AF0A-E09FDED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424F-842F-4161-BD9C-63B0DD11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CA9C-E1C3-4351-8FBC-F426D702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A3A-8BC4-4B1D-92C3-71EEA2CA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49DE-A2D2-42AC-8B96-E5614E84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E790-E887-4856-85B7-CAD76297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D411-C72B-4848-B2FE-FC29030E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AB374-4F04-40EC-B762-EB391C2C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C2A9-6FCB-4B49-976B-028BC49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EFA2-E4BB-44C6-99F3-8E170497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CC4A5-CBD2-427C-B4FA-55BD8694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DAB3D-F68F-4A16-9B57-CFC3FBA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0076-69D3-4265-ADF3-7724360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F59A-B6F4-4A6F-BE95-666138F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42F-C797-4BAB-B330-9D7E7DD0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2DEBB-5077-4AA5-9C74-959037F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AD3B-E1E2-4F55-B346-4BEA8026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30BC-AD09-47A1-BE43-02B5075C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742-2936-4B57-9201-EF8DF0B0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B47-1D29-493B-80FA-8BFE8EF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E57F-B3B2-4E0F-9E4C-6FB1C51EDA4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76F3-900F-479A-AB59-A70B1893A04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406D-89CB-431C-B353-C3DA4C017EE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8AB-9F12-4473-99A0-452214E4DB8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BE4-C38D-4660-951B-DFF039D0263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389B-22F1-4B45-84A0-BE898595E9A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820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468360" y="465300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Вводны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4. Программирование с использование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P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ь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326880" y="1339920"/>
            <a:ext cx="842508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зовы подпрограмм неблокирующего обмена формируют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на выполнение операции обмена и связывают его с идентификатором операции request. Запрос идентифицирует свойства операции обме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характеристики буфера обме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нтек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ег и ран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прос содержит информацию о состоянии ожидающих обработки операций обмена и может быть использован для получения информации о состоянии обмена или для ожидания его завершени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3"/>
          <p:cNvSpPr/>
          <p:nvPr/>
        </p:nvSpPr>
        <p:spPr>
          <a:xfrm>
            <a:off x="539640" y="1844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Неблокирующих обм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26880" y="1339920"/>
            <a:ext cx="84250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обме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фактического выполнения передачи или приема в неблокирующем режиме осуществляется с помощью вызов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 ожид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блокирующих работу процесса до завершения операции или неблокирующих подпрограмм проверки, возвращающих логическое значение «истина», если операция выполнен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326880" y="1339920"/>
            <a:ext cx="84250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том случае, когда одновременно несколько процессов обмениваются сообщениями, можно использовать проверки, которые применяются одновременно к нескольким обмен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Есть три типа таких провер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 всех обме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 любого обмена из нескольк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 заданного обмена из нескольк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аждая из этих проверок имеет две разновид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«ожидание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«прове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26880" y="1339920"/>
            <a:ext cx="842508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ующие операции провер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Wa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блокирует работу процесса до завершения приема или передачи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Wait(MPI_Request *request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ой 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дентификатор операции обмена, выходной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татус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326880" y="1339920"/>
            <a:ext cx="84250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е выполнение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Wa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вызов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Ibsen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ет, что буфер передачи можно использовать вновь, то есть пересылаемые данные отправлены или скопированы в буфер, выделенный при вызове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Buffer_attac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момент уже нельзя отменить передачу. Если не будет зарегистрирован соответствующий прием, буфер нельзя будет освободить. В этом случае можно применить подпрограмму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ance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освобождает память, выделенную подсистеме коммуник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326880" y="1339920"/>
            <a:ext cx="842508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всех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всех обменов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Waital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quest request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[]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 statuse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Waitall(count, requests, statuse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вызове этой подпрограммы выполнение процесса блокируется до тех пор, по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вс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перации обмена, связанные с активными запросами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не будут выполнены. Возвращается статус этих операций. Статус обменов содержится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es. 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количество запросов на обмен (размер массиво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326880" y="1339920"/>
            <a:ext cx="84250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Waita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росы, сформированные неблокирующими операциями обмена, аннулируются, а соответствующим элементам массива присваивается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REQUEST_NU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успешного выполнения одной или более операций обмена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Waita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вращает код ошибк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ERR_IN_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сваивает полю ошибки статуса значение кода ошибки соответствующей оп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перация выполнена успешно, полю присваивается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UCC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если не выполнена, но и не было ошибки -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ERR_PENDIN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оответствует наличию запросов на выполнение операции обмена, ожидающих обрабо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326880" y="1023840"/>
            <a:ext cx="863784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любого числа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любого числа обменов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Waitany(int count, MPI_Request requests[], int *index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Waitany(count, requests, index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полнение процесса блокируется до тех пор, пока, по крайней мере, один обмен из массива запросов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не будет завер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запр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количество элементов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e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индекс запроса (в языке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это целое число от 0 до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, а в язы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rtra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т 1 до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тат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26880" y="1339920"/>
            <a:ext cx="842508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ие процедуры провер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MPI_Test выполняет неблокирующую проверку завершения приема или передачи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est(MPI_Request *request, int *flag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est(request, flag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ой параметр: идентификатор операции обмена requ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«истина», если операция, заданная идентифика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полн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татус выполненной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2861280" y="18900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92040" y="1992240"/>
            <a:ext cx="849168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неблокирующих об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ие передача и приё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неблокирующих обме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326880" y="1339920"/>
            <a:ext cx="86378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ая проверка завершения всех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ыполняет неблокирующую проверку завершения приема или передачи всех сообщ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estall(int count, MPI_Request requests[], int *flag, MPI_Status statuses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estall(count, requests, flag, statuse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вызове возвращается значение флага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«истина», если все обмены, связанные с активными запросами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выполнены. Если завершены не все обмены, флагу присваивается значение «ложь», а масси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не опреде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количество запр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 статусу, соответствующему активному запросу, присваивается значение статуса соответствующего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179280" y="1339920"/>
            <a:ext cx="878544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ая проверка любого числа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ыполняет неблокирующую проверку завершения приема или передачи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estany(int count, MPI_Request requests[], int *index, int *flag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estany(count, requests, index, flag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мысл и назначение параметров этой подпрограммы те же, что и для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Wait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Дополнительный аргумент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 принимает значение «истина», если одна из операций заверш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локирующая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Wait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неблокирующая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est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заимозаменяемы, как и другие аналогичные п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3"/>
          <p:cNvSpPr/>
          <p:nvPr/>
        </p:nvSpPr>
        <p:spPr>
          <a:xfrm>
            <a:off x="611280" y="191628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использования неблокирующих двухточечных обм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326880" y="1339920"/>
            <a:ext cx="84250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ogram main_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clude 'mpif.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ank, tag, cnt, ierr, status(MPI_STATUS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al sndbuf(5) /1., 2., 3., 4., 5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al rcvbuf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nt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tag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nit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Comm_rank(MPI_COMM_WORLD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195120" y="1339920"/>
            <a:ext cx="875376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(rank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send(sndbuf(1), cnt, MPI_REAL, 1, tag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OMM_WORLD, reques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before Wait", snd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after Wait", snd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recv(rcvbuf(1), cnt, MPI_REAL, 0, tag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OMM_WORLD, reques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before Wait", rcv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after Wait", rcv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Finalize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95120" y="1339920"/>
            <a:ext cx="8688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program main_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clude 'mpif.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ank, tag1, tag2, cnt, ierr, status(MPI_STATUS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teg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al sndbuf1, sndbuf2, rcvbuf1, rcv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n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tag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ndbuf1 = 3.14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ndbuf2 = 2.718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nit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Comm_rank(MPI_COMM_WORLD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195120" y="1012680"/>
            <a:ext cx="89488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 (rank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sndbuf1, cnt, MPI_REAL, 1, tag1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", sndbu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sndbuf2, cnt, MPI_REAL, 1, tag2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", snd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recv(rcvbuf1, cnt, MPI_REAL, 0, tag1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ques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Recv(rcvbuf2, cnt, MPI_REAL, 0, tag2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before Wait", rcvbu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before Wait", rcv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after Wait", rcvbu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after Wait", rcv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Finalize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3"/>
          <p:cNvSpPr/>
          <p:nvPr/>
        </p:nvSpPr>
        <p:spPr>
          <a:xfrm>
            <a:off x="1284120" y="234936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ы-проб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131760" y="1012680"/>
            <a:ext cx="901224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блокирующая проверка сообщ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блокирующая проверка сообщения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prob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omm 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prob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 этой подпрограммы те же, что и у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Prob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ф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стат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Если сообщение уже поступило и может быть принято, возвращается значение флага «ист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08000" y="1146240"/>
            <a:ext cx="91440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полученного сообщения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жно определить с помощью вызова под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_Get_count(MPI_Status *status, MPI_Datatype datatype, int *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Get_count(status, datatype, coun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  количество элементов в буфере пере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 тип каждого пересылаемого эле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обм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 код завер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ен соответствовать типу данных, указанному в операции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395280" y="198900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Неблокирующих обм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195120" y="1339920"/>
            <a:ext cx="89488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ogram main_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clude 'mpif.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ank, i, k, ierr, tag, dest, status(MPI_status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a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tag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des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nit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Comm_rank(MPI_COMM_WORLD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 (rank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 =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i, 1, MPI_INTEGER, dest, tag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 if(rank.eq.1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x = 3.14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x, 1, MPI_REAL, dest, tag, MPI_COMM_WORLD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195120" y="1012680"/>
            <a:ext cx="894888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do k =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Probe(MPI_ANY_SOURCE, tag, MPI_COMM_WORLD, statu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 (status(MPI_source)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Recv(i, 1, MPI_INTEGER, 0, tag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received ", i, " from 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Recv(x, 1, MPI_REAL, 1, tag, MPI_COMM_WORLD, statu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received ", x, " from 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Finalize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79280" y="1339920"/>
            <a:ext cx="876960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зов подпрограммы неблокирующей передачи инициирует, но не завершает ее. Завершиться выполнение подпрограммы может еще до того, как сообщение будет скопировано в буфер пере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менение неблокирующих операций улучшает производительность программы, поскольку в этом случае допускается перекрытие (то есть одновременное выполнение) вычислений и обменов. Передача данных из буфера или их считывание может происходить одновременно с выполнением процессом другой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326880" y="1339920"/>
            <a:ext cx="84250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ля завершения неблокирующего обмена требуется вызов дополнительной процедуры, которая проверяет, скопированы ли данные в буфер пере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неблокирующем обмене возвращение из подпрограммы обмена происходит сразу, но запись в буфер или считывание из него после этого производи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- сообщение может быть еще не отправлено или не получено и работа с буфером может «испортить» его содержимо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26880" y="1339920"/>
            <a:ext cx="842508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блокирующий обмен выполняется в два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ициал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бм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азделение этих шагов делает необходимы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аркиров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аждой операции обмена, которая позволяет целенаправленно выполнять проверки завершения соответствующих опер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ля маркировки в неблокирующих операциях исполь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дентификаторы операций обме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3"/>
          <p:cNvSpPr/>
          <p:nvPr/>
        </p:nvSpPr>
        <p:spPr>
          <a:xfrm>
            <a:off x="1193040" y="2133720"/>
            <a:ext cx="701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ие пере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326880" y="1339920"/>
            <a:ext cx="855684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ициализация неблокирующей стандартной передач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полняется подпрограммам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I[S, B, R]sen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Стандартная неблокирующ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ередача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 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 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 параметры этой подпрограммы аналогичны аргументам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en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ной 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дентификатор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326880" y="1339920"/>
            <a:ext cx="85568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лизация неблокирующего приема выполняется при вызове под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rec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 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 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rec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аргументов здесь такое же, как и в ранее рассмотренных подпрограммах, за исключением того, что указывается ранг не адресата, а источника сообщения (sour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20:43:34Z</dcterms:modified>
  <cp:revision>19</cp:revision>
  <dc:subject/>
  <dc:title>Слайд 1</dc:title>
</cp:coreProperties>
</file>