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dt" idx="19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ftr" idx="20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 type="sldNum" idx="21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DC16-8D2C-4FAB-80AC-39DCB415E84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F7EF-81B1-4091-A275-BD7B3ED9839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50CC-F7FF-4FB1-831E-CF7EF6A9B24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6BCB-D581-41C2-96BE-B020A5D9B650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7565-1C07-4992-9F30-E9FD140868FD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53D5-3F7B-451B-9082-F5200B80197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FEC5-5332-4990-99EC-4915452D54C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861F-90BE-4BCE-B7E1-AD40CCCBE5D1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89080" y="982800"/>
            <a:ext cx="4721040" cy="354168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1068480" y="5175360"/>
            <a:ext cx="47736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8F8B-55B4-484D-B009-2B4ACFF2816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B964-FF22-4E62-A97E-48336749D2F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5B2D-48FE-49F6-85AE-95D4457C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1184-2615-4442-B652-7C60BAB5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FBD9-5E55-46D7-A320-6FC9B0B8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23FE-2D90-4C40-A2FD-6B46BF64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10A3-DF0E-4B95-8641-CDA262E1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70B0-3285-4FF5-8337-3B8C406C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344B-664A-4311-856B-A752E555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DF71-F3AA-4AEA-81AB-591DA39E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1A36-D643-4953-9F2A-EE6E63FE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B8E6-37E0-4175-8EAE-4ACE20E1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0C01-C7BD-4B66-9F47-739A4AF2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99F5-1109-477B-8FE0-2CB8B45A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5EE4-1DBE-40D9-A296-C13986E4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CB10-539B-43A7-96E2-F4FA832B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4798-1592-473B-A79B-42D8ACD8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E048-46CB-47D3-A660-4A86FDD1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ADEB-9CBA-46A4-BFC7-7C8101824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44541-9D9C-4180-8FA0-3A9A7245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67F3C-4036-49A5-A240-266BD97E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873FD-7805-469D-BF8F-C97B8A4A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BDF88-CF2E-4A13-9C9B-92AD2A03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4325E-788E-4EB9-A99E-0DD42A15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2D85-4855-4B3C-BF32-3F5732C2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6E760-8C90-4A67-B709-2CB0B2B8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1A511-5BFC-4963-B4D8-2B5CD27B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6F005-5799-4F98-AB24-B2E31953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3F9AE-4D28-4DC6-82B2-2E6E1D43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B6DCC-7376-4EF1-B156-9053DA2F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2F95A-A190-4E28-A2DB-980D43DA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EFCA0-F610-4548-8D52-D97EECCDE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67EAA-1AED-428B-9EC4-1648748D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3A3B1-58AA-4038-8621-1AACE04A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BE38A-E83C-4D40-9362-F94B7492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34EE-9467-4735-94F8-9E32CA8A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727BE-C58E-4ED2-950F-C5E705FD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C9E09-BBDE-4E0B-98A6-12A63C01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CA569-4E3A-434F-91BF-6917391A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D7DCD-1C16-48E5-9E7A-8AA3FF17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A9BB1-9B56-47F5-A677-6242FD39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1EEE4-C3E1-406D-A3D8-6859658A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526FF-C1BE-4A95-94EA-0B69A92A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325BF-E527-4D5E-9187-B10EF39E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D5EA9-E2B3-4A74-802B-5A772821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C9F5B-AB12-4BA5-8D56-F4EF7EB32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ECBC-E3B2-4E0B-96AB-94525FAB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972CD-F5D6-4F5F-9D29-23CFBC84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901E8-73DE-42FF-8C56-FDE0BA91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6008D-3379-4A90-917E-9A8906CE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F6AC9-E808-4A16-A324-6C0C0092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3CFAA-ABE2-4F59-A273-41E6AF92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EA5BF-6432-4E88-840A-6BCD0DD3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0B4DD-BBF1-412C-AC2E-FEF4850B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5B749-82A5-459D-A851-FC68135B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583F2-DA1E-4599-836A-10E4B627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15487-3563-4E96-B748-150ACE67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6CF4-E8D2-437F-A547-77C1DCB2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FBE01-5F3A-40E9-9121-BB75E62E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711EA-8CBA-47A3-98D7-D98CB69C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6F488-F62B-41F6-AB8A-54849263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16323-CD9C-48EB-B8D3-12217CC2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10CB1-6991-4A18-860B-3FE22133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E9D82-170C-471F-A51D-34436A98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99A46-31AE-43BD-B577-E4CD40CB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8F986-C45A-4B5E-919F-611D73FA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B200D-4EDE-4700-B097-BE3556C2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CD25D-F09D-4ED0-8CEA-F7B95747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EE64-F1A7-48A4-8016-5E8FE006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7430A-51EA-47BF-BE38-4598357D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E6825-EB45-4D3F-A15B-76A39D1E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34B18-B731-4B6C-A4DB-8CDBFA7A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4574-F912-4D5C-AC5E-81CB9735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0DB5-0CF6-4136-B243-D07E1CA3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B55A-2511-459F-AA53-7C121304BCE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977F-21AA-476B-9FC0-C99D96FDA2E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658F-5E8C-45AF-9539-0B435C1DEF0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DBBE-64DF-4D98-96DC-9E579677919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59D7-6FDF-4406-B446-027D8314DEA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E432-763B-43A3-BF0A-CFD7E645DFF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13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16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319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3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684360" y="3068640"/>
            <a:ext cx="8208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.А.Немнюгин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анкт-Петербургский государственный университе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Прямоугольник 3"/>
          <p:cNvSpPr/>
          <p:nvPr/>
        </p:nvSpPr>
        <p:spPr>
          <a:xfrm>
            <a:off x="468360" y="4653000"/>
            <a:ext cx="82072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uster Tools. Вводный курс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ия 1. Обзор средств разработки высокопроизводительных при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5"/>
          <p:cNvSpPr/>
          <p:nvPr/>
        </p:nvSpPr>
        <p:spPr>
          <a:xfrm>
            <a:off x="179280" y="1125360"/>
            <a:ext cx="868860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ys/types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ys/ipc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ys/msg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mesg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ssag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key_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ke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sgid, length, 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(key = ftok("server", 'A')) &lt; 0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"Невозможно получить ключ\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);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1)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ssage.mtype=1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(msgid = msgget(key, PERM | IPC_CREAT)) &lt; 0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"Невозможно создать очередь\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);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1)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 = msgrcv(msgid, &amp;message, sizeof(message), message.mtype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n &gt; 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write(1, message.buff, n) != n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"Ошибка вывода\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);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1)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"Ошибка чтения сообщения\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);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1)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0" y="260280"/>
            <a:ext cx="914400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IPC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. Сообщения. Пример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5"/>
          <p:cNvSpPr/>
          <p:nvPr/>
        </p:nvSpPr>
        <p:spPr>
          <a:xfrm>
            <a:off x="276120" y="1052640"/>
            <a:ext cx="86886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ys/types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ys/ipc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ys/msg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mesg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ssag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ssag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key_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ke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sgid, lengt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ssage.mtype = 1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(key = ftok("server", 'A')) &lt; 0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"Невозможно получить ключ\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);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1)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(msgid = msgget(key, 0)) &lt; 0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"Невозможно получить доступ к очереди\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);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1)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(length = sprintf(message.buff, "Здравствуй, Мир!\n")) &lt; 0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"Ошибка копирования в буфер\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);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1)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msgsnd(msgid, (void *) &amp;message, length, 0) !=0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"Ошибка записи сообщения в очередь\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1)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msgctl(msgid, IPC_RMID, 0) &lt; 0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"Ошибка удаления очереди\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);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1)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5"/>
          <p:cNvSpPr/>
          <p:nvPr/>
        </p:nvSpPr>
        <p:spPr>
          <a:xfrm>
            <a:off x="457200" y="1405080"/>
            <a:ext cx="86868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ализации потоков (нитей) выполнения, определяющий API для создания и управления и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.1c, Расширения потоков (IEEE Std 1003.1c-19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, управление и завершение выполнения пото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щик пото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ация пото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сигн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и стандарта содерж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 управления пото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 синхронизации пото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"/>
          <p:cNvSpPr/>
          <p:nvPr/>
        </p:nvSpPr>
        <p:spPr>
          <a:xfrm>
            <a:off x="0" y="260280"/>
            <a:ext cx="91440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IX Thr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5"/>
          <p:cNvSpPr/>
          <p:nvPr/>
        </p:nvSpPr>
        <p:spPr>
          <a:xfrm>
            <a:off x="204840" y="1071720"/>
            <a:ext cx="8688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gettimeofday.h"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pthread.h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gNumThreads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N 100000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a[N + 1], b[N + 1], sum;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, j;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start, stop;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int gNumSteps = 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gVectorSum = 0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*threadFunction(void *arg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yNum = *((int *)arg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partialSum = 0;  // </a:t>
            </a:r>
            <a:r>
              <a:rPr b="0" lang="ru-RU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локально по отношению к каждому поток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 i = myNum; i &lt; gNumSteps; i += gNumThreads )  // </a:t>
            </a:r>
            <a:r>
              <a:rPr b="0" lang="ru-RU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каждый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gNumThreads-</a:t>
            </a:r>
            <a:r>
              <a:rPr b="0" lang="ru-RU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й шаг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partialSum += a[i] * b[i];   //</a:t>
            </a:r>
            <a:r>
              <a:rPr b="0" lang="ru-RU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параллельное вычисление сумм каждым поток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gVectorSum += partialSum;          // </a:t>
            </a:r>
            <a:r>
              <a:rPr b="0" lang="ru-RU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сложения частных сумм и получение результа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0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0" y="44280"/>
            <a:ext cx="91440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IX Threads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Прим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5"/>
          <p:cNvSpPr/>
          <p:nvPr/>
        </p:nvSpPr>
        <p:spPr>
          <a:xfrm>
            <a:off x="108000" y="731880"/>
            <a:ext cx="8686800" cy="60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t tid[gNumThreads]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tNum[gNumThreads], i, j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ициализация вектора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j = 0; j &lt; N; j++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a[j] = 1.031; b[j] = 1.057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Computed value of vector sum: "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 = wcgettimeofday();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 = 0; i &lt; gNumThreads; i++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tNum[i] = i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create(&amp;tid[i], NULL, threadFunction, &amp;tNum[i]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 = 0; i &lt; gNumThreads; i++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join(tid[i], NULL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op = wcgettimeofday();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sum = %f\n", gVectorSum);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time = %g\n", stop - start)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260280" y="1468440"/>
            <a:ext cx="88837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Windows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ся возможность разработки многопоточных приложений 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«стандартных» системных средств – прикладного программного интерфейса операционной систем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0" y="333360"/>
            <a:ext cx="91440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ndows 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3"/>
          <p:cNvSpPr/>
          <p:nvPr/>
        </p:nvSpPr>
        <p:spPr>
          <a:xfrm>
            <a:off x="108000" y="625320"/>
            <a:ext cx="9036000" cy="60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windows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N 1000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a[N + 1], b[N + 1], sum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, j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start, stop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int gNumSteps = 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int gNumThreads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gVectorSum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RITICAL_SECTION gC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WORD WINAPI threadFunction(LPVOID pAr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yNum = *((int *)pArg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partialSum = 0;  //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локально по отношению к каждому пото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=myNum*(gNumSteps/gNumThreads); i&lt;(myNum+1)*(gNumSteps/gNumThreads); i++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уется каждый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gNumThreads-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й ша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tialSum += a[i] * b[i];   //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вычисление частных сумм каждым пото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CriticalSection(&amp;gC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VectorSum += partialSum;          //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сложение частного результата с глоб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aveCriticalSection(&amp;gC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0" y="44280"/>
            <a:ext cx="91440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ndows API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Прим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3"/>
          <p:cNvSpPr/>
          <p:nvPr/>
        </p:nvSpPr>
        <p:spPr>
          <a:xfrm>
            <a:off x="108000" y="696960"/>
            <a:ext cx="8883720" cy="60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 threadHandles[gNumThreads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Num[gNumThreads], i, j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j = 0; j &lt; N; j++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[j] = 1.031; b[j] = 1.057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Computed value of dot product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izeCriticalSection(&amp;gC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 i = 0; i &lt; gNumThreads; ++i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Num[i] =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readHandles[i] = CreateThread( NULL, 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атрибуты безопас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,   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размер ст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readFunction,  //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функция пото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LPVOID)&amp;tNum[i],//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данные для функции пото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,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режим запуска пото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);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озвращаемый идентификатор пото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aitForMultipleObjects(gNumThreads, threadHandles, TRUE, INFIN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CriticalSection(&amp;gC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sum = %f\n", gVectorSum)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3"/>
          <p:cNvSpPr/>
          <p:nvPr/>
        </p:nvSpPr>
        <p:spPr>
          <a:xfrm>
            <a:off x="260280" y="1468440"/>
            <a:ext cx="8426520" cy="25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дарт программного интерфейса приложений для параллельных систем 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й памятью. Поддерживает языки C, C++, Fortr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версия появилась в 1997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ra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1998 (C/C++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ах. Последняя верс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MP 3.0 (2008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ится версия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MP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0 (2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ой стандарта занимаетс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MP ARB (Architecture Boar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0" y="333360"/>
            <a:ext cx="91440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n Multi-Processing (OpenM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3"/>
          <p:cNvSpPr/>
          <p:nvPr/>
        </p:nvSpPr>
        <p:spPr>
          <a:xfrm>
            <a:off x="260280" y="1468440"/>
            <a:ext cx="8426520" cy="47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windows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N 1000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a[N + 1], b[N + 1]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start, stop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gDotProduct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ициализация векторов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 = 0; i &lt; N; i++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 = 1.034; b[i] = 1.05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Computed value of vector sum: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 = omp_get_wtime()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0" y="404640"/>
            <a:ext cx="91440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nMP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0"/>
          <p:cNvSpPr/>
          <p:nvPr/>
        </p:nvSpPr>
        <p:spPr>
          <a:xfrm>
            <a:off x="195120" y="1628640"/>
            <a:ext cx="8753760" cy="49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волюция вычислительных техн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зкоуровневые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OSI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Microsoft Windows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 Passing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струмент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ntel® Math Kernel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ntel® Integrated Performance Prim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пиля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l® Vtun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mpl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l® Cluster St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ntel® Parallel St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4"/>
          <p:cNvSpPr/>
          <p:nvPr/>
        </p:nvSpPr>
        <p:spPr>
          <a:xfrm>
            <a:off x="2861280" y="189000"/>
            <a:ext cx="29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3"/>
          <p:cNvSpPr/>
          <p:nvPr/>
        </p:nvSpPr>
        <p:spPr>
          <a:xfrm>
            <a:off x="260280" y="1468440"/>
            <a:ext cx="842652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pragma omp parallel for reduction(+:gDotProdu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 i = 0; i &lt; N; i++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DotProduct += a[i] * b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op = omp_get_wtime()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sum = %f\n", gDotProduct)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time = %g\n", stop - start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3"/>
          <p:cNvSpPr/>
          <p:nvPr/>
        </p:nvSpPr>
        <p:spPr>
          <a:xfrm>
            <a:off x="326880" y="1730520"/>
            <a:ext cx="8328240" cy="19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 Passing Interface (M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Интерфейс Передачи Сообщен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 спецификация разработанная в 1993—1994 годах группой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PI Foru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 в состав которой входили представители академических и промышленных кругов. Она стала первым стандартом систем передачи сообщ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0" y="404640"/>
            <a:ext cx="91440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ssage Passing Interface (MP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3"/>
          <p:cNvSpPr/>
          <p:nvPr/>
        </p:nvSpPr>
        <p:spPr>
          <a:xfrm>
            <a:off x="0" y="1066680"/>
            <a:ext cx="9144000" cy="56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mpi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 (int argc, char *argv[]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rocNum, ProcRank, t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Status statu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Init (&amp;argc, &amp;argv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Comm_size (MPI_COMM_WORLD, &amp;ProcNum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Comm_rank (MPI_COMM_WORLD, &amp;ProcRa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(ProcRank == 0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Hello world from process %i \n", ProcRa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nt i = 1; i &lt; ProcNum; i++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Recv(&amp;tmp,1,MPI_INT,MPI_ANY_SOURCE,0,MPI_COMM_WORLD, &amp;statu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Hello world from process %i \n", tm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Send(&amp;ProcRank,1,MPI_INT,0,0,MPI_COMM_WORL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Finaliz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0" y="189000"/>
            <a:ext cx="91440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PI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Прим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4"/>
          <p:cNvSpPr/>
          <p:nvPr/>
        </p:nvSpPr>
        <p:spPr>
          <a:xfrm>
            <a:off x="250920" y="1341360"/>
            <a:ext cx="8642160" cy="34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 CHamele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MPI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бодно распространяемая реализация MPI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кет доступен в исходных кодах, поэтому допускает гибкую настрой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держивается работа в различных версиях ОС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 OS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в последних версия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soft Window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PIC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ответствует спецификац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PI-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держиваются различные коммуникационные среды (в т.ч. 10 Gigabit Ethernet, InfiniBand, Myrinet, Quadric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 не поддерживаются системы, гетерогенные по форматам хранения данных. Имеется версия с поддержкой пакет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4"/>
          <p:cNvSpPr/>
          <p:nvPr/>
        </p:nvSpPr>
        <p:spPr>
          <a:xfrm>
            <a:off x="2719440" y="189000"/>
            <a:ext cx="39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и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4"/>
          <p:cNvSpPr/>
          <p:nvPr/>
        </p:nvSpPr>
        <p:spPr>
          <a:xfrm>
            <a:off x="195120" y="1141560"/>
            <a:ext cx="894888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 (Local Area Multicomputer) M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source”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ющая спецификац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-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в значительной мере, спецификац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-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гетерогенные конфигурации, поддерживает паке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us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довлетворяе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I (Interoperable MPI)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держиваются различные коммуникационные системы (в т.ч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rine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I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ытка создания стандарта, обеспечивающего интероперабельность различных реализаци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 (http://impi.nist.gov/)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ся такими реализациями, к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/M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/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wlett-Packard MPI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ерсии 1.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dM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работать на метакластерных систем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4"/>
          <p:cNvSpPr/>
          <p:nvPr/>
        </p:nvSpPr>
        <p:spPr>
          <a:xfrm>
            <a:off x="392040" y="1339920"/>
            <a:ext cx="8229600" cy="24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 ® 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ит в соста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® Cluster Toolk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реализац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изированная для архитектур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роена на основ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йт в Интерне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http://www.inte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4"/>
          <p:cNvSpPr/>
          <p:nvPr/>
        </p:nvSpPr>
        <p:spPr>
          <a:xfrm>
            <a:off x="324000" y="1141560"/>
            <a:ext cx="849600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ит в соста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 Cluster Pack SD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а на работу в среде ОС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Windows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оступна, в том числе, по лиценз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DN Academic Alli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ит в соста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HPC Server 2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а 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CH2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дополнительные средства управления зада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с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кац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-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4"/>
          <p:cNvSpPr/>
          <p:nvPr/>
        </p:nvSpPr>
        <p:spPr>
          <a:xfrm>
            <a:off x="324000" y="1468440"/>
            <a:ext cx="8569080" cy="30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source”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-2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атываемая консорциумом представителей академических, научных и индустриальных кру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соответствие спецификац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-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различных 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различных коммуникационных ср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Прямоугольник 3"/>
          <p:cNvSpPr/>
          <p:nvPr/>
        </p:nvSpPr>
        <p:spPr>
          <a:xfrm>
            <a:off x="2071440" y="2276640"/>
            <a:ext cx="497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285480" y="398520"/>
            <a:ext cx="864396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 ® Math Kernel Library (MKL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Состав библиотеки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BLAS (3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уровня + расширение – уровень 1 для разреженных векторо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LAPAC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– вычислительная алгебра, в том числе решение спектральных задач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FT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дискретное преобразование Фурь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– в том числе многомерное. Многопоточная реализаци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ector Mathematical Library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– математические функци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ector Statistical Library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набор векторизованных генераторов случайных чисе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Солверы, предобуславливатели, средства поддержки численного решения дифференциальных уравнений и др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Оптимизирована для архитектур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el ®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68360" y="1341360"/>
            <a:ext cx="820728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8</a:t>
            </a: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способов достижения высокой производительности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ыбор вычислительной системы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ыбор модели (если задача решается методом математического моделирования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спользование эффективных вычислительных алгоритмо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спользование приёмов написания оптимального код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спользование оптимизированных библиотек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птимизация при компиляци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птимизация готовой программы на основе анализа  её выполнени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араллельное программирование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араллелизм данных (</a:t>
            </a:r>
            <a:r>
              <a:rPr b="0" lang="en-US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OpenMP, Cilk Plus)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араллелизм задач (</a:t>
            </a:r>
            <a:r>
              <a:rPr b="0" lang="en-US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MPI)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214200" y="259920"/>
            <a:ext cx="8715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 ®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egrated Perf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ance Primitiv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(IPP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Библиотека готовых компонентов для разработки мультимедийны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риложений для вычислительных платформ Intel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ключает модули для обработки сигналов и выполнения векторных и матричных операций, функции сжатия и распаковки речи и статических/динамических изображений, средства шифрования и обработки аудиоданных и текстовых строк и другое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el IPP обеспечивает прозрачное использование расширенных возможностей процессоров Intel, таких, как технология MMX, наборы команд Streaming SIMD Extensions. Библиотека Intel IPP оптимизирована для работы с процессорами компании Intel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Библиотека Intel IPP поддерживает 32- и 64-битные операционные системы Windows и Linux, включая встраиваемые версии, такие как Windows Mobile.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214200" y="189000"/>
            <a:ext cx="8715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 ® Threading Building Blocks (TBB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Библиотека готовых шаблоно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++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упрощающая разработку многопоточных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риложений, обеспечивая более высокий уровень абстракции при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распараллеливани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Многоплатформенность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Linux, Microsoft Windows, Mac OS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код написан на языке C++,  лучше Intel® TBB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® TBB хорошо подходит, если код в значительной степени объектно-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 и в нем широко используются шаблоны C++ и определяемые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елем типы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код написан на C или 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tra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учше выбрать OpenMP, поскольку этот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 лучше соответствует стилю структурного программирования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спользовании C++, если в программе преобладают операции обработки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ивов, OpenMP может оказаться удобнее с точки зрения сложности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ирования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395280" y="404280"/>
            <a:ext cx="8229600" cy="24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ИЛЯТОРЫ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возможностей автоматической оптимизации компилятора может дать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начительн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игрыш в производительности. Компилятор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ют большие возможности автоматической оптимизации приложени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3"/>
          <p:cNvSpPr/>
          <p:nvPr/>
        </p:nvSpPr>
        <p:spPr>
          <a:xfrm>
            <a:off x="-717480" y="3276720"/>
            <a:ext cx="360" cy="3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4"/>
          <p:cNvSpPr/>
          <p:nvPr/>
        </p:nvSpPr>
        <p:spPr>
          <a:xfrm>
            <a:off x="-457200" y="4797360"/>
            <a:ext cx="45673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635040" y="2112840"/>
            <a:ext cx="1666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6"/>
          <p:cNvSpPr/>
          <p:nvPr/>
        </p:nvSpPr>
        <p:spPr>
          <a:xfrm>
            <a:off x="179280" y="1484280"/>
            <a:ext cx="894888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 ® Vtun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plifier X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ограммный инструмент, позволяющий выявить и локализовать проблемы производительности П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различных показателей производи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бражение данных в различных режим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-wid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сходный код и процессорные инструк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потенциальных проблем производительности и    создание рекомендаций по их разреш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7"/>
          <p:cNvSpPr/>
          <p:nvPr/>
        </p:nvSpPr>
        <p:spPr>
          <a:xfrm>
            <a:off x="1518120" y="189000"/>
            <a:ext cx="60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1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tune</a:t>
            </a:r>
            <a:r>
              <a:rPr b="1" lang="pt-BR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M</a:t>
            </a:r>
            <a:r>
              <a:rPr b="1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mplifier X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213840" y="71280"/>
            <a:ext cx="89298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® Cluster Studio X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poser XE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илятор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C+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ran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ce Analyzer and Collect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араллельных приложени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PI Library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PI Benchmarks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ы производительност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Tun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plifier XE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тор производительнос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spector XE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струмент поиска ошибок работы с памятью, реализации многопоточности для приложени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C++, Fortran, C#.NE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213840" y="71280"/>
            <a:ext cx="8929800" cy="638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® Parallel Studi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isor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«кандидатов» на распараллеливание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er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® C++ Compiler, Intel® Threading Building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s, Intel® Integrated Performance Primitives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ntel® Parallel Debugger Extension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ector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ошибок использования памяти (утечки памяти, переполнение буфера, указатели) и многопоточности (блокировки, гонки за данными и т.д.) на основе анализа выполнения программы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fier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роизводительности, профилирование и оптимизация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лельных приложений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4"/>
          <p:cNvSpPr/>
          <p:nvPr/>
        </p:nvSpPr>
        <p:spPr>
          <a:xfrm>
            <a:off x="324000" y="1468440"/>
            <a:ext cx="8351640" cy="35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® Cil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разработки приложен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ычислительных систем с общей памя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разработки приложений, использующих в качестве ускорителей вычислений графические процессоры общего на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уг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4"/>
          <p:cNvSpPr/>
          <p:nvPr/>
        </p:nvSpPr>
        <p:spPr>
          <a:xfrm>
            <a:off x="1999080" y="18900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инстру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BC3C-B80B-43EC-8A6C-E3FD1023B851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304920" y="19162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волюция вычислительных технолог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90C9-5241-4AF0-953C-3CDFAB75B8D7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138240" y="12600"/>
            <a:ext cx="861048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фоннеймановской архитектуры к архитектуре параллель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неймановская архите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эволюционировала архитектура вычислительных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олюция программных техн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5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1797120" cy="199872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3"/>
          <p:cNvSpPr/>
          <p:nvPr/>
        </p:nvSpPr>
        <p:spPr>
          <a:xfrm>
            <a:off x="2195640" y="2421000"/>
            <a:ext cx="51130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неймановская архитектура последовательная, скалярная. В «классическом» фоннеймановском компьютере параллелизм отсутствует на всех уровн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ая последовательная модель программирования, ориентированная 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D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уры (по Флинну). Языки последовательного программир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Рисунок 3" descr="eniac02.jpg"/>
          <p:cNvPicPr/>
          <p:nvPr/>
        </p:nvPicPr>
        <p:blipFill>
          <a:blip r:embed="rId2"/>
          <a:stretch/>
        </p:blipFill>
        <p:spPr>
          <a:xfrm>
            <a:off x="6804000" y="1700280"/>
            <a:ext cx="1998720" cy="14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113C-DCA7-4FAA-8A90-DB780C279E59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250920" y="333360"/>
            <a:ext cx="8497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елю нужна производительность. Увеличение производительности позволя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ть новые, более сложные зада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ть старые задачи, но быстре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шать старые задачи, но с более высокой точ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Рисунок 7" descr="fonneumann++.png"/>
          <p:cNvPicPr/>
          <p:nvPr/>
        </p:nvPicPr>
        <p:blipFill>
          <a:blip r:embed="rId1"/>
          <a:stretch/>
        </p:blipFill>
        <p:spPr>
          <a:xfrm>
            <a:off x="250920" y="2421000"/>
            <a:ext cx="3651120" cy="3219480"/>
          </a:xfrm>
          <a:prstGeom prst="rect">
            <a:avLst/>
          </a:prstGeom>
          <a:ln w="0">
            <a:noFill/>
          </a:ln>
        </p:spPr>
      </p:pic>
      <p:sp>
        <p:nvSpPr>
          <p:cNvPr id="428" name="TextBox 9"/>
          <p:cNvSpPr/>
          <p:nvPr/>
        </p:nvSpPr>
        <p:spPr>
          <a:xfrm>
            <a:off x="4302000" y="2997360"/>
            <a:ext cx="353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ногие расшир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фоннеймановской архите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используют параллелизм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азном уров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F1FA-82A8-4D44-920E-D0D27420FE74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324000" y="981000"/>
            <a:ext cx="84978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тельные системы с распределённой памятью (кластеры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D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лассификации Флинна) от небольших кластеров до суперкомпьютеров, занимающих первые позиции в рейтинг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 500 Supercompu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тер - группа вычислительных узлов, объединённых высокоскоростной коммуникационной подсистемой и представляющая с точки зрения пользователя единый аппаратный ресур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468360" y="3213000"/>
            <a:ext cx="2927160" cy="20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Прямоугольник 3"/>
          <p:cNvSpPr/>
          <p:nvPr/>
        </p:nvSpPr>
        <p:spPr>
          <a:xfrm>
            <a:off x="179280" y="1413000"/>
            <a:ext cx="864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ые инструменты разработки высокопроизводительных прилож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5"/>
          <p:cNvSpPr/>
          <p:nvPr/>
        </p:nvSpPr>
        <p:spPr>
          <a:xfrm>
            <a:off x="457200" y="1405080"/>
            <a:ext cx="8686800" cy="33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ные вызовы операционной системы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/Linu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C (InterProcess Communications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ованные кана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памя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аф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0" y="260280"/>
            <a:ext cx="91440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изкоуровневые сред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5T18:01:55Z</dcterms:created>
  <dc:creator>sergei</dc:creator>
  <dc:description/>
  <dc:language>en-US</dc:language>
  <cp:lastModifiedBy>sergei</cp:lastModifiedBy>
  <dcterms:modified xsi:type="dcterms:W3CDTF">2012-05-29T18:46:10Z</dcterms:modified>
  <cp:revision>77</cp:revision>
  <dc:subject/>
  <dc:title>Слайд 1</dc:title>
</cp:coreProperties>
</file>