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4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1D2-8D60-4957-8816-E9C4FE72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38C-13EE-41AB-A43A-A74321B6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7A7-5204-448F-864A-93005B18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779-67A6-4AF1-BE8F-A537FF6F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4AB7-0FB7-4DC5-960D-244558C5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3B05-0FC1-430B-AD2A-FB751A68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7B68-9F75-42F2-825C-7A8D7D54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AE66-F9FF-4BA5-B580-58072614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AE53-14C5-4CF4-A235-107DBE6C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FB9E-D34F-4FA6-A339-DC733C30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9C30-1B10-4297-BA53-477E0EF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59E-F845-4269-AA7F-14F9F72A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B18A-7117-445D-8BD2-AECFFA29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4EA-A5C2-42EC-A2D3-61BA4F75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2C4A-CB1D-41EE-9676-3038D63E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DFDE-DF2D-420A-A677-3BF20C4C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CD6-2BA7-49EB-83BF-4EB2132E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34CDC-46BF-4AB4-98C8-E2441A38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DE4E-A1A8-4CC1-9852-DA75125B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C408-EB6A-4AEC-A7E5-98F6BA22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C194-8A7E-4805-90F6-FF43F7D6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7D987-3187-4AF5-A879-02B71093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F89-D6B7-48E4-A20D-28FFDFAF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49BD-485E-4F13-B15F-F4CCB680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AC32-E27C-4A1A-BFBA-423101CD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5FC8F-9235-467F-9FDF-38893413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8533-A62F-41F0-AFFA-FB542AA5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91DA-7361-4DEA-A052-B1C753CC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97751-BDA7-41AC-B0DE-E3BE1990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D72A-B82C-44DE-837A-0C7562F6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E6650-597D-4E57-B58A-945E8D3C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DD84-292E-449A-9A45-AB926870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FB3EB-01EF-4FC4-ADA3-AB4DFDC0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891-B8A8-47AD-863C-B7F84E50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986E8-43BE-4529-9416-D55BAF16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A4EC-DED5-4A46-AAE8-8287276C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C53E-3A59-4633-B1F5-7A790EC3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E4795-F945-403B-ADEA-ABA9243A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D1FB0-1365-4507-A630-8D26128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C6D8-73F1-4D1B-8855-A165B802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0D21-C407-4C29-AEF6-3CDA86FB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E93DD-7AD7-4AD3-BDDC-A3E4C701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CED54-EE2B-4C7B-A240-F84280AC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4C16D-70E2-41BF-B626-14982479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3B3-9AA7-42F2-8451-F4B9AE59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BE487-102C-480C-8928-BBEF83B2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3ACA9-6F2A-4138-90EB-0930F979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F0B86-A06F-4B82-A51E-E3AB5A3C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7FBCA-3B6E-4B0E-BC8E-DA393907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FE714-E199-48AC-AFDE-3C22E09A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F1903-DE65-4911-BE65-0E22ADBC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F430-E2E2-4942-BA58-1A3463F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55063-6EE2-47F2-934B-64AA3615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B25C-1CD8-47B2-A640-AC840489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617D3-FBEB-46ED-91A6-5894893E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52E-0170-45E6-9157-65EF1A60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327BD-498B-489D-B9EE-F824D7AE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A4FD0-46FD-4D7A-8A76-5E275D97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2B0F9-8713-4B2B-80BE-4E11DA4B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7AC68-8EE7-4CCA-A0AF-29EA2537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E2F3C-096D-4D72-9242-C6C9E718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0716-E64A-4C0C-A002-464CD285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0429C-C382-4F95-8B0B-2074D6F3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086D-4D90-48FC-A233-9261F217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BF77A-B86D-4DE2-AB5E-CCF0AEE6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D1B8-718E-4407-8424-B80B3555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DA7-F105-47E7-90CC-D4F93B49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0AD16-E8D2-4143-9A78-0CBA14C8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A4C26-0562-4C75-AA95-78B55628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81895-8ECC-43FD-8111-B30D0C8C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F55-6B69-4631-A1A9-A83EED2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65A-649B-41C6-A930-9D6895D8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FC1-57D2-4E3B-8066-99527D135BB7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CD6E-5803-4A06-9996-9B5387D737B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88A-CCF1-4E0C-95BE-5E249ED87B15}" type="datetime">
              <a:rPr b="0" lang="ru-RU" sz="1400" spc="-1" strike="noStrike">
                <a:solidFill>
                  <a:srgbClr val="dde9ec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5349-057D-4F57-85C0-6DD3CE349724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63F6-3002-4457-B82E-BCD5AE432741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53AC-E42D-4263-A6D3-890D6A97147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A269-C0AC-437D-8819-F93095F074CE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B0D0-FEC2-46A5-B8D4-2859C9A9E36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B9E0-F6D8-45D5-9A73-B8E5A5AA7342}" type="datetime">
              <a:rPr b="0" lang="ru-RU" sz="1400" spc="-1" strike="noStrike">
                <a:solidFill>
                  <a:srgbClr val="dde9ec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5A3D-7E67-4EA7-BDED-D58318C2FDF6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82AC-0E6C-4263-B515-17C918AC1E71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8A6F-F316-447D-B5EC-3E59FA16362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C28B-33A6-435F-A9D5-50BF3888FD5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1908000" y="119700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539640" y="2349360"/>
            <a:ext cx="784872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кция 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хуровневая система управления БПЛА для реализации мультиагентного взаимодейств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2"/>
          <p:cNvSpPr/>
          <p:nvPr/>
        </p:nvSpPr>
        <p:spPr>
          <a:xfrm>
            <a:off x="755640" y="40464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Лаборатория Системного ПРограммирова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ИНформационных Технологий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3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4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5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72" name="Picture 46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47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8238-C4A5-4FDA-910C-D23372B80F3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Verdana"/>
              </a:rPr>
              <a:t>БПЛА для автономной групп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8" name="Rectangle 43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4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5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51" name="Picture 46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47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3" name="Picture 9" descr="05-БеспилотныйСамолет"/>
          <p:cNvPicPr/>
          <p:nvPr/>
        </p:nvPicPr>
        <p:blipFill>
          <a:blip r:embed="rId2"/>
          <a:stretch/>
        </p:blipFill>
        <p:spPr>
          <a:xfrm>
            <a:off x="357120" y="1628640"/>
            <a:ext cx="1714680" cy="1952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1" descr="06-ПродукцияЛаборатории"/>
          <p:cNvPicPr/>
          <p:nvPr/>
        </p:nvPicPr>
        <p:blipFill>
          <a:blip r:embed="rId3"/>
          <a:stretch/>
        </p:blipFill>
        <p:spPr>
          <a:xfrm>
            <a:off x="2189160" y="2700360"/>
            <a:ext cx="2382840" cy="2143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4"/>
          <a:stretch/>
        </p:blipFill>
        <p:spPr>
          <a:xfrm>
            <a:off x="285840" y="3914640"/>
            <a:ext cx="1741320" cy="18828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51"/>
          <p:cNvSpPr/>
          <p:nvPr/>
        </p:nvSpPr>
        <p:spPr>
          <a:xfrm>
            <a:off x="4572000" y="1500120"/>
            <a:ext cx="464328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Размеры: Размах крыла 2 м. Длина 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1,</a:t>
            </a: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2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Полётный вес: от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 2</a:t>
            </a: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 – 2,1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Полезная нагрузка: 0,6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Дальность полёта: 10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20к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Время полёта: до 1 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Высота полёта: до 1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Материалы: углепластик, Бальса (дерево), стеклоткань, 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EPP </a:t>
            </a: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(вспененный пенополиэтилен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Двигатель: электрический б/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АКБ: 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LiPo, LiFePO4</a:t>
            </a: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2,1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d0d0d"/>
                </a:solidFill>
                <a:latin typeface="Calibri"/>
              </a:rPr>
              <a:t>5 m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10C2-AD9F-443A-B27A-CCDA16F9504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Verdana"/>
              </a:rPr>
              <a:t>Верхний уровень 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62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Прямая соединительная линия 12"/>
          <p:cNvSpPr/>
          <p:nvPr/>
        </p:nvSpPr>
        <p:spPr>
          <a:xfrm>
            <a:off x="152280" y="6340320"/>
            <a:ext cx="9144000" cy="180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" descr="D:\фото смыс\local_cost_router_gsm_pstn_gateway_fixed.summ.jpg"/>
          <p:cNvPicPr/>
          <p:nvPr/>
        </p:nvPicPr>
        <p:blipFill>
          <a:blip r:embed="rId2"/>
          <a:stretch/>
        </p:blipFill>
        <p:spPr>
          <a:xfrm>
            <a:off x="5180040" y="4437000"/>
            <a:ext cx="1552680" cy="14288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D:\фото смыс\img_2879.jpg"/>
          <p:cNvPicPr/>
          <p:nvPr/>
        </p:nvPicPr>
        <p:blipFill>
          <a:blip r:embed="rId3"/>
          <a:stretch/>
        </p:blipFill>
        <p:spPr>
          <a:xfrm>
            <a:off x="3205080" y="3573360"/>
            <a:ext cx="2014560" cy="252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D:\фото смыс\xbee base.jpg"/>
          <p:cNvPicPr/>
          <p:nvPr/>
        </p:nvPicPr>
        <p:blipFill>
          <a:blip r:embed="rId4"/>
          <a:stretch/>
        </p:blipFill>
        <p:spPr>
          <a:xfrm>
            <a:off x="1555920" y="4983120"/>
            <a:ext cx="1071360" cy="1071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D:\фото смыс\img_2879.jpg"/>
          <p:cNvPicPr/>
          <p:nvPr/>
        </p:nvPicPr>
        <p:blipFill>
          <a:blip r:embed="rId5"/>
          <a:stretch/>
        </p:blipFill>
        <p:spPr>
          <a:xfrm>
            <a:off x="6843600" y="3697200"/>
            <a:ext cx="2000520" cy="2511360"/>
          </a:xfrm>
          <a:prstGeom prst="rect">
            <a:avLst/>
          </a:prstGeom>
          <a:ln w="0">
            <a:noFill/>
          </a:ln>
        </p:spPr>
      </p:pic>
      <p:cxnSp>
        <p:nvCxnSpPr>
          <p:cNvPr id="369" name="Скругленная соединительная линия 17"/>
          <p:cNvCxnSpPr/>
          <p:nvPr/>
        </p:nvCxnSpPr>
        <p:spPr>
          <a:xfrm flipV="1" rot="10800000">
            <a:off x="2420280" y="5482080"/>
            <a:ext cx="1143720" cy="214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370" name="Скругленная соединительная линия 18"/>
          <p:cNvCxnSpPr/>
          <p:nvPr/>
        </p:nvCxnSpPr>
        <p:spPr>
          <a:xfrm flipV="1" rot="10800000">
            <a:off x="6271560" y="4911480"/>
            <a:ext cx="1000800" cy="786240"/>
          </a:xfrm>
          <a:prstGeom prst="curvedConnector5">
            <a:avLst>
              <a:gd name="adj1" fmla="val 49982"/>
              <a:gd name="adj2" fmla="val 49977"/>
              <a:gd name="adj3" fmla="val 49982"/>
            </a:avLst>
          </a:prstGeom>
          <a:ln w="50760">
            <a:solidFill>
              <a:srgbClr val="000000"/>
            </a:solidFill>
            <a:miter/>
          </a:ln>
        </p:spPr>
      </p:cxnSp>
      <p:sp>
        <p:nvSpPr>
          <p:cNvPr id="371" name="TextBox 19"/>
          <p:cNvSpPr/>
          <p:nvPr/>
        </p:nvSpPr>
        <p:spPr>
          <a:xfrm>
            <a:off x="914400" y="319716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bee Pro Wireless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оде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льность 1,5 к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4516200" y="3197160"/>
            <a:ext cx="358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рнет модем –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1"/>
          <p:cNvSpPr/>
          <p:nvPr/>
        </p:nvSpPr>
        <p:spPr>
          <a:xfrm>
            <a:off x="914400" y="1339920"/>
            <a:ext cx="7620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глобальной ми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ние начальной программы полёта для каждого БПЛА-аг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бор и обработка информации полученной групп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1"/>
          <p:cNvSpPr/>
          <p:nvPr/>
        </p:nvSpPr>
        <p:spPr>
          <a:xfrm>
            <a:off x="500040" y="1214280"/>
            <a:ext cx="8143920" cy="5000760"/>
          </a:xfrm>
          <a:prstGeom prst="rect">
            <a:avLst/>
          </a:prstGeom>
          <a:solidFill>
            <a:srgbClr val="638cae">
              <a:alpha val="20000"/>
            </a:srgbClr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C230-F158-46B6-9602-A5109058916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24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Verdana"/>
              </a:rPr>
              <a:t>Средний уровень</a:t>
            </a:r>
            <a:br>
              <a:rPr sz="28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80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Прямая соединительная линия 11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D:\фото смыс\самолетики\самолёт обведенный.JPG"/>
          <p:cNvPicPr/>
          <p:nvPr/>
        </p:nvPicPr>
        <p:blipFill>
          <a:blip r:embed="rId2"/>
          <a:stretch/>
        </p:blipFill>
        <p:spPr>
          <a:xfrm>
            <a:off x="500040" y="3643200"/>
            <a:ext cx="2363760" cy="2571840"/>
          </a:xfrm>
          <a:prstGeom prst="rect">
            <a:avLst/>
          </a:prstGeom>
          <a:ln w="0">
            <a:noFill/>
          </a:ln>
        </p:spPr>
      </p:pic>
      <p:sp>
        <p:nvSpPr>
          <p:cNvPr id="384" name="Скругленная прямоугольная выноска 14"/>
          <p:cNvSpPr/>
          <p:nvPr/>
        </p:nvSpPr>
        <p:spPr>
          <a:xfrm>
            <a:off x="2928960" y="2924280"/>
            <a:ext cx="5786280" cy="2077920"/>
          </a:xfrm>
          <a:prstGeom prst="wedgeRoundRectCallout">
            <a:avLst>
              <a:gd name="adj1" fmla="val -77500"/>
              <a:gd name="adj2" fmla="val 47930"/>
              <a:gd name="adj3" fmla="val 16667"/>
            </a:avLst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5"/>
          <p:cNvSpPr/>
          <p:nvPr/>
        </p:nvSpPr>
        <p:spPr>
          <a:xfrm>
            <a:off x="3059280" y="3484440"/>
            <a:ext cx="561636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цессор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 A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ства связ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Wi-F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802.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ширение памяти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 SD card sl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6"/>
          <p:cNvSpPr/>
          <p:nvPr/>
        </p:nvSpPr>
        <p:spPr>
          <a:xfrm>
            <a:off x="4572000" y="3063960"/>
            <a:ext cx="29527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Микрокомпьютер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0" descr="D:\фото смыс\модем.jpg"/>
          <p:cNvPicPr/>
          <p:nvPr/>
        </p:nvPicPr>
        <p:blipFill>
          <a:blip r:embed="rId3"/>
          <a:stretch/>
        </p:blipFill>
        <p:spPr>
          <a:xfrm>
            <a:off x="3857760" y="5286240"/>
            <a:ext cx="930240" cy="928800"/>
          </a:xfrm>
          <a:prstGeom prst="rect">
            <a:avLst/>
          </a:prstGeom>
          <a:ln w="0">
            <a:noFill/>
          </a:ln>
        </p:spPr>
      </p:pic>
      <p:sp>
        <p:nvSpPr>
          <p:cNvPr id="388" name="TextBox 18"/>
          <p:cNvSpPr/>
          <p:nvPr/>
        </p:nvSpPr>
        <p:spPr>
          <a:xfrm>
            <a:off x="3505320" y="5072040"/>
            <a:ext cx="171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M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кругленная прямоугольная выноска 19"/>
          <p:cNvSpPr/>
          <p:nvPr/>
        </p:nvSpPr>
        <p:spPr>
          <a:xfrm>
            <a:off x="3059280" y="5084640"/>
            <a:ext cx="2520720" cy="1008360"/>
          </a:xfrm>
          <a:prstGeom prst="wedgeRoundRectCallout">
            <a:avLst>
              <a:gd name="adj1" fmla="val -111865"/>
              <a:gd name="adj2" fmla="val -48564"/>
              <a:gd name="adj3" fmla="val 16667"/>
            </a:avLst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0"/>
          <p:cNvSpPr/>
          <p:nvPr/>
        </p:nvSpPr>
        <p:spPr>
          <a:xfrm>
            <a:off x="395280" y="1413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ультиагент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ен информацией между БПЛА группы и с базовой стан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программы автопи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1"/>
          <p:cNvSpPr/>
          <p:nvPr/>
        </p:nvSpPr>
        <p:spPr>
          <a:xfrm>
            <a:off x="395280" y="1341360"/>
            <a:ext cx="8429760" cy="4856400"/>
          </a:xfrm>
          <a:prstGeom prst="rect">
            <a:avLst/>
          </a:prstGeom>
          <a:solidFill>
            <a:srgbClr val="727ca3">
              <a:alpha val="20000"/>
            </a:srgbClr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DB5-FA84-449C-B951-9A0D40FFB5F6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7929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Verdana"/>
              </a:rPr>
              <a:t>Нижний уровень</a:t>
            </a:r>
            <a:br>
              <a:rPr sz="2800"/>
            </a:b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97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Прямая соединительная линия 11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D:\фото смыс\самолетики\самолёт обведенный.JPG"/>
          <p:cNvPicPr/>
          <p:nvPr/>
        </p:nvPicPr>
        <p:blipFill>
          <a:blip r:embed="rId2"/>
          <a:stretch/>
        </p:blipFill>
        <p:spPr>
          <a:xfrm>
            <a:off x="500040" y="3643200"/>
            <a:ext cx="2143080" cy="250056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6"/>
          <p:cNvSpPr/>
          <p:nvPr/>
        </p:nvSpPr>
        <p:spPr>
          <a:xfrm>
            <a:off x="1979640" y="1989000"/>
            <a:ext cx="6480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икроконтрол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иада инерциальных датчиков (пьезогироскопы по трем ося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ехосный магнитометр  (определение азимута движ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рубка Прандтля (скорость и высо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GPS модуль U-Box  с частотой 4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тчики горизон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пи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шифратор ШИМ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кругленная прямоугольная выноска 15"/>
          <p:cNvSpPr/>
          <p:nvPr/>
        </p:nvSpPr>
        <p:spPr>
          <a:xfrm>
            <a:off x="1928880" y="1916280"/>
            <a:ext cx="6530760" cy="2655720"/>
          </a:xfrm>
          <a:prstGeom prst="wedgeRoundRectCallout">
            <a:avLst>
              <a:gd name="adj1" fmla="val -62365"/>
              <a:gd name="adj2" fmla="val 59300"/>
              <a:gd name="adj3" fmla="val 16667"/>
            </a:avLst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"/>
          <p:cNvSpPr/>
          <p:nvPr/>
        </p:nvSpPr>
        <p:spPr>
          <a:xfrm>
            <a:off x="324000" y="1219320"/>
            <a:ext cx="82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исполнительными механизмами и дополнительным оборудова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6786720" y="5214960"/>
            <a:ext cx="1411200" cy="714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D:\фото смыс\мотор.jpg"/>
          <p:cNvPicPr/>
          <p:nvPr/>
        </p:nvPicPr>
        <p:blipFill>
          <a:blip r:embed="rId4"/>
          <a:stretch/>
        </p:blipFill>
        <p:spPr>
          <a:xfrm>
            <a:off x="4572000" y="5214960"/>
            <a:ext cx="1428840" cy="855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D:\фото смыс\аккумулятор.jpg"/>
          <p:cNvPicPr/>
          <p:nvPr/>
        </p:nvPicPr>
        <p:blipFill>
          <a:blip r:embed="rId5"/>
          <a:stretch/>
        </p:blipFill>
        <p:spPr>
          <a:xfrm>
            <a:off x="5857920" y="5286240"/>
            <a:ext cx="1071360" cy="8017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0"/>
          <p:cNvSpPr/>
          <p:nvPr/>
        </p:nvSpPr>
        <p:spPr>
          <a:xfrm>
            <a:off x="4782960" y="4857840"/>
            <a:ext cx="122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гател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1"/>
          <p:cNvSpPr/>
          <p:nvPr/>
        </p:nvSpPr>
        <p:spPr>
          <a:xfrm>
            <a:off x="5785200" y="4857840"/>
            <a:ext cx="1401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кумулято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2"/>
          <p:cNvSpPr/>
          <p:nvPr/>
        </p:nvSpPr>
        <p:spPr>
          <a:xfrm>
            <a:off x="7000920" y="4786200"/>
            <a:ext cx="1136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уля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рото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кругленная прямоугольная выноска 23"/>
          <p:cNvSpPr/>
          <p:nvPr/>
        </p:nvSpPr>
        <p:spPr>
          <a:xfrm>
            <a:off x="4857840" y="4786200"/>
            <a:ext cx="3286080" cy="1214640"/>
          </a:xfrm>
          <a:prstGeom prst="wedgeRoundRectCallout">
            <a:avLst>
              <a:gd name="adj1" fmla="val -158768"/>
              <a:gd name="adj2" fmla="val -48115"/>
              <a:gd name="adj3" fmla="val 16667"/>
            </a:avLst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D:\фото смыс\сервомеханизмы.jpg"/>
          <p:cNvPicPr/>
          <p:nvPr/>
        </p:nvPicPr>
        <p:blipFill>
          <a:blip r:embed="rId6"/>
          <a:stretch/>
        </p:blipFill>
        <p:spPr>
          <a:xfrm>
            <a:off x="571680" y="2143080"/>
            <a:ext cx="1002960" cy="642960"/>
          </a:xfrm>
          <a:prstGeom prst="rect">
            <a:avLst/>
          </a:prstGeom>
          <a:ln w="0">
            <a:noFill/>
          </a:ln>
        </p:spPr>
      </p:pic>
      <p:sp>
        <p:nvSpPr>
          <p:cNvPr id="412" name="TextBox 25"/>
          <p:cNvSpPr/>
          <p:nvPr/>
        </p:nvSpPr>
        <p:spPr>
          <a:xfrm>
            <a:off x="500040" y="1928880"/>
            <a:ext cx="1335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Actu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кругленная прямоугольная выноска 26"/>
          <p:cNvSpPr/>
          <p:nvPr/>
        </p:nvSpPr>
        <p:spPr>
          <a:xfrm>
            <a:off x="500040" y="1928880"/>
            <a:ext cx="1335240" cy="928800"/>
          </a:xfrm>
          <a:prstGeom prst="wedgeRoundRectCallout">
            <a:avLst>
              <a:gd name="adj1" fmla="val -3421"/>
              <a:gd name="adj2" fmla="val 194166"/>
              <a:gd name="adj3" fmla="val 16667"/>
            </a:avLst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7"/>
          <p:cNvSpPr/>
          <p:nvPr/>
        </p:nvSpPr>
        <p:spPr>
          <a:xfrm>
            <a:off x="1500120" y="5357880"/>
            <a:ext cx="157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ячё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-Po 150m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ая прямоугольная выноска 28"/>
          <p:cNvSpPr/>
          <p:nvPr/>
        </p:nvSpPr>
        <p:spPr>
          <a:xfrm>
            <a:off x="1571760" y="5357880"/>
            <a:ext cx="1357200" cy="785880"/>
          </a:xfrm>
          <a:prstGeom prst="wedgeRoundRectCallout">
            <a:avLst>
              <a:gd name="adj1" fmla="val -84416"/>
              <a:gd name="adj2" fmla="val -105106"/>
              <a:gd name="adj3" fmla="val 16667"/>
            </a:avLst>
          </a:prstGeom>
          <a:noFill/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31"/>
          <p:cNvSpPr/>
          <p:nvPr/>
        </p:nvSpPr>
        <p:spPr>
          <a:xfrm>
            <a:off x="249120" y="1214280"/>
            <a:ext cx="8645760" cy="5000760"/>
          </a:xfrm>
          <a:prstGeom prst="rect">
            <a:avLst/>
          </a:prstGeom>
          <a:solidFill>
            <a:srgbClr val="a6a6a6">
              <a:alpha val="20000"/>
            </a:srgbClr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710F-6871-4F96-9B20-5EC78DF1982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9328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Две задачи для БПЛА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22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Прямоугольник 11"/>
          <p:cNvSpPr/>
          <p:nvPr/>
        </p:nvSpPr>
        <p:spPr>
          <a:xfrm>
            <a:off x="755640" y="1374840"/>
            <a:ext cx="7667640" cy="31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Мониторинг мест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иторин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кологической ситу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иск источ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игн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асательны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душные съём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ен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я, геологическая и метерологическая разве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следов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уднодоступных или опасных мест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птимизация полё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2"/>
          <p:cNvSpPr/>
          <p:nvPr/>
        </p:nvSpPr>
        <p:spPr>
          <a:xfrm>
            <a:off x="468360" y="4797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эффективнее решаются группой БП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2CE0-D1D9-450E-B8A5-935FCB2DF12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932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Verdana"/>
              </a:rPr>
              <a:t>Исследование экологической обстановк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31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Прямоугольник 12"/>
          <p:cNvSpPr/>
          <p:nvPr/>
        </p:nvSpPr>
        <p:spPr>
          <a:xfrm>
            <a:off x="0" y="1197000"/>
            <a:ext cx="914400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ирается тип 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пример – поиск нефтяных пятен и источника их образова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ритория разделяется на участки,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ются отдельные 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каждого члена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икрокомпьютер каждого БПЛА групп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ывается глобальная 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ьная задач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го самолета-аг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агент приступает к выполнению поставленной ему зада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накопленной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жду агентами и при необходимости взаимное уточнение отдельных задач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ые наземные ста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еспечивая связь с центром обработки данных  (ЦОД),  принимают/передают информацию от БП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ная в ЦОД-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я обрабатывается и визуализиру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казчика (выдается карта с нанесенными исследуемыми характеристик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обратной связи с мобильными агентами (БПЛА) позволяет оператив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из ЦОДа инструк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корректировке их зад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22FF-40CE-4604-9803-9A10FCCB9D0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Другие задачи мониторинга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1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40" name="Picture 12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13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Прямоугольник 14"/>
          <p:cNvSpPr/>
          <p:nvPr/>
        </p:nvSpPr>
        <p:spPr>
          <a:xfrm>
            <a:off x="1638360" y="2006640"/>
            <a:ext cx="588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логоразвед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газо- и нефте- провод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линий электропере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лесных пож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незаконных вырубок л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82C4-A0B8-48AE-B8C7-891BA9E3693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92920" cy="9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Задачи оптимизации полета</a:t>
            </a:r>
            <a:br>
              <a:rPr sz="2800"/>
            </a:br>
            <a:endParaRPr b="0" lang="en-US" sz="24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48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Прямоугольник 11"/>
          <p:cNvSpPr/>
          <p:nvPr/>
        </p:nvSpPr>
        <p:spPr>
          <a:xfrm>
            <a:off x="1187280" y="1989000"/>
            <a:ext cx="67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оптимальной высоты пол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точности радиопеленгато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мизация полета за счет использования восходящих термических п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27A-5C07-47A2-885B-E5087905E78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93280" cy="7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Использование восходящих термических потоков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57" name="Picture 1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1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9" name="Picture 3" descr=""/>
          <p:cNvPicPr/>
          <p:nvPr/>
        </p:nvPicPr>
        <p:blipFill>
          <a:blip r:embed="rId2"/>
          <a:stretch/>
        </p:blipFill>
        <p:spPr>
          <a:xfrm>
            <a:off x="857160" y="1285920"/>
            <a:ext cx="7429680" cy="3533760"/>
          </a:xfrm>
          <a:prstGeom prst="rect">
            <a:avLst/>
          </a:prstGeom>
          <a:ln w="0">
            <a:noFill/>
          </a:ln>
        </p:spPr>
      </p:pic>
      <p:sp>
        <p:nvSpPr>
          <p:cNvPr id="460" name="TextBox 4"/>
          <p:cNvSpPr/>
          <p:nvPr/>
        </p:nvSpPr>
        <p:spPr>
          <a:xfrm>
            <a:off x="1241640" y="4857840"/>
            <a:ext cx="6660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времени полёта в 4 ра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Подъем в термическом потоке  и план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Использование набегающего пото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подзарядки аккумулят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2B0A-CF8C-4851-B030-766432E262E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Постановка задачи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67" name="Picture 1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1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Picture 8" descr=""/>
          <p:cNvPicPr/>
          <p:nvPr/>
        </p:nvPicPr>
        <p:blipFill>
          <a:blip r:embed="rId2"/>
          <a:stretch/>
        </p:blipFill>
        <p:spPr>
          <a:xfrm>
            <a:off x="1714680" y="1484280"/>
            <a:ext cx="5715000" cy="244800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8"/>
          <p:cNvSpPr/>
          <p:nvPr/>
        </p:nvSpPr>
        <p:spPr>
          <a:xfrm>
            <a:off x="6377760" y="5300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6" descr=""/>
          <p:cNvPicPr/>
          <p:nvPr/>
        </p:nvPicPr>
        <p:blipFill>
          <a:blip r:embed="rId3"/>
          <a:stretch/>
        </p:blipFill>
        <p:spPr>
          <a:xfrm>
            <a:off x="1033560" y="4307040"/>
            <a:ext cx="5410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B1AF-CA04-4DAB-8676-09B03058D34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ff6600"/>
                </a:solidFill>
                <a:latin typeface="Verdana"/>
              </a:rPr>
              <a:t>Мобильные роботы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80" name="Picture 1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Picture 12" descr=""/>
          <p:cNvPicPr/>
          <p:nvPr/>
        </p:nvPicPr>
        <p:blipFill>
          <a:blip r:embed="rId2"/>
          <a:stretch/>
        </p:blipFill>
        <p:spPr>
          <a:xfrm>
            <a:off x="826920" y="1252440"/>
            <a:ext cx="72741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7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905200" cy="1876320"/>
          </a:xfrm>
          <a:prstGeom prst="rect">
            <a:avLst/>
          </a:prstGeom>
          <a:ln w="0">
            <a:noFill/>
          </a:ln>
        </p:spPr>
      </p:pic>
      <p:sp>
        <p:nvSpPr>
          <p:cNvPr id="475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DFEB-6010-4A62-8804-BDF0D52584D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Алгоритм 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SPSA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0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81" name="Picture 11" descr="ЛоготипСПРИНТ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 Box 12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3" name="Picture 5" descr=""/>
          <p:cNvPicPr/>
          <p:nvPr/>
        </p:nvPicPr>
        <p:blipFill>
          <a:blip r:embed="rId3"/>
          <a:stretch/>
        </p:blipFill>
        <p:spPr>
          <a:xfrm>
            <a:off x="1000080" y="3714840"/>
            <a:ext cx="6819840" cy="2381040"/>
          </a:xfrm>
          <a:prstGeom prst="rect">
            <a:avLst/>
          </a:prstGeom>
          <a:ln w="0">
            <a:noFill/>
          </a:ln>
        </p:spPr>
      </p:pic>
      <p:sp>
        <p:nvSpPr>
          <p:cNvPr id="484" name="TextBox 14"/>
          <p:cNvSpPr/>
          <p:nvPr/>
        </p:nvSpPr>
        <p:spPr>
          <a:xfrm>
            <a:off x="1087560" y="1413000"/>
            <a:ext cx="5257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орка с распределени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рнулли , г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обные возмуще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A4E1-2162-44CA-839A-8DE6FEE07A6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Алгоритм поиска центра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0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93" name="Picture 11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 Box 12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6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61" descr=""/>
          <p:cNvPicPr/>
          <p:nvPr/>
        </p:nvPicPr>
        <p:blipFill>
          <a:blip r:embed="rId2"/>
          <a:stretch/>
        </p:blipFill>
        <p:spPr>
          <a:xfrm>
            <a:off x="590400" y="1198440"/>
            <a:ext cx="3981600" cy="5110200"/>
          </a:xfrm>
          <a:prstGeom prst="rect">
            <a:avLst/>
          </a:prstGeom>
          <a:ln w="0">
            <a:noFill/>
          </a:ln>
        </p:spPr>
      </p:pic>
      <p:sp>
        <p:nvSpPr>
          <p:cNvPr id="498" name="Прямоугольник 16"/>
          <p:cNvSpPr/>
          <p:nvPr/>
        </p:nvSpPr>
        <p:spPr>
          <a:xfrm>
            <a:off x="4572000" y="1290600"/>
            <a:ext cx="4572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г 1: Инициализация и подбор коэффициентов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г 2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ие вектора пробного возмущения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г 3: Переход к новой точке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г 4: оценка скорости подъема БПЛА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г 5: расчет квазиградиента 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г 6: Обновление центра термика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г 7: Итерация или прекращения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аг 8: Восхождение в  потоках возду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CE8B-2118-4549-9EE1-F0245AF67DD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3944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Verdana"/>
              </a:rPr>
              <a:t>Использование системы термических потоков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1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06" name="Picture 12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Text Box 13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4" descr="D:\фото смыс\fig3.jpg"/>
          <p:cNvPicPr/>
          <p:nvPr/>
        </p:nvPicPr>
        <p:blipFill>
          <a:blip r:embed="rId2"/>
          <a:stretch/>
        </p:blipFill>
        <p:spPr>
          <a:xfrm>
            <a:off x="214200" y="1285920"/>
            <a:ext cx="4103640" cy="3071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D:\фото смыс\fig2.jpg"/>
          <p:cNvPicPr/>
          <p:nvPr/>
        </p:nvPicPr>
        <p:blipFill>
          <a:blip r:embed="rId3"/>
          <a:stretch/>
        </p:blipFill>
        <p:spPr>
          <a:xfrm>
            <a:off x="4857840" y="1285920"/>
            <a:ext cx="4071960" cy="304812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3"/>
          <p:cNvSpPr/>
          <p:nvPr/>
        </p:nvSpPr>
        <p:spPr>
          <a:xfrm>
            <a:off x="3678120" y="4500720"/>
            <a:ext cx="17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𝑏 −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𝑟𝑐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2472480" y="5072040"/>
            <a:ext cx="4199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𝑏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игрыш в энергии, полученный от тер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𝑐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ход энергии каждого БПЛА, летящего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ейсерской скор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радиус термического пот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фон1"/>
          <p:cNvPicPr/>
          <p:nvPr/>
        </p:nvPicPr>
        <p:blipFill>
          <a:blip r:embed="rId1"/>
          <a:stretch/>
        </p:blipFill>
        <p:spPr>
          <a:xfrm>
            <a:off x="0" y="-747720"/>
            <a:ext cx="9180360" cy="7605720"/>
          </a:xfrm>
          <a:prstGeom prst="rect">
            <a:avLst/>
          </a:prstGeom>
          <a:ln w="0">
            <a:noFill/>
          </a:ln>
        </p:spPr>
      </p:pic>
      <p:sp>
        <p:nvSpPr>
          <p:cNvPr id="513" name="WordArt 3"/>
          <p:cNvSpPr txBox="1"/>
          <p:nvPr/>
        </p:nvSpPr>
        <p:spPr>
          <a:xfrm>
            <a:off x="1692360" y="907920"/>
            <a:ext cx="580212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666699"/>
                  </a:solidFill>
                  <a:miter/>
                </a:ln>
                <a:solidFill>
                  <a:srgbClr val="000080">
                    <a:alpha val="86000"/>
                  </a:srgbClr>
                </a:solidFill>
                <a:latin typeface="Souvenir Lt BT"/>
              </a:rPr>
              <a:t>САНКТ-ПЕТЕРБУРГСКИЙ ГОСУДАРСТВЕННЫЙ УНИВЕРСИТЕТ</a:t>
            </a:r>
            <a:endParaRPr b="1" lang="en-US" sz="4000" spc="1" strike="noStrike">
              <a:ln w="28440">
                <a:solidFill>
                  <a:srgbClr val="666699"/>
                </a:solidFill>
                <a:miter/>
              </a:ln>
              <a:solidFill>
                <a:srgbClr val="000080">
                  <a:alpha val="86000"/>
                </a:srgbClr>
              </a:solidFill>
              <a:latin typeface="Souvenir Lt BT"/>
              <a:ea typeface="Souvenir Lt BT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2007360" y="4437000"/>
            <a:ext cx="523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8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9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20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19" name="Picture 21" descr="ЛоготипСПРИНТ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Text Box 22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AEA7-6B56-489B-9A84-01E9BED5689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Verdana"/>
              </a:rPr>
              <a:t>Перспективы БПЛ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SzPct val="76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ет популярность легких БПЛА в качестве недорогих инструментов для разведки, поиска, воздушных съемок, мониторинга местности, охраны террит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SzPct val="76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ёт технологичность и функциональность одиночных БП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SzPct val="76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острая необходимость в разработке гибких систем управления БПЛА, способных к автономному решению задач, изменению стратегии  «на лету», мультиагентному взаимодейств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89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9DF5-7333-495B-A416-A58DEEBBC63D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97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Verdana"/>
              </a:rPr>
              <a:t>Типы БПЛ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96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Прямая соединительная линия 11"/>
          <p:cNvSpPr/>
          <p:nvPr/>
        </p:nvSpPr>
        <p:spPr>
          <a:xfrm>
            <a:off x="0" y="6286680"/>
            <a:ext cx="9144000" cy="144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C:\Users\Konstantin\Desktop\Для семинара\uav_ru_transas_dozor-300_600_003ns.jpeg"/>
          <p:cNvPicPr/>
          <p:nvPr/>
        </p:nvPicPr>
        <p:blipFill>
          <a:blip r:embed="rId2"/>
          <a:stretch/>
        </p:blipFill>
        <p:spPr>
          <a:xfrm>
            <a:off x="3571920" y="1357200"/>
            <a:ext cx="2000160" cy="1500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C:\Users\Konstantin\Desktop\Для семинара\s1289898813-08_.jpg"/>
          <p:cNvPicPr/>
          <p:nvPr/>
        </p:nvPicPr>
        <p:blipFill>
          <a:blip r:embed="rId3"/>
          <a:stretch/>
        </p:blipFill>
        <p:spPr>
          <a:xfrm>
            <a:off x="6572160" y="1825560"/>
            <a:ext cx="2143080" cy="16034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C:\Users\Konstantin\Desktop\Для семинара\1284017978-02x.jpg"/>
          <p:cNvPicPr/>
          <p:nvPr/>
        </p:nvPicPr>
        <p:blipFill>
          <a:blip r:embed="rId4"/>
          <a:stretch/>
        </p:blipFill>
        <p:spPr>
          <a:xfrm>
            <a:off x="3592440" y="2928960"/>
            <a:ext cx="1959120" cy="1460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C:\Users\Konstantin\Desktop\Для семинара\B3_mini_quad2.jpg"/>
          <p:cNvPicPr/>
          <p:nvPr/>
        </p:nvPicPr>
        <p:blipFill>
          <a:blip r:embed="rId5"/>
          <a:stretch/>
        </p:blipFill>
        <p:spPr>
          <a:xfrm>
            <a:off x="3571920" y="4500720"/>
            <a:ext cx="2000160" cy="1484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C:\Users\Konstantin\Desktop\Для семинара\images.jpg"/>
          <p:cNvPicPr/>
          <p:nvPr/>
        </p:nvPicPr>
        <p:blipFill>
          <a:blip r:embed="rId6"/>
          <a:stretch/>
        </p:blipFill>
        <p:spPr>
          <a:xfrm>
            <a:off x="6643800" y="4500720"/>
            <a:ext cx="2000160" cy="1487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C:\Users\Konstantin\Desktop\Для семинара\s1290069090-!21_.jpg"/>
          <p:cNvPicPr/>
          <p:nvPr/>
        </p:nvPicPr>
        <p:blipFill>
          <a:blip r:embed="rId7"/>
          <a:stretch/>
        </p:blipFill>
        <p:spPr>
          <a:xfrm>
            <a:off x="357120" y="4500720"/>
            <a:ext cx="1989360" cy="15001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Users\Konstantin\Desktop\Для семинара\Для семинара.jpg"/>
          <p:cNvPicPr/>
          <p:nvPr/>
        </p:nvPicPr>
        <p:blipFill>
          <a:blip r:embed="rId8"/>
          <a:stretch/>
        </p:blipFill>
        <p:spPr>
          <a:xfrm>
            <a:off x="357120" y="1820880"/>
            <a:ext cx="2143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66E9-ED43-4ADD-9D62-ADD9EC22E237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97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Verdana"/>
              </a:rPr>
              <a:t>Комплекс БПЛ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11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Picture 3" descr="C:\Users\Konstantin\Desktop\Для семинара\0_450d3_8bd1adb3_L.jpg"/>
          <p:cNvPicPr/>
          <p:nvPr/>
        </p:nvPicPr>
        <p:blipFill>
          <a:blip r:embed="rId2"/>
          <a:stretch/>
        </p:blipFill>
        <p:spPr>
          <a:xfrm>
            <a:off x="1662120" y="1500120"/>
            <a:ext cx="581976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187D-088B-486F-A0F3-0EC92A50997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Verdana"/>
              </a:rPr>
              <a:t>Взаимодействие комплексов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19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Picture 4" descr="C:\Users\Konstantin\Desktop\Для семинара\1284015065-!_zanet3ru_413.jpg"/>
          <p:cNvPicPr/>
          <p:nvPr/>
        </p:nvPicPr>
        <p:blipFill>
          <a:blip r:embed="rId2"/>
          <a:stretch/>
        </p:blipFill>
        <p:spPr>
          <a:xfrm>
            <a:off x="2089080" y="1500120"/>
            <a:ext cx="496584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F4EA-DDDA-493E-82F7-3901FA172DF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Verdana"/>
              </a:rPr>
              <a:t>Группа взаимодействующих БПЛА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27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2"/>
          <p:cNvSpPr/>
          <p:nvPr/>
        </p:nvSpPr>
        <p:spPr>
          <a:xfrm>
            <a:off x="214200" y="1214280"/>
            <a:ext cx="87156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пилотные летательные аппар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мениваются данными (метеоданные, информация крити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я для решения задач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т иметь разное осна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ются с базовой стан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 новых распределенных стратегий д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лективн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я задач группой БП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воляет обеспеч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ьше гарантий выполнения зада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игры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врем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увеличение надёжности системы</a:t>
            </a:r>
            <a:r>
              <a:rPr b="0" lang="en-US" sz="2400" spc="-1" strike="noStrike">
                <a:solidFill>
                  <a:srgbClr val="d9d9d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эффективное решение 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9404-FC05-4CB4-BAE0-6BE401650D3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1280" y="210960"/>
            <a:ext cx="813744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Verdana"/>
              </a:rPr>
              <a:t>Трехуровневая система управления</a:t>
            </a:r>
            <a:r>
              <a:rPr b="0" lang="ru-RU" sz="2800" spc="-1" strike="noStrike">
                <a:solidFill>
                  <a:srgbClr val="b292ca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35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7" name="Рисунок 4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6095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CCEB-611A-4F47-9090-B67C26F4100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3600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Verdana"/>
              </a:rPr>
              <a:t>Автономная группа БПЛА</a:t>
            </a:r>
            <a:r>
              <a:rPr b="0" lang="ru-RU" sz="2800" spc="-1" strike="noStrike">
                <a:solidFill>
                  <a:srgbClr val="b292ca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971640" y="6381720"/>
            <a:ext cx="64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. Лекция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8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43" name="Picture 9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10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Прямоугольник 10"/>
          <p:cNvSpPr/>
          <p:nvPr/>
        </p:nvSpPr>
        <p:spPr>
          <a:xfrm>
            <a:off x="0" y="1197000"/>
            <a:ext cx="9144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ализации преимуществ наиболее адекватно использ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льтиагент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егиа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ном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и двигательная моби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ап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екте используетс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3:03:25Z</dcterms:created>
  <dc:creator>Андрей</dc:creator>
  <dc:description/>
  <dc:language>en-US</dc:language>
  <cp:lastModifiedBy>Natasha</cp:lastModifiedBy>
  <dcterms:modified xsi:type="dcterms:W3CDTF">2013-02-04T14:39:11Z</dcterms:modified>
  <cp:revision>525</cp:revision>
  <dc:subject/>
  <dc:title>Training services</dc:title>
</cp:coreProperties>
</file>