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62D-9759-42F5-981C-BA9A6D89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7C2-6278-4480-96F0-85813C59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927-32D2-4C29-BA27-9B35282B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983-5C10-409F-B93E-A9C155E9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94AA-504C-47DB-859E-DFAF892F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8ED8-6572-4716-AE71-24272A32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A4B-79EB-4D65-A44B-D257E832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B61-02AF-4973-A832-2001B4A2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D31F-CD32-45E8-B7E9-4116FFC0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AA8A-49FF-47B8-9C41-219F1612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0AFB-DF31-482A-A986-87F779E2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56A-EA4E-4EAE-A237-7769C7A2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291C-17F9-4298-9763-91654CE9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F8B6-13E4-4149-B927-EB52FC9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9FF9-9C56-423E-8DFF-D77DD4EB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0578-B5A9-440E-BBB8-244B3612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DF67-6DD0-4491-888D-86A812BB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B8EA-5407-4C65-9E34-4F7F7A92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0BDA-212D-4487-AA2F-F16EDE39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7447-3F17-440D-85AC-A4AB91E8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CD60-90EF-4217-A3A0-1CECBCEF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20FF-E1ED-4822-8496-3770CB1A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CAD-64F2-4A3A-8277-4DF87E6C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D183-850A-4D2D-9BC0-F299AB4C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F657-F623-4E8B-A167-19BBD06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EF0F-A510-4917-9BC2-001EB55B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41DD-7F1F-4025-A277-26BDFC6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9FC1-83B8-4752-9ADE-89871DBF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24F0-4006-48A1-9792-1EE8503B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3DE3-9762-4F7C-B11C-C9A72046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FAFA-DAFA-4319-BDD6-8BC0C97C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3BD8-1F9F-4EDE-AB07-0D308DCC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E1F9-7A24-4E9D-80AB-8026124D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D1F-C068-4689-8145-F99D0E66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815CD-68FB-4E52-A358-CEDCCEE7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AAC5-1815-4793-8A24-D36CB45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F2C6-D788-4E70-9F4A-186D4D49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113A-3627-4DAD-8E23-21065927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0229-4F7C-4E5E-8E75-1A8AE5D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5FDAC-7963-47A2-8EF3-F021B7BF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160E-9A02-4AE8-951D-71EEAE60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3A36-F306-44DD-9E81-D22EB2E6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A586-5CA1-4958-9615-92A5EFC7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A57B-6FC3-4D7C-949C-3DBAE04D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423-00FD-45E4-9869-6F14605E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F8C30-FBDD-4C8C-B7D8-7C7F308C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00DED-0F7A-4DE3-9903-2EB77DF2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2B7C4-4385-439D-9256-E3EF0E26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8C208-449F-4384-BE7D-29567EE7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FB76-8F48-4978-97B4-7FCCEC53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EB044-3491-41A7-B566-2AF3A76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AB9FF-C989-46CD-B4F1-D2BD09D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0694-7836-4C33-8C13-0F33F419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6E75A-A048-4449-B66B-9EEC9200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6911-618B-4738-8C22-3571B50A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EFA-8E7B-430B-BCA3-7B03A55C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5F97-BDDC-4468-839C-6A39EE05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91C2-87FD-4CEA-AF72-9347CD99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BD40A-BD5E-475F-A36F-881A91BA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7A593-98B0-4CB8-8737-9F05D739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C509B-AFFD-4BE7-9FBF-2F676A26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ACC2-5D6C-4F29-9033-4088942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D3726-AC63-49CA-8632-3D4DEFC2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71482-28FC-4685-9A43-A630463E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38418-AE01-48B4-9FBB-DDE895E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B60FA-B771-4343-8CC8-BD4C154C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0A6-082F-4F15-8E68-4E0673E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118F5-B6D5-4053-B79A-DBB39C5D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7091E-7222-4FA8-9E1B-9AF351E5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9E4FD-C4FE-4A4E-A98E-DE2B4203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C57-47C0-455A-A407-50458D5C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605-338F-4089-90FB-FC8E58B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906-A1A1-491B-86C9-12FF79C0F2D1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CD98-FED7-4954-BDFD-BDCB00F9A86E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CAC1-F69F-48FE-9FD4-A2BF6D9B8A0C}" type="datetime">
              <a:rPr b="0" lang="ru-RU" sz="1400" spc="-1" strike="noStrike">
                <a:solidFill>
                  <a:srgbClr val="dde9ec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09F6-774D-4AA6-A263-160C0D242DE1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38AF-6E29-45FD-9357-944B87D9096A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7F84-0576-4CB5-8233-549E465CEEC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5B4B-AC2C-460E-9B6F-2BC535FE8158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B07D-ADC6-4866-9124-25956265EDD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2BE5-A43B-4956-80B9-2D30812E6227}" type="datetime">
              <a:rPr b="0" lang="ru-RU" sz="1400" spc="-1" strike="noStrike">
                <a:solidFill>
                  <a:srgbClr val="dde9ec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7969-08F0-4BB0-B529-DA15218AAF07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77A-600B-462A-AFEC-E181BFB3E8F7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CB8B-74D5-4948-8BDF-924A2B812B7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de.tilab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8F06-8868-46EB-BAB7-0C1E75D8691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55640" y="40464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Лаборатория Системного ПРограммир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ИНформационных Технологий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258920" y="1341360"/>
            <a:ext cx="72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468360" y="2565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накомство с JADE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16000" y="530064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8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1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75" name="Picture 52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53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31040" cy="71604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апуск нового аген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65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14" descr=""/>
          <p:cNvPicPr/>
          <p:nvPr/>
        </p:nvPicPr>
        <p:blipFill>
          <a:blip r:embed="rId2"/>
          <a:stretch/>
        </p:blipFill>
        <p:spPr>
          <a:xfrm>
            <a:off x="1000080" y="1428840"/>
            <a:ext cx="70660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31040" cy="64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апрос на нового аген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74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12" descr=""/>
          <p:cNvPicPr/>
          <p:nvPr/>
        </p:nvPicPr>
        <p:blipFill>
          <a:blip r:embed="rId2"/>
          <a:stretch/>
        </p:blipFill>
        <p:spPr>
          <a:xfrm>
            <a:off x="714240" y="1676520"/>
            <a:ext cx="775188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31040" cy="57312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Получение отве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83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12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602784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98600"/>
            <a:ext cx="8231040" cy="57312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Графическое отображение передачи данны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92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1143000" y="1500120"/>
            <a:ext cx="6827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фон1"/>
          <p:cNvPicPr/>
          <p:nvPr/>
        </p:nvPicPr>
        <p:blipFill>
          <a:blip r:embed="rId1"/>
          <a:stretch/>
        </p:blipFill>
        <p:spPr>
          <a:xfrm>
            <a:off x="0" y="-747720"/>
            <a:ext cx="9180360" cy="76057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3"/>
          <p:cNvSpPr txBox="1"/>
          <p:nvPr/>
        </p:nvSpPr>
        <p:spPr>
          <a:xfrm>
            <a:off x="1692360" y="907920"/>
            <a:ext cx="580212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666699"/>
                  </a:solidFill>
                  <a:miter/>
                </a:ln>
                <a:solidFill>
                  <a:srgbClr val="000080">
                    <a:alpha val="86000"/>
                  </a:srgbClr>
                </a:solidFill>
                <a:latin typeface="Souvenir Lt BT"/>
              </a:rPr>
              <a:t>САНКТ-ПЕТЕРБУРГСКИЙ ГОСУДАРСТВЕННЫЙ УНИВЕРСИТЕТ</a:t>
            </a:r>
            <a:endParaRPr b="1" lang="en-US" sz="4000" spc="1" strike="noStrike">
              <a:ln w="28440">
                <a:solidFill>
                  <a:srgbClr val="666699"/>
                </a:solidFill>
                <a:miter/>
              </a:ln>
              <a:solidFill>
                <a:srgbClr val="000080">
                  <a:alpha val="86000"/>
                </a:srgbClr>
              </a:solidFill>
              <a:latin typeface="Souvenir Lt BT"/>
              <a:ea typeface="Souvenir Lt BT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007360" y="4437000"/>
            <a:ext cx="523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2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3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4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5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6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03" name="Picture 37" descr="ЛоготипСПРИНТ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38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4F8F-0BA1-426F-AF1A-E9367CF946C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16000" y="26028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Цель лабораторной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187280" y="1125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755640" y="2205000"/>
            <a:ext cx="83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ся с мультиагентной платфор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становить платформу на рабочий компьютер, освоить протокол передачи данных между агентами на платформе, запуск главного контейнера платформы и нового агент, на примере агентов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Ag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запрос-от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403280" y="494172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ww.math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b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/user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m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1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87" name="Picture 22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3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50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A420-6A50-49C3-864E-3EDE81AA7A9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826920" y="40464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Пла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187280" y="1125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755640" y="1700280"/>
            <a:ext cx="770400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ка библиоте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ключить библиоте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ть новый проект с описанием аг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устить платформ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устить новые 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ть  и отправить запрос на нового аг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00" name="Picture 2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2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000" y="355320"/>
            <a:ext cx="794844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становка библиотек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JA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08" name="Picture 2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2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13"/>
          <p:cNvSpPr/>
          <p:nvPr/>
        </p:nvSpPr>
        <p:spPr>
          <a:xfrm>
            <a:off x="285840" y="1214280"/>
            <a:ext cx="857232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Скачать архив с платформой можно с официального сай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D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по ссылке: </a:t>
            </a:r>
            <a:r>
              <a:rPr b="0" lang="en-GB" sz="2400" spc="-1" strike="noStrike" u="sng">
                <a:solidFill>
                  <a:srgbClr val="b292ca"/>
                </a:solidFill>
                <a:uFillTx/>
                <a:latin typeface="Calibri"/>
                <a:hlinkClick r:id="rId2"/>
              </a:rPr>
              <a:t>http://jade.tilab.com/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Создайте отдельную папку, например, с названием Jade, и скопируйте содержим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х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ьте расположение таких файлов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build.xml – находится в корне папки Jade (созданной на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jade.jar – находится в папке lib/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пки исходных файлов examples/ и jade/ - находятся в src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142560"/>
            <a:ext cx="8240760" cy="67932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Главный контейнер платформы 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JA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2441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78000"/>
          </a:bodyPr>
          <a:p>
            <a:pPr marL="212760" indent="-212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олжен быть создан первым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н должен включать в себя двух специальных агентов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M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gent management system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агент, который управляет остальными агентами; он способен создавать и останавливать аген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DF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(directory facilitation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по сути представляет из себя желтые страницы, в котором записываются адреса, имена и возможности агентов в систем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2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18" name="Picture 2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2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202680"/>
            <a:ext cx="7948440" cy="58284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Подключение библиотек 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JA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26" name="Picture 2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2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Picture 11" descr=""/>
          <p:cNvPicPr/>
          <p:nvPr/>
        </p:nvPicPr>
        <p:blipFill>
          <a:blip r:embed="rId2"/>
          <a:stretch/>
        </p:blipFill>
        <p:spPr>
          <a:xfrm>
            <a:off x="1631880" y="3714840"/>
            <a:ext cx="5797800" cy="250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3"/>
          <a:stretch/>
        </p:blipFill>
        <p:spPr>
          <a:xfrm>
            <a:off x="1857240" y="1214280"/>
            <a:ext cx="5384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8480" y="355320"/>
            <a:ext cx="622116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оздаем нового аген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36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11" descr=""/>
          <p:cNvPicPr/>
          <p:nvPr/>
        </p:nvPicPr>
        <p:blipFill>
          <a:blip r:embed="rId2"/>
          <a:stretch/>
        </p:blipFill>
        <p:spPr>
          <a:xfrm>
            <a:off x="1071720" y="1571760"/>
            <a:ext cx="695160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5840" y="355320"/>
            <a:ext cx="850104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Конфигурация запуска платформ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45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Picture 11" descr=""/>
          <p:cNvPicPr/>
          <p:nvPr/>
        </p:nvPicPr>
        <p:blipFill>
          <a:blip r:embed="rId2"/>
          <a:stretch/>
        </p:blipFill>
        <p:spPr>
          <a:xfrm>
            <a:off x="2071800" y="1305000"/>
            <a:ext cx="5072040" cy="1909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"/>
          <p:cNvPicPr/>
          <p:nvPr/>
        </p:nvPicPr>
        <p:blipFill>
          <a:blip r:embed="rId3"/>
          <a:stretch/>
        </p:blipFill>
        <p:spPr>
          <a:xfrm>
            <a:off x="1214280" y="3295800"/>
            <a:ext cx="6858000" cy="29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31040" cy="64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Пользовательский интерфейс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JA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7446960" y="4032360"/>
            <a:ext cx="27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5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56" name="Picture 16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17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12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496280" cy="471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03:25Z</dcterms:created>
  <dc:creator>Андрей</dc:creator>
  <dc:description/>
  <dc:language>en-US</dc:language>
  <cp:lastModifiedBy>KostyaNote</cp:lastModifiedBy>
  <dcterms:modified xsi:type="dcterms:W3CDTF">2013-06-26T16:03:29Z</dcterms:modified>
  <cp:revision>517</cp:revision>
  <dc:subject/>
  <dc:title>Training services</dc:title>
</cp:coreProperties>
</file>