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3E4-3C1B-49E0-BAD1-7A4D7847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477-7A8D-45F8-BD1A-6430FC7D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0F3-EAE1-4701-9B8A-ED681B3B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CC8-2AB2-4961-A26E-BE79C1F4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6F6B-6497-4CEF-8AF6-841D1B4D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EAAA-DF12-41AD-8B19-D20C1EDD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D094-D34F-4287-B105-631A2D42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A9F0-ED31-4907-8F53-70F6CAB2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3A67-176C-4277-AB09-B9A73425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1DA2-4F12-46DF-B9F7-77704E6E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F893-CDB6-465E-B856-4A394790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E93-C186-4784-8206-2049D9F9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AEE8-9B0B-45C0-83A4-F53DCA99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920B-5FBF-460F-9FBC-C2B24E71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7FA2-C31B-438A-B0B1-9EC64A17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F107-47A8-4010-8B68-16E3BB15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A5BA-23E3-41A3-B5D1-328593BE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0F42-86EF-4526-AC5D-C45840B5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6543-2D49-4A54-B419-8569D5FE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31FE6-91CF-47AE-8993-13E994AC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54FB7-2340-4126-A6A3-236BB274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0ABA-D0DD-4DB1-AAFA-2E1EBBE7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8F3-54B7-43BC-BF92-CF1054C8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B703-5E1C-4A11-9957-7EBA94C2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C91F-2D22-48C7-9735-0D506D21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6577-218E-4A03-9ED7-57BB99C1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4094-E046-442A-9E60-8A893E4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9F95B-0C0D-4081-9DC1-5AD9B843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0F59-9457-47CE-A480-32839715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9846-46C3-462D-8000-9F6C4FB3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6E0AC-A8B6-443E-92E7-BD6A97E6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4AAF-02DC-407C-AD1F-F487638D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69BB8-100F-4835-AE93-15DCFF53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C3B-2641-46F1-9BE3-7CE7F810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FD937-DFC3-41C1-A5CC-2A19D4F0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FBACD-7430-4315-9DF6-909372C4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596C-59D4-4A3C-8CC7-05DC36AC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D602F-FC12-4A34-A670-AAE7EB47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F713-0E7E-45AC-9448-9AA8574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DA32F-FD36-4217-A6F9-AD2F315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C5463-6D03-40D0-90A4-44E1B689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CC36-D710-4A48-98D6-6B464CCA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E31E-F3F6-4ECC-8FCF-030ACDB3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4F2F8-429C-400A-BF8E-93644493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4D4-2334-46CB-9710-0D652DE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F36B-28C5-495E-BF81-A83004B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6082-4110-4B2C-BBD7-C997C671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52F9F-32CC-491D-9073-79388904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2098A-A234-446F-A0B8-421AD872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BA2ED-C221-4B61-BF31-42F7DC4C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7D13B-86FB-457D-B7B0-C2A73996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2A566-912E-4C2E-B0B2-65ADCA30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6E5E-B8C3-4633-AE37-2404BD7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784D6-6116-4BBF-A716-D57156B8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4246B-3ECF-400A-88F8-16A10BCC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973-1316-4466-BA6E-62B29532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6783-DE06-4E2F-8F32-CE0E8D07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6CFDF-7FF9-4E84-9300-D81673AD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AEFA9-AA2F-4DB3-B137-48A651E0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2976D-AE77-43C8-A5D5-2F233C7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AE631-3B52-417F-85D2-241646F7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CEF81-E2F0-453B-9BDA-E7062E33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929DA-88A7-4353-A9B9-5B91CFC9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9A883-8808-4B85-9DDB-8D88FD05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EBD6-FEF4-4A69-8542-0A695FF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4FB81-2D33-4813-B1F8-47510C55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BE4-1F75-4209-AB7F-475E9BB6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7AC01-8F7C-4E0F-A6D7-ED402A14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F1873-4929-42D8-9BDA-E83E3C91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B0779-534B-4AF5-881E-29AB6B27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DC7-1EE4-44AB-A268-24B9980B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7D9-B05B-4113-B1D8-38E28AA7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74B4-8362-423A-93A7-E19CE5BB76C5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9490-6CF2-47E2-BB5A-7A7DE6DE63D1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6F49-594C-4A55-B6EB-B4B4146CE0E2}" type="datetime">
              <a:rPr b="0" lang="en-US" sz="1400" spc="-1" strike="noStrike">
                <a:solidFill>
                  <a:srgbClr val="dde9ec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08FE-8BD0-47E9-B862-633B4E882F39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7FAE-3457-4252-93C8-38691919F2D1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DA22-0282-425A-A8F3-4CC84465FC44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9577-1DA4-4EEF-BA10-50E0B97D640B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59ED-F15B-4D08-A29F-63EA613752A5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F966-D269-458C-9704-A564A267C391}" type="datetime">
              <a:rPr b="0" lang="en-US" sz="1400" spc="-1" strike="noStrike">
                <a:solidFill>
                  <a:srgbClr val="dde9ec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200E-986B-4102-8489-C4049592E3BA}" type="slidenum">
              <a:rPr b="0" lang="en-US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CA7-4C34-46FA-8FB8-9F1BE58297F5}" type="datetime">
              <a:rPr b="0" lang="en-US" sz="1400" spc="-1" strike="noStrike">
                <a:solidFill>
                  <a:srgbClr val="464653"/>
                </a:solidFill>
                <a:latin typeface="Calibri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2BFF-29CA-4C32-BFA4-727C7678EB1C}" type="slidenum">
              <a:rPr b="0" lang="en-US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h.spbu.ru/user/gran/Atom32/lab01" TargetMode="External"/><Relationship Id="rId2" Type="http://schemas.openxmlformats.org/officeDocument/2006/relationships/hyperlink" Target="http://www.math.spbu.ru/user/gran/Atom32/lab01" TargetMode="External"/><Relationship Id="rId3" Type="http://schemas.openxmlformats.org/officeDocument/2006/relationships/hyperlink" Target="http://www.math.spbu.ru/user/gran/Atom32/lab01" TargetMode="External"/><Relationship Id="rId4" Type="http://schemas.openxmlformats.org/officeDocument/2006/relationships/hyperlink" Target="http://www.math.spbu.ru/user/gran/Atom32/lab01" TargetMode="External"/><Relationship Id="rId5" Type="http://schemas.openxmlformats.org/officeDocument/2006/relationships/hyperlink" Target="http://www.math.spbu.ru/user/gran/Atom32/lab01" TargetMode="External"/><Relationship Id="rId6" Type="http://schemas.openxmlformats.org/officeDocument/2006/relationships/hyperlink" Target="http://www.math.spbu.ru/user/gran/Atom32/lab01" TargetMode="External"/><Relationship Id="rId7" Type="http://schemas.openxmlformats.org/officeDocument/2006/relationships/hyperlink" Target="http://www.math.spbu.ru/user/gran/Atom32/lab01" TargetMode="External"/><Relationship Id="rId8" Type="http://schemas.openxmlformats.org/officeDocument/2006/relationships/hyperlink" Target="http://www.math.spbu.ru/user/gran/Atom32/lab01" TargetMode="External"/><Relationship Id="rId9" Type="http://schemas.openxmlformats.org/officeDocument/2006/relationships/hyperlink" Target="http://www.math.spbu.ru/user/gran/Atom32/lab01" TargetMode="External"/><Relationship Id="rId10" Type="http://schemas.openxmlformats.org/officeDocument/2006/relationships/hyperlink" Target="http://www.math.spbu.ru/user/gran/Atom32/lab01" TargetMode="External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../../../../Documents%20and%20Settings/kiyaev/Local%20Settings/Temp/Rar$DI00.672/labMeeGo/lab05" TargetMode="External"/><Relationship Id="rId2" Type="http://schemas.openxmlformats.org/officeDocument/2006/relationships/hyperlink" Target="file:///../../../../Documents%20and%20Settings/kiyaev/Local%20Settings/Temp/Rar$DI00.672/labMeeGo/lab05" TargetMode="External"/><Relationship Id="rId3" Type="http://schemas.openxmlformats.org/officeDocument/2006/relationships/hyperlink" Target="file:///../../../../Documents%20and%20Settings/kiyaev/Local%20Settings/Temp/Rar$DI00.672/labMeeGo/lab05" TargetMode="External"/><Relationship Id="rId4" Type="http://schemas.openxmlformats.org/officeDocument/2006/relationships/hyperlink" Target="file:///../../../../Documents%20and%20Settings/kiyaev/Local%20Settings/Temp/Rar$DI00.672/labMeeGo/lab05" TargetMode="External"/><Relationship Id="rId5" Type="http://schemas.openxmlformats.org/officeDocument/2006/relationships/hyperlink" Target="file:///../../../../Documents%20and%20Settings/kiyaev/Local%20Settings/Temp/Rar$DI00.672/labMeeGo/lab05" TargetMode="External"/><Relationship Id="rId6" Type="http://schemas.openxmlformats.org/officeDocument/2006/relationships/hyperlink" Target="file:///../../../../Documents%20and%20Settings/kiyaev/Local%20Settings/Temp/Rar$DI00.672/labMeeGo/lab05" TargetMode="External"/><Relationship Id="rId7" Type="http://schemas.openxmlformats.org/officeDocument/2006/relationships/hyperlink" Target="file:///../../../../Documents%20and%20Settings/kiyaev/Local%20Settings/Temp/Rar$DI00.672/labMeeGo/lab05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clipse.org/downloads/" TargetMode="External"/><Relationship Id="rId2" Type="http://schemas.openxmlformats.org/officeDocument/2006/relationships/hyperlink" Target="http://www.eclipse.org/downloads/" TargetMode="External"/><Relationship Id="rId3" Type="http://schemas.openxmlformats.org/officeDocument/2006/relationships/hyperlink" Target="http://www.eclipse.org/downloads/" TargetMode="External"/><Relationship Id="rId4" Type="http://schemas.openxmlformats.org/officeDocument/2006/relationships/hyperlink" Target="http://www.eclipse.org/downloads/" TargetMode="External"/><Relationship Id="rId5" Type="http://schemas.openxmlformats.org/officeDocument/2006/relationships/hyperlink" Target="http://www.eclipse.org/downloads/" TargetMode="External"/><Relationship Id="rId6" Type="http://schemas.openxmlformats.org/officeDocument/2006/relationships/hyperlink" Target="http://www.eclipse.org/downloads/" TargetMode="External"/><Relationship Id="rId7" Type="http://schemas.openxmlformats.org/officeDocument/2006/relationships/hyperlink" Target="http://www.oracle.com/technetwork/java/javase/downloads/index.html" TargetMode="External"/><Relationship Id="rId8" Type="http://schemas.openxmlformats.org/officeDocument/2006/relationships/hyperlink" Target="http://www.oracle.com/technetwork/java/javase/downloads/index.html" TargetMode="External"/><Relationship Id="rId9" Type="http://schemas.openxmlformats.org/officeDocument/2006/relationships/hyperlink" Target="http://www.oracle.com/technetwork/java/javase/downloads/index.html" TargetMode="External"/><Relationship Id="rId10" Type="http://schemas.openxmlformats.org/officeDocument/2006/relationships/hyperlink" Target="http://www.oracle.com/technetwork/java/javase/downloads/index.html" TargetMode="External"/><Relationship Id="rId11" Type="http://schemas.openxmlformats.org/officeDocument/2006/relationships/hyperlink" Target="http://www.oracle.com/technetwork/java/javase/downloads/index.html" TargetMode="External"/><Relationship Id="rId12" Type="http://schemas.openxmlformats.org/officeDocument/2006/relationships/hyperlink" Target="http://www.oracle.com/technetwork/java/javase/downloads/index.html" TargetMode="External"/><Relationship Id="rId13" Type="http://schemas.openxmlformats.org/officeDocument/2006/relationships/hyperlink" Target="http://www.oracle.com/technetwork/java/javase/downloads/index.html" TargetMode="External"/><Relationship Id="rId14" Type="http://schemas.openxmlformats.org/officeDocument/2006/relationships/hyperlink" Target="http://www.oracle.com/technetwork/java/javase/downloads/index.html" TargetMode="External"/><Relationship Id="rId15" Type="http://schemas.openxmlformats.org/officeDocument/2006/relationships/hyperlink" Target="http://www.oracle.com/technetwork/java/javase/downloads/index.html" TargetMode="External"/><Relationship Id="rId16" Type="http://schemas.openxmlformats.org/officeDocument/2006/relationships/hyperlink" Target="http://www.oracle.com/technetwork/java/javase/downloads/index.html" TargetMode="External"/><Relationship Id="rId17" Type="http://schemas.openxmlformats.org/officeDocument/2006/relationships/hyperlink" Target="http://www.oracle.com/technetwork/java/javase/downloads/index.html" TargetMode="External"/><Relationship Id="rId18" Type="http://schemas.openxmlformats.org/officeDocument/2006/relationships/hyperlink" Target="http://www.oracle.com/technetwork/java/javase/downloads/index.html" TargetMode="External"/><Relationship Id="rId19" Type="http://schemas.openxmlformats.org/officeDocument/2006/relationships/hyperlink" Target="http://www.oracle.com/technetwork/java/javase/downloads/index.html" TargetMode="External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clipse.org/downloads/" TargetMode="External"/><Relationship Id="rId2" Type="http://schemas.openxmlformats.org/officeDocument/2006/relationships/hyperlink" Target="http://www.eclipse.org/downloads/" TargetMode="External"/><Relationship Id="rId3" Type="http://schemas.openxmlformats.org/officeDocument/2006/relationships/hyperlink" Target="http://www.eclipse.org/downloads/" TargetMode="External"/><Relationship Id="rId4" Type="http://schemas.openxmlformats.org/officeDocument/2006/relationships/hyperlink" Target="http://www.eclipse.org/downloads/" TargetMode="External"/><Relationship Id="rId5" Type="http://schemas.openxmlformats.org/officeDocument/2006/relationships/hyperlink" Target="http://www.eclipse.org/downloads/" TargetMode="External"/><Relationship Id="rId6" Type="http://schemas.openxmlformats.org/officeDocument/2006/relationships/hyperlink" Target="http://www.eclipse.org/downloads/" TargetMode="External"/><Relationship Id="rId7" Type="http://schemas.openxmlformats.org/officeDocument/2006/relationships/hyperlink" Target="http://www.oracle.com/technetwork/java/javase/downloads/index.html" TargetMode="External"/><Relationship Id="rId8" Type="http://schemas.openxmlformats.org/officeDocument/2006/relationships/hyperlink" Target="http://www.oracle.com/technetwork/java/javase/downloads/index.html" TargetMode="External"/><Relationship Id="rId9" Type="http://schemas.openxmlformats.org/officeDocument/2006/relationships/hyperlink" Target="http://www.oracle.com/technetwork/java/javase/downloads/index.html" TargetMode="External"/><Relationship Id="rId10" Type="http://schemas.openxmlformats.org/officeDocument/2006/relationships/hyperlink" Target="http://www.oracle.com/technetwork/java/javase/downloads/index.html" TargetMode="External"/><Relationship Id="rId11" Type="http://schemas.openxmlformats.org/officeDocument/2006/relationships/hyperlink" Target="http://www.oracle.com/technetwork/java/javase/downloads/index.html" TargetMode="External"/><Relationship Id="rId12" Type="http://schemas.openxmlformats.org/officeDocument/2006/relationships/hyperlink" Target="http://www.oracle.com/technetwork/java/javase/downloads/index.html" TargetMode="External"/><Relationship Id="rId13" Type="http://schemas.openxmlformats.org/officeDocument/2006/relationships/hyperlink" Target="http://www.oracle.com/technetwork/java/javase/downloads/index.html" TargetMode="External"/><Relationship Id="rId14" Type="http://schemas.openxmlformats.org/officeDocument/2006/relationships/hyperlink" Target="http://www.oracle.com/technetwork/java/javase/downloads/index.html" TargetMode="External"/><Relationship Id="rId15" Type="http://schemas.openxmlformats.org/officeDocument/2006/relationships/hyperlink" Target="http://www.oracle.com/technetwork/java/javase/downloads/index.html" TargetMode="External"/><Relationship Id="rId16" Type="http://schemas.openxmlformats.org/officeDocument/2006/relationships/hyperlink" Target="http://www.oracle.com/technetwork/java/javase/downloads/index.html" TargetMode="External"/><Relationship Id="rId17" Type="http://schemas.openxmlformats.org/officeDocument/2006/relationships/hyperlink" Target="http://www.oracle.com/technetwork/java/javase/downloads/index.html" TargetMode="External"/><Relationship Id="rId18" Type="http://schemas.openxmlformats.org/officeDocument/2006/relationships/hyperlink" Target="http://www.oracle.com/technetwork/java/javase/downloads/index.html" TargetMode="External"/><Relationship Id="rId19" Type="http://schemas.openxmlformats.org/officeDocument/2006/relationships/hyperlink" Target="http://www.oracle.com/technetwork/java/javase/downloads/index.html" TargetMode="External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eveloper.android.com/sdk/index.html" TargetMode="External"/><Relationship Id="rId2" Type="http://schemas.openxmlformats.org/officeDocument/2006/relationships/hyperlink" Target="http://developer.android.com/sdk/index.html" TargetMode="External"/><Relationship Id="rId3" Type="http://schemas.openxmlformats.org/officeDocument/2006/relationships/hyperlink" Target="http://developer.android.com/sdk/index.html" TargetMode="External"/><Relationship Id="rId4" Type="http://schemas.openxmlformats.org/officeDocument/2006/relationships/hyperlink" Target="http://developer.android.com/sdk/index.html" TargetMode="External"/><Relationship Id="rId5" Type="http://schemas.openxmlformats.org/officeDocument/2006/relationships/hyperlink" Target="http://developer.android.com/sdk/index.html" TargetMode="External"/><Relationship Id="rId6" Type="http://schemas.openxmlformats.org/officeDocument/2006/relationships/hyperlink" Target="http://developer.android.com/sdk/index.html" TargetMode="External"/><Relationship Id="rId7" Type="http://schemas.openxmlformats.org/officeDocument/2006/relationships/hyperlink" Target="http://developer.android.com/sdk/index.html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5640" y="40464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Лаборатория Системного ПРограммир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ИНформационных Технологий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341360"/>
            <a:ext cx="72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2565360"/>
            <a:ext cx="8280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ораторная рабо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Установка ПО для разработки и тестирования прилож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6000" y="530064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E2F-3BBD-4187-9EAD-EE53366C20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Установка Android AD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19160" y="2174760"/>
            <a:ext cx="7089840" cy="3679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установить ADT, необходимо открыть панель расширения среды(Install New Software), затем в появившемся окне добавить новый путь - </a:t>
            </a:r>
            <a:br>
              <a:rPr sz="2400"/>
            </a:b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https://dl-ssl.google.com/android/eclipse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 Eclipse выполнит поиск требуемых данных, и в выпадающем списке вы сможете выбрать ADT и установить его. После установки у вас появит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AVD Manager. Его можно запустить прямо из Eclipse (Window-&gt; Android SDK and AVD Manag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Установка Android AD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333440" y="1182600"/>
            <a:ext cx="6608880" cy="50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71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Настройка Virtual Device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177920" y="1309680"/>
            <a:ext cx="6838920" cy="4898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Установка версий API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447920" y="1603440"/>
            <a:ext cx="6379920" cy="37321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1652760" cy="884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Кнопки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1760" y="1326960"/>
            <a:ext cx="7785000" cy="4701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нопка описана классо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android.widget.Butt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ый является суперклассом для всевозможных типов кнопок(флажковая-кнопка, радио-кнопка, переключател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кнопки определено несколько конструктор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Button(Context context)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Button(Context context, AttributeSet attr)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Button(Context context, AttributeSet attr, int defStyle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SzPct val="76000"/>
              <a:buFont typeface="Calibri"/>
              <a:buChar char="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до сказать что, Context - класс содержащий информацию о среде приложения и предоставляющий доступ к различным системным ресурсам и клас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Поля текстового ввод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7320" y="1623600"/>
            <a:ext cx="6937560" cy="46990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Android.widget.EditTex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является небольшой облицовкой вокруг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TextVie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й создавать редактируемый тек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EditText имеет несколько конструктор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EditText(Context context)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EditText(Context context, AttributeSet attr)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 EditText(Context context, AttributeSet attr, int defStyle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Списк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31800" y="1371600"/>
            <a:ext cx="7981920" cy="42372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Android.widget.ListVie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класс отображающий набор элементов в виде списка с возможностью прокрутки. Элементы ассоциированные с этим представлением описываются классо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stAdapte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stAdapte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наследует базовый класс Adapter и служит мостом между данными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stVie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Удобство в том, ч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stVie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может отображать любые данные, лишь бы они были завернуты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stAdapter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16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1280" y="355320"/>
            <a:ext cx="802152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Layou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06200" y="1314360"/>
            <a:ext cx="7466040" cy="4695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90016"/>
                </a:solidFill>
                <a:latin typeface="Calibri"/>
              </a:rPr>
              <a:t>LinearLay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нейный менеджер размещения используется для отображения элементов в виде линейных списков, горизонтальных или вертикальных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LinearLayout определено несколько конструкторов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LinearLayout(Context context)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LinearLayout(Context context, AttributeSet )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LinearLayout(Context context, AttributeSet ,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int defSty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55280" y="355320"/>
            <a:ext cx="787716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Layou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06200" y="1301760"/>
            <a:ext cx="7466040" cy="4695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7000"/>
          </a:bodyPr>
          <a:p>
            <a:pPr marL="263160" indent="-263160" algn="ctr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2600" spc="-1" strike="noStrike">
                <a:solidFill>
                  <a:srgbClr val="c5000b"/>
                </a:solidFill>
                <a:latin typeface="Calibri"/>
              </a:rPr>
              <a:t>TabLay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3160" indent="-2631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организовать несколько отображений в одном окне и обеспечить между ними быстрое и комфортное переключение используется  вкладочный менеджер размещения(tab layou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160" indent="-2631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создать tab layout необходимо выполнить следующе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160" indent="-2631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здат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TabHost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от элемент являет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нтейнером для вкладок(табов) оконнного вида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TabHos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лжен иметь два дочерних элемнет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TabWidge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и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FrameLayou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TabWidge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— элемент представляющий список вкладок.</a:t>
            </a:r>
            <a:r>
              <a:rPr b="1" lang="ru-RU" sz="1800" spc="-1" strike="noStrike">
                <a:solidFill>
                  <a:srgbClr val="c90016"/>
                </a:solidFill>
                <a:latin typeface="Calibri"/>
                <a:ea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FrameLayou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используемый для отображения содержим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ждой вклад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160" indent="0">
              <a:spcBef>
                <a:spcPts val="601"/>
              </a:spcBef>
              <a:buNone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1280" y="81000"/>
            <a:ext cx="8097840" cy="884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тлад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4014720" cy="47037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0" algn="ctr">
              <a:spcBef>
                <a:spcPts val="601"/>
              </a:spcBef>
              <a:buNone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50560" y="1042920"/>
            <a:ext cx="8893080" cy="47037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9000"/>
          </a:bodyPr>
          <a:p>
            <a:pPr marL="268560" indent="0">
              <a:spcBef>
                <a:spcPts val="601"/>
              </a:spcBef>
              <a:buNone/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компоненты среды отладки Androi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-268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droi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bu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rid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) - выступает в качестве посредника между устройством и програм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-268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Dalvik Debug Monitor Servic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DDMS) - это элемент плаги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droi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, используемый для анализа работы ВМ. Последовательно отображает поток информации, которая описывает каждый шаг работы виртуальной маш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-268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Device or Android Virtual Device(AVD)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аше приложение должно выполняться на устройстве или в AVD так чтобы оно могло быть отлажено. Демон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устройства работает на устройстве или эмуляторе, и предоставляет средства для демо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хоста для предоставления связи с устройством или эмулято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44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16000" y="26028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Цель лабораторной рабо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87280" y="1125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2205000"/>
            <a:ext cx="83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ить основные приемы разработки приложений на платформ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roi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учить процесс установки и настройки среды разработки, освоение программы с пользовательским интерфейсом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проведение сеанса отладки , проведение сеанса отла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494172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1"/>
              </a:rPr>
              <a:t>www.math.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2"/>
              </a:rPr>
              <a:t>spbu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4"/>
              </a:rPr>
              <a:t>ru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5"/>
              </a:rPr>
              <a:t>/user/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6"/>
              </a:rPr>
              <a:t>gran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8"/>
              </a:rPr>
              <a:t>Atom3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hlinkClick r:id="rId9"/>
              </a:rPr>
              <a:t>2/</a:t>
            </a:r>
            <a:r>
              <a:rPr b="0" lang="en-US" sz="2200" spc="-1" strike="noStrike" u="sng">
                <a:solidFill>
                  <a:srgbClr val="b292ca"/>
                </a:solidFill>
                <a:uFillTx/>
                <a:latin typeface="Arial"/>
                <a:hlinkClick r:id="rId10"/>
              </a:rPr>
              <a:t>lab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86" name="" descr=""/>
            <p:cNvPicPr/>
            <p:nvPr/>
          </p:nvPicPr>
          <p:blipFill>
            <a:blip r:embed="rId1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524-984F-4A7E-AFC9-5FB7E1AA0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81000"/>
            <a:ext cx="8097840" cy="884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тлад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4014720" cy="47037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0" algn="ctr">
              <a:spcBef>
                <a:spcPts val="601"/>
              </a:spcBef>
              <a:buNone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254240" y="2154240"/>
            <a:ext cx="6254640" cy="3657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928800" y="1300320"/>
            <a:ext cx="7167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246240" indent="-246240">
              <a:lnSpc>
                <a:spcPct val="100000"/>
              </a:lnSpc>
              <a:spcBef>
                <a:spcPts val="550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826920"/>
                <a:tab algn="l" pos="1655640"/>
                <a:tab algn="l" pos="2486160"/>
                <a:tab algn="l" pos="3314880"/>
                <a:tab algn="l" pos="4145040"/>
                <a:tab algn="l" pos="4973760"/>
                <a:tab algn="l" pos="5803920"/>
                <a:tab algn="l" pos="6632640"/>
                <a:tab algn="l" pos="7462800"/>
                <a:tab algn="l" pos="8291520"/>
                <a:tab algn="l" pos="9121680"/>
                <a:tab algn="l" pos="9529920"/>
                <a:tab algn="l" pos="9944280"/>
                <a:tab algn="l" pos="10358280"/>
                <a:tab algn="l" pos="10772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DejaVu Sans"/>
              </a:rPr>
              <a:t>Взаимодействие средств отладки между с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000" y="355320"/>
            <a:ext cx="816444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тлад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94920" y="1496880"/>
            <a:ext cx="8077320" cy="4694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9000"/>
          </a:bodyPr>
          <a:p>
            <a:pPr marL="268560" indent="-268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клиент-серверное приложение состоящее из 3х компоне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-268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иент – запускается на машине разработчика. Клиент можно запустить из командной строки при помощи команд посылаемых adb. Другие инструменты Android вроде плагина ADT и DDMS тоже создают adb-кли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-268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рвер – запускается на машине разработчика в виде фонового процесса. Сервер управляет соединениями между клиентами и adb-сервисом запущенным на эмуляторе или устрой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-2685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рвис – фоновый процесс, который запускается на каждом эмуляторе или устройст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560" indent="0">
              <a:spcBef>
                <a:spcPts val="601"/>
              </a:spcBef>
              <a:buNone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64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355320"/>
            <a:ext cx="802152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тлад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642960" y="1317600"/>
            <a:ext cx="8163000" cy="46864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73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6560" y="355320"/>
            <a:ext cx="780588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тлад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06200" y="1496880"/>
            <a:ext cx="7466040" cy="46944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95000"/>
          </a:bodyPr>
          <a:p>
            <a:pPr marL="257760" indent="-257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LogCat </a:t>
            </a:r>
            <a:r>
              <a:rPr b="1" i="1" lang="ru-RU" sz="2400" spc="-1" strike="noStrike">
                <a:solidFill>
                  <a:srgbClr val="c5000b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Система ведения лога в Android,которая обеспечивает механизм для сбора и просмотра системных отладочных сообщений. Логи собираются в серии кольцевых буферов, которые можно просматривать и фильтровать посредством коман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logca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760" indent="-257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ат использования: [adb] logcat [&lt;option&gt;] ... [&lt;filter-spec&gt;]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7760" indent="-257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же предусмотрена фильтрация вывода лога. Каждое сообщение лога в Android име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э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оритет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ражения фильтра имеют следующий форма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&lt;тэг&gt;:&lt;приоритет&gt;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4000" y="355320"/>
            <a:ext cx="794844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Logc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1981080" y="1890720"/>
            <a:ext cx="5464440" cy="3267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91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11280" y="355320"/>
            <a:ext cx="622152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бзор приложения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550880" y="2079720"/>
            <a:ext cx="6291360" cy="36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ожение элементов управления: TabLayout, LinearLayout, RelativeLayout и GridLay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стейшие элементы управления: Button, EditText, Text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писок Grid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 fontScale="96000"/>
          </a:bodyPr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5000b"/>
                </a:solidFill>
                <a:latin typeface="Calibri"/>
              </a:rPr>
              <a:t>Идея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ычно, если приложение не имеет сложную структуру, то в одном состоянии приложения используется только один стиль размещения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ы рассмотрим приложение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торое содержит в себе много различных layouts. Достичь этого, можно путем создания в качестве главного layout, TabLayout, у которого каждый tab имеет свой способ размеще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436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c5000b"/>
                </a:solidFill>
                <a:latin typeface="Calibri"/>
              </a:rPr>
              <a:t>Структур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4360" indent="-31068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TabLayout →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4360" indent="-31068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Tab1: -&gt; LinearLayou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4360" indent="-31068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Tab2: -&gt; RelativeLayou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14360" indent="-31068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Tab3: -&gt; GridLayout.</a:t>
            </a:r>
            <a:br>
              <a:rPr sz="2500"/>
            </a:br>
            <a:r>
              <a:rPr b="1" lang="ru-RU" sz="2500" spc="-1" strike="noStrike">
                <a:solidFill>
                  <a:srgbClr val="c5000b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/>
          <p:nvPr/>
        </p:nvSpPr>
        <p:spPr>
          <a:xfrm>
            <a:off x="2415240" y="404640"/>
            <a:ext cx="395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90016"/>
                </a:solidFill>
                <a:latin typeface="Arial"/>
              </a:rPr>
              <a:t>Архитектура прилож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09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3104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терфейс для работы с датой  в Андрои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5000b"/>
                </a:solidFill>
                <a:latin typeface="Calibri"/>
              </a:rPr>
              <a:t>Компонен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727ca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TextView - простое текстовое поле, в котор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727ca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ет отображаться текущая или вручную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овленная да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727ca3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Button     - кнопка, которая инициирует появление окошка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DitaPicker, в котором отображается текущая да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не стандартно есть контролы позволяющи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менить д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/>
          <p:nvPr/>
        </p:nvSpPr>
        <p:spPr>
          <a:xfrm>
            <a:off x="3206880" y="476280"/>
            <a:ext cx="266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5000b"/>
                </a:solidFill>
                <a:latin typeface="Arial"/>
              </a:rPr>
              <a:t>Архитектура Tab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18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168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которые виджеты U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5000b"/>
                </a:solidFill>
                <a:latin typeface="Calibri"/>
              </a:rPr>
              <a:t>Компонент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extView - текстовое поле отображающее статическ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формаци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EditText   - текстовое поле с поддержкой редактиров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utton      - кнопка O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utton      - кнопка Cance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pinner    - выпадающий список с обработкой событ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бора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/>
          <p:nvPr/>
        </p:nvSpPr>
        <p:spPr>
          <a:xfrm>
            <a:off x="3206880" y="260280"/>
            <a:ext cx="266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5000b"/>
                </a:solidFill>
                <a:latin typeface="Arial"/>
              </a:rPr>
              <a:t>Архитектура Tab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27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3104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рафические объекты (картинки) размещенные в виде таблиц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5000b"/>
                </a:solidFill>
                <a:latin typeface="Calibri"/>
              </a:rPr>
              <a:t>Компонент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GridView — представление, отображающее элементы в двумерной сетке с поддержкой вертикального или горизонтального скрола. Элементы, ассоциированные с Grid представлением, должны быть представлены с помощью ListAdap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>
            <a:off x="3062520" y="333360"/>
            <a:ext cx="266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5000b"/>
                </a:solidFill>
                <a:latin typeface="Arial"/>
              </a:rPr>
              <a:t>Архитектура Tab3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36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40464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Пл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1125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1700280"/>
            <a:ext cx="770400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становка и настройка среды разработ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исание прил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хитектура прил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«Дизайн-XML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пользуемые A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становка на устрой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лад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648-9EBD-4A83-9A06-608FD0581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9280" y="355320"/>
            <a:ext cx="809316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Дизайн-XML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50880" y="2079720"/>
            <a:ext cx="6291360" cy="36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адиционное разделение кода (Java) и ресурсов (XML) — дизайна, строк и т.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добно управлять ресурс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рощение локализ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деление работы программиста и дизайнер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62658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63000"/>
          </a:bodyPr>
          <a:p>
            <a:pPr marL="27180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Date Picker — виджет позволяющий работать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дато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180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здать этот виджет можно при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мощи конструкора:</a:t>
            </a:r>
            <a:br>
              <a:rPr sz="2500"/>
            </a:b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DatePickerDialog(Context, DatePickerDialog.</a:t>
            </a:r>
            <a:br>
              <a:rPr sz="2500"/>
            </a:b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OnDateSetListener, Year, Month, Day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180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6603840" y="1341360"/>
            <a:ext cx="2540160" cy="22860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556000" y="2602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Используемые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920" y="3645000"/>
            <a:ext cx="9144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rmAutofit fontScale="72000"/>
          </a:bodyPr>
          <a:p>
            <a:pPr marL="310680" indent="-232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становить дату можно при помощи объекта слушател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DatePickerDialog.OnDateSetListener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) , который вызывается всякий раз, когда пользователь нажимает на кнопку «Set». Реализуя метод экземпляра слушател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OnDataSet(DataPicker, year, month, day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мы сможем получить данные о дате из виджета и в дальнейшем работать с ними.</a:t>
            </a:r>
            <a:br>
              <a:rPr sz="2500"/>
            </a:br>
            <a:br>
              <a:rPr sz="2500"/>
            </a:br>
            <a:br>
              <a:rPr sz="2600"/>
            </a:br>
            <a:br>
              <a:rPr sz="2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56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738036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8000"/>
          </a:bodyPr>
          <a:p>
            <a:pPr marL="42300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Spinner — это виджет похожий на выпадающий вниз список, отображающий один элемент и позволяющий выбрать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любой другой, среди содержимого раскрывающегося списк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23000" indent="-31716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Spinner в программе можно создать с помощью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онструкторов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23000" indent="-31716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Spinner(Context, int mode)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— параметр mode позволяет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дать способ отображения элементов списка </a:t>
            </a: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MODE_DIALOG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MODE_DROPDOWN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23000" indent="-31716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Calibri"/>
              </a:rPr>
              <a:t>Spinner(Context context, AttributeSet attrs, int defStyle, int mode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2300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Элементы спиннера определяются классом Adapter, а затем присоединяются к нему с помощью метода SetAdapter(adapter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7281720" y="1712880"/>
            <a:ext cx="1862280" cy="24764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205800" y="476280"/>
            <a:ext cx="249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5000b"/>
                </a:solidFill>
                <a:latin typeface="Arial"/>
              </a:rPr>
              <a:t>Компонеты Tab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66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7057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отрение структуры приложения начнем с графических компонентов. В приложении все компоненты UI определяются в xml файле. Основным менеджером размещения в примере является Tab-layou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овать менеджер закладок можно двумя подходам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создать представления для каждой закладки в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ой Activity(форма приложения), а затем прицепить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х к TabHo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-323640"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жно описать представления конкретными Activity 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рез главный Activity связать их с TabHos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риложении используется первый подход (см. Рис.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7210440" y="1341360"/>
            <a:ext cx="1933560" cy="24764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3639600" y="476280"/>
            <a:ext cx="167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5000b"/>
                </a:solidFill>
                <a:latin typeface="Arial"/>
              </a:rPr>
              <a:t>Tab Lay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76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6920" y="40464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Установка на устройство и отлад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187280" y="1125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55640" y="1413000"/>
            <a:ext cx="770400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420840" indent="-420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елайте следующие шаги, чтобы посмотреть предварительно подготовленное приложение в действ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). Импорт приложения. Загрузите пример из каталога </a:t>
            </a:r>
            <a:r>
              <a:rPr b="0" lang="ru-RU" sz="2600" spc="-1" strike="noStrike" u="sng">
                <a:solidFill>
                  <a:srgbClr val="b292ca"/>
                </a:solidFill>
                <a:uFillTx/>
                <a:latin typeface="Calibri"/>
                <a:hlinkClick r:id="rId1"/>
              </a:rPr>
              <a:t>lab</a:t>
            </a:r>
            <a:r>
              <a:rPr b="0" lang="en-GB" sz="2600" spc="-1" strike="noStrike" u="sng">
                <a:solidFill>
                  <a:srgbClr val="b292ca"/>
                </a:solidFill>
                <a:uFillTx/>
                <a:latin typeface="Calibri"/>
                <a:hlinkClick r:id="rId2"/>
              </a:rPr>
              <a:t>01 </a:t>
            </a:r>
            <a:r>
              <a:rPr b="0" lang="en-GB" sz="2600" spc="-1" strike="noStrike" u="sng">
                <a:solidFill>
                  <a:srgbClr val="b292ca"/>
                </a:solidFill>
                <a:uFillTx/>
                <a:latin typeface="Calibri"/>
                <a:hlinkClick r:id="rId3"/>
              </a:rPr>
              <a:t>файла</a:t>
            </a:r>
            <a:r>
              <a:rPr b="0" lang="en-GB" sz="2600" spc="-1" strike="noStrike" u="sng">
                <a:solidFill>
                  <a:srgbClr val="b292ca"/>
                </a:solidFill>
                <a:uFillTx/>
                <a:latin typeface="Calibri"/>
                <a:hlinkClick r:id="rId4"/>
              </a:rPr>
              <a:t> lab</a:t>
            </a:r>
            <a:r>
              <a:rPr b="0" lang="ru-RU" sz="2600" spc="-1" strike="noStrike" u="sng">
                <a:solidFill>
                  <a:srgbClr val="b292ca"/>
                </a:solidFill>
                <a:uFillTx/>
                <a:latin typeface="Calibri"/>
                <a:hlinkClick r:id="rId5"/>
              </a:rPr>
              <a:t>Atom21</a:t>
            </a:r>
            <a:r>
              <a:rPr b="0" lang="en-GB" sz="2600" spc="-1" strike="noStrike" u="sng">
                <a:solidFill>
                  <a:srgbClr val="b292ca"/>
                </a:solidFill>
                <a:uFillTx/>
                <a:latin typeface="Calibri"/>
                <a:hlinkClick r:id="rId6"/>
              </a:rPr>
              <a:t>.</a:t>
            </a:r>
            <a:r>
              <a:rPr b="0" lang="ru-RU" sz="2600" spc="-1" strike="noStrike" u="sng">
                <a:solidFill>
                  <a:srgbClr val="b292ca"/>
                </a:solidFill>
                <a:uFillTx/>
                <a:latin typeface="Calibri"/>
                <a:hlinkClick r:id="rId7"/>
              </a:rPr>
              <a:t>ra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. Запуск прилож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n a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&gt;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roidapplicatio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езультате проект перестроится и запустится приложение. После загрузке эмулятора  можно убедиться в работоспособности программы и проанализировать ее код по описанию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87" name="" descr=""/>
            <p:cNvPicPr/>
            <p:nvPr/>
          </p:nvPicPr>
          <p:blipFill>
            <a:blip r:embed="rId8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10D-F554-4EB2-9DC6-481F1E8CA9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80360" cy="76057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1692360" y="907920"/>
            <a:ext cx="580212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666699"/>
                  </a:solidFill>
                  <a:miter/>
                </a:ln>
                <a:solidFill>
                  <a:srgbClr val="000080">
                    <a:alpha val="86000"/>
                  </a:srgbClr>
                </a:solidFill>
                <a:latin typeface="Souvenir Lt BT"/>
              </a:rPr>
              <a:t>САНКТ-ПЕТЕРБУРГСКИЙ ГОСУДАРСТВЕННЫЙ УНИВЕРСИТЕТ</a:t>
            </a:r>
            <a:endParaRPr b="1" lang="en-US" sz="4000" spc="1" strike="noStrike">
              <a:ln w="28440">
                <a:solidFill>
                  <a:srgbClr val="666699"/>
                </a:solidFill>
                <a:miter/>
              </a:ln>
              <a:solidFill>
                <a:srgbClr val="000080">
                  <a:alpha val="86000"/>
                </a:srgbClr>
              </a:solidFill>
              <a:latin typeface="Souvenir Lt BT"/>
              <a:ea typeface="Souvenir Lt BT"/>
            </a:endParaRPr>
          </a:p>
        </p:txBody>
      </p:sp>
      <p:sp>
        <p:nvSpPr>
          <p:cNvPr id="591" name=""/>
          <p:cNvSpPr/>
          <p:nvPr/>
        </p:nvSpPr>
        <p:spPr>
          <a:xfrm>
            <a:off x="2007360" y="4437000"/>
            <a:ext cx="523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597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000" y="355320"/>
            <a:ext cx="794844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Установка и настройка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реды разработк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161200" cy="5040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ить среда разработки Eclip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3"/>
              </a:rPr>
              <a:t>www.eclipse.org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5"/>
              </a:rPr>
              <a:t>downloads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6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ить JDK — Java Development K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7"/>
              </a:rPr>
              <a:t>http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8"/>
              </a:rPr>
              <a:t>:/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9"/>
              </a:rPr>
              <a:t>www.oracle.com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0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1"/>
              </a:rPr>
              <a:t>technetwork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2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3"/>
              </a:rPr>
              <a:t>java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4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5"/>
              </a:rPr>
              <a:t>javase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6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7"/>
              </a:rPr>
              <a:t>downloads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8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9"/>
              </a:rPr>
              <a:t>index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установки ADT откройте панель расширения среды(Install New Software), и затем в появившемся окне добавьте новый путь -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https://dl-ssl.google.com/android/eclips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ее Eclipse выполнит поиск требуемых данных, и в выпадающем списке вы сможете выбрать ADT и установить его. После установки у вас появитс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AVD Manager. Его можно запустить прямо из Eclipse (Window-&gt; Android SDK and AVD Manag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стр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irtual De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стан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верс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P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06" name="" descr=""/>
            <p:cNvPicPr/>
            <p:nvPr/>
          </p:nvPicPr>
          <p:blipFill>
            <a:blip r:embed="rId20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50760"/>
            <a:ext cx="8240760" cy="91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Необходимые знания и навык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309680" y="2583000"/>
            <a:ext cx="7129440" cy="2441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е представления об ОС Andro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азовое знание языка программирования Ja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000" y="25560"/>
            <a:ext cx="7948440" cy="91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Необходимые программные и аппаратные средств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49360" y="2542680"/>
            <a:ext cx="6392880" cy="3240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К под ОС Windows (или любой другой, подходящей для Android SD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стройство под управлением Android или эмулятор Android SD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411280" y="355320"/>
            <a:ext cx="622152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Описание установк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3960" y="2079720"/>
            <a:ext cx="7584840" cy="36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а разработки Eclip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3"/>
              </a:rPr>
              <a:t>www.eclipse.org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5"/>
              </a:rPr>
              <a:t>downloads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6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ить JDK — Java Development K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7"/>
              </a:rPr>
              <a:t>http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8"/>
              </a:rPr>
              <a:t>:/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9"/>
              </a:rPr>
              <a:t>www.oracle.com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0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1"/>
              </a:rPr>
              <a:t>technetwork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2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3"/>
              </a:rPr>
              <a:t>java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4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5"/>
              </a:rPr>
              <a:t>javase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6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7"/>
              </a:rPr>
              <a:t>downloads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8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Calibri"/>
                <a:hlinkClick r:id="rId19"/>
              </a:rPr>
              <a:t>index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33" name="" descr=""/>
            <p:cNvPicPr/>
            <p:nvPr/>
          </p:nvPicPr>
          <p:blipFill>
            <a:blip r:embed="rId20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11280" y="355320"/>
            <a:ext cx="622152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Android SDK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632720" cy="45230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ndroid SD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ставляет средство разработки приложений под Android. В него входя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android.jar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айл архива Java, содержащий все классы SDK Android, необходимые для создания при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documentation.html и каталог docs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кументация SDK предоставляется локально и через Интер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талог инструментов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ржит все инструменты командной строки для создания Android-при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USB-driver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талог, содержащий все необходимые драйверы для подключения среды разработки 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держивающим Android устройств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6000"/>
              <a:buFont typeface="Arial"/>
              <a:buChar char="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дняя версия Android SD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76000"/>
              <a:buFont typeface="Arial"/>
              <a:buChar char=""/>
              <a:tabLst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10058400"/>
                <a:tab algn="l" pos="10515600"/>
              </a:tabLst>
            </a:pP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ea typeface="Arial"/>
                <a:hlinkClick r:id="rId1"/>
              </a:rPr>
              <a:t>http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ea typeface="Arial"/>
                <a:hlinkClick r:id="rId2"/>
              </a:rPr>
              <a:t>:/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ea typeface="Arial"/>
                <a:hlinkClick r:id="rId3"/>
              </a:rPr>
              <a:t>developer.android.com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ea typeface="Arial"/>
                <a:hlinkClick r:id="rId4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ea typeface="Arial"/>
                <a:hlinkClick r:id="rId5"/>
              </a:rPr>
              <a:t>sdk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ea typeface="Arial"/>
                <a:hlinkClick r:id="rId6"/>
              </a:rPr>
              <a:t>/</a:t>
            </a:r>
            <a:r>
              <a:rPr b="0" lang="ru-RU" sz="2200" spc="-1" strike="noStrike" u="sng">
                <a:solidFill>
                  <a:srgbClr val="b292ca"/>
                </a:solidFill>
                <a:uFillTx/>
                <a:latin typeface="Arial"/>
                <a:ea typeface="Arial"/>
                <a:hlinkClick r:id="rId7"/>
              </a:rPr>
              <a:t>index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42" name="" descr=""/>
            <p:cNvPicPr/>
            <p:nvPr/>
          </p:nvPicPr>
          <p:blipFill>
            <a:blip r:embed="rId8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31040" cy="99216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Android AD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1378080"/>
            <a:ext cx="8215200" cy="49924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271440" indent="-2714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Android предлагает плагин ADT для Eclipse IDE, который обеспечивает разработчиков эффективными инструментами создания Android приложений. К примеру, установив ADT, на панелях toolbar и menubar появятся контролы, позволяющие быстро создавать проект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/>
          <p:nvPr/>
        </p:nvSpPr>
        <p:spPr>
          <a:xfrm>
            <a:off x="7446960" y="4032360"/>
            <a:ext cx="27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198440" y="3656160"/>
            <a:ext cx="6697800" cy="9792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03:25Z</dcterms:created>
  <dc:creator>Андрей</dc:creator>
  <dc:description/>
  <dc:language>en-US</dc:language>
  <cp:lastModifiedBy>Oleg</cp:lastModifiedBy>
  <dcterms:modified xsi:type="dcterms:W3CDTF">2012-12-30T16:21:20Z</dcterms:modified>
  <cp:revision>505</cp:revision>
  <dc:subject/>
  <dc:title>Training services</dc:title>
</cp:coreProperties>
</file>