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5B7F-8AB1-4373-8274-1DDE30E897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070-9B58-4523-9BB6-3B07567926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66B-454C-4A9B-B53E-F39BD40445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509-9616-4E0C-B348-2F3183FD73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514-CB79-4F6A-98F6-630E9745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036-D8BF-4082-B953-8082F3B7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9AD-FEEE-4D2E-872E-BF479A40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935-E0A1-4D31-928F-557423B9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3B0C-A927-4375-A1CE-F276F2FC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9B8-9B3E-4836-A5E6-2124B352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2E6F-ADD4-44BC-B779-919CB233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7F9-EFA1-4A7C-B7F4-6A548F6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A858-3335-4458-B778-D646238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AD7-FE78-4007-87E7-645AE41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61F5-3955-4B1E-ABD3-D946751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737-6A81-4F9D-A940-842550B3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2D4-350A-4BDD-A18B-BCFEF5D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4E61-BB65-4049-A4F0-5C742DC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59D-EEFF-4619-A47C-2214EF0C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FF6-58D8-4CFD-8A85-B0F1CD91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B33F-139D-49D3-8CF2-5B9D86E3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7423-CC8C-401C-960F-DEB0DFC1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4BE9-FD39-4659-BB6E-5F598884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027B-A603-4470-88F3-FEA604FE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9E1B-758B-4385-AAC6-2A4EC8F6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9CEF-2582-4A75-8C3E-F5729D1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3BB-C306-4CC4-8E31-89D6476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777C-DDC3-45A1-BA01-EF64B97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DA22-AD6A-4093-BFE6-D9962B86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B04B-31CF-4AA0-84C9-EB7BAC4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C6011-5E19-4824-8749-E2779B2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446C-15D4-4558-9CEE-D3758B43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5775-9FF8-4191-8C61-711B88E7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B1F2-DC8F-4624-872E-3D9A8BB0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0F2B-CC49-4E6B-AA86-5C667D10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643A-8344-4CC1-8B99-9729B8D3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DAD66-77B5-4BB7-912F-EF145BF4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0C8-1267-4D56-A264-360C6AF3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A450-7924-4A03-BA51-E527213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9A192-1CDF-42A6-A5AB-BDD8A257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F6D6-91C8-404F-8E5B-9766CDAA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A7A3-C2E1-4B0A-84C6-3A288EB2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D67F-F263-426B-B6B8-4F23F9B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2FAF-F0A6-4416-8D98-2B72182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A2A8-AE0E-454B-A1D8-E71383C5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E591-3572-4D97-962A-85776705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FC3E-AD8C-45D1-9975-1A485B42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21957-FDFD-4412-A1AE-F18AFB04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FFD-78DC-426F-B39D-90CF0910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146CD-CCFF-41AD-B17F-4BE1AE5C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8A5E-3236-4F70-B9DB-566C857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44BC-2DB8-4F73-899F-A5A97E72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3F24-77BC-4F0B-8F5B-44E39ADB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24C8-B61A-444F-9DE6-A5AFCC80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1152-701B-4178-A4C0-8D37ACF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8EB6C-7343-4E47-8148-6E14625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5EF2-1000-43E4-81AB-2095B66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63291-28A5-4994-A279-DBECB6AA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19D53-BA1D-4291-BC10-1D935CE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0D9-EC40-4EF2-94DF-A7D6BBC7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CB6E-71C7-461B-AC71-5BB02181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7E7D1-9C12-4484-9448-9F1D3E6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1CE9-17CD-455F-A64B-1239EBC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C20E-77D9-4833-A70A-39CC860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293C7-81F8-489F-8517-73147BCC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3E2D7-C2B9-44F9-A587-DBF7E71A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9DA2-6728-40F9-8525-74D015DC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B196-A59E-4597-A036-24920DC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1D67-BC3A-46F5-94F9-59D77AB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A976-2DF6-449B-89F9-A275FE2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6F6-4D6E-44A3-8D2F-0B3BC25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81374-EEA4-43BF-A898-7017598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D046-0C1A-4C9B-B7FD-05FF0930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1828-1CC9-410C-AF87-963388E8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A36-EBAA-4520-AD8B-A00A4CD2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8FD-F0EB-451B-8F23-1718EB3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E5FA-C354-4F9C-9A94-CD03413DDD3D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0CD-E4A5-4632-8DAC-9E5B4FF29790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940-E0F9-43F3-A232-031D7A32ECF3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AB24-6F49-42C8-BCBF-1C37D7198F06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E1C-02EE-4510-AD4E-48C69B1C93D9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984-E537-46C6-AF18-88E77160238E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224C-210D-4846-A093-3474E08E36CF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3DA-EF32-4605-8E1E-1A855097E0E4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BA5-7CE0-485F-B8F4-789D408BB620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44C-5902-4BB1-8324-420353273E20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43F-CC42-428C-B65D-F3A59F457DD5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CEC-8E0E-4396-B162-83AE55190C07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.spbu.ru/user/gran/Atom32/index.htm" TargetMode="External"/><Relationship Id="rId2" Type="http://schemas.openxmlformats.org/officeDocument/2006/relationships/hyperlink" Target="http://www.math.spbu.ru/user/gran/Atom32/index.htm" TargetMode="External"/><Relationship Id="rId3" Type="http://schemas.openxmlformats.org/officeDocument/2006/relationships/hyperlink" Target="http://www.math.spbu.ru/user/gran/Atom32/index.htm" TargetMode="External"/><Relationship Id="rId4" Type="http://schemas.openxmlformats.org/officeDocument/2006/relationships/hyperlink" Target="http://www.math.spbu.ru/user/gran/Atom32/index.htm" TargetMode="External"/><Relationship Id="rId5" Type="http://schemas.openxmlformats.org/officeDocument/2006/relationships/hyperlink" Target="http://www.math.spbu.ru/user/gran/Atom32/index.htm" TargetMode="External"/><Relationship Id="rId6" Type="http://schemas.openxmlformats.org/officeDocument/2006/relationships/hyperlink" Target="http://www.math.spbu.ru/user/gran/Atom32/index.htm" TargetMode="External"/><Relationship Id="rId7" Type="http://schemas.openxmlformats.org/officeDocument/2006/relationships/hyperlink" Target="http://www.math.spbu.ru/user/gran/Atom32/index.htm" TargetMode="External"/><Relationship Id="rId8" Type="http://schemas.openxmlformats.org/officeDocument/2006/relationships/hyperlink" Target="http://www.math.spbu.ru/user/gran/Atom32/index.htm" TargetMode="External"/><Relationship Id="rId9" Type="http://schemas.openxmlformats.org/officeDocument/2006/relationships/hyperlink" Target="http://www.math.spbu.ru/user/gran/Atom32/index.htm" TargetMode="External"/><Relationship Id="rId10" Type="http://schemas.openxmlformats.org/officeDocument/2006/relationships/hyperlink" Target="http://www.math.spbu.ru/user/gran/Atom32/index.htm" TargetMode="External"/><Relationship Id="rId11" Type="http://schemas.openxmlformats.org/officeDocument/2006/relationships/hyperlink" Target="http://www.math.spbu.ru/user/gran/Atom32/index.htm" TargetMode="External"/><Relationship Id="rId12" Type="http://schemas.openxmlformats.org/officeDocument/2006/relationships/hyperlink" Target="http://www.math.spbu.ru/user/gran/Atom32/index.htm" TargetMode="External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3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1341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84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прило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мобильных интеллектуальных сист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атформе Intel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3860640"/>
            <a:ext cx="70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ничин Олег Николаевич – общая ред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AD3-D7FA-4FD3-8B8A-31CD54585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Кибернетическая революция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Текст 1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29600" cy="2658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CED-0557-440A-A1A4-A1A5B551F3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Принятие</a:t>
            </a:r>
            <a:r>
              <a:rPr b="0" lang="en-US" sz="3200" spc="-1" strike="noStrike">
                <a:solidFill>
                  <a:srgbClr val="b292ca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решений в реальном времени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тические фактор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– надо принять и реализовать решение до наступления следующего «разрушительного» собы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теллект (природные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искусственный) – надо достичь цели в условиях неопреде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тическая технолог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льти-агентная технология для поддержки (или замены) процесса принятия решения челове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62F-0D00-438A-BE4F-11E131AF1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5172120" cy="4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Почему это важно?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6" name="Picture 11" descr="IntelSystem-2.jpg"/>
          <p:cNvPicPr/>
          <p:nvPr/>
        </p:nvPicPr>
        <p:blipFill>
          <a:blip r:embed="rId1"/>
          <a:stretch/>
        </p:blipFill>
        <p:spPr>
          <a:xfrm>
            <a:off x="826920" y="1844640"/>
            <a:ext cx="7848720" cy="44085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F3C-BAB6-4803-8D47-104D087D4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9000" y="329760"/>
            <a:ext cx="68454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Что такое вычисления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03280" y="1844280"/>
            <a:ext cx="2808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б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2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2543040" cy="169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37271"/>
          <p:cNvPicPr/>
          <p:nvPr/>
        </p:nvPicPr>
        <p:blipFill>
          <a:blip r:embed="rId2"/>
          <a:stretch/>
        </p:blipFill>
        <p:spPr>
          <a:xfrm>
            <a:off x="4859280" y="3357720"/>
            <a:ext cx="3745080" cy="2743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826920" y="4005360"/>
            <a:ext cx="3889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56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Супер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56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14C-0CBF-4C57-A934-A853D095D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610056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Информати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Computer Science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76360" y="2557440"/>
            <a:ext cx="73166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может компьютер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чего нужен компьютер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EC4-4436-4288-B79D-8BF1235457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2189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такое информац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Информация, сигналы, данные, знания и управле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2" name="Cloud"/>
          <p:cNvSpPr/>
          <p:nvPr/>
        </p:nvSpPr>
        <p:spPr>
          <a:xfrm>
            <a:off x="2843280" y="2708280"/>
            <a:ext cx="4763880" cy="25225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3271680" y="33685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DBD-919B-4EC9-B171-1FBB7CAF69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Обратная связь по состоянию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формация (состояние системы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u = U(x) </a:t>
            </a:r>
            <a:r>
              <a:rPr b="0" i="1" lang="ru-RU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26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0AB-D9FA-4A54-BCBB-4D27A32A9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Взаимное влияние информации и управле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348160" cy="4527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457200" y="1218960"/>
            <a:ext cx="8229600" cy="49100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8F0-67EC-49C0-B541-420747A9D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игналы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и данные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гнал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1135080" y="2631960"/>
            <a:ext cx="5078520" cy="2286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1849320" y="3132000"/>
            <a:ext cx="2928960" cy="1319400"/>
          </a:xfrm>
          <a:prstGeom prst="rect">
            <a:avLst/>
          </a:prstGeom>
          <a:ln w="0">
            <a:noFill/>
          </a:ln>
        </p:spPr>
      </p:pic>
      <p:sp>
        <p:nvSpPr>
          <p:cNvPr id="441" name="Cloud"/>
          <p:cNvSpPr/>
          <p:nvPr/>
        </p:nvSpPr>
        <p:spPr>
          <a:xfrm>
            <a:off x="2421000" y="3346560"/>
            <a:ext cx="1558800" cy="8571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4635360" y="3060720"/>
            <a:ext cx="10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4788000" y="321300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992320" y="3274920"/>
            <a:ext cx="107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низ 11"/>
          <p:cNvSpPr/>
          <p:nvPr/>
        </p:nvSpPr>
        <p:spPr>
          <a:xfrm flipH="1">
            <a:off x="3135240" y="4203720"/>
            <a:ext cx="285840" cy="428760"/>
          </a:xfrm>
          <a:prstGeom prst="down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лево 12"/>
          <p:cNvSpPr/>
          <p:nvPr/>
        </p:nvSpPr>
        <p:spPr>
          <a:xfrm>
            <a:off x="1706400" y="3632040"/>
            <a:ext cx="785880" cy="285840"/>
          </a:xfrm>
          <a:prstGeom prst="leftArrow">
            <a:avLst>
              <a:gd name="adj1" fmla="val 50000"/>
              <a:gd name="adj2" fmla="val 4998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трелка вверх 13"/>
          <p:cNvSpPr/>
          <p:nvPr/>
        </p:nvSpPr>
        <p:spPr>
          <a:xfrm>
            <a:off x="3135240" y="2989440"/>
            <a:ext cx="285840" cy="428400"/>
          </a:xfrm>
          <a:prstGeom prst="upArrow">
            <a:avLst>
              <a:gd name="adj1" fmla="val 50000"/>
              <a:gd name="adj2" fmla="val 4995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трелка влево 14"/>
          <p:cNvSpPr/>
          <p:nvPr/>
        </p:nvSpPr>
        <p:spPr>
          <a:xfrm flipH="1">
            <a:off x="3849840" y="3560760"/>
            <a:ext cx="1357200" cy="285840"/>
          </a:xfrm>
          <a:prstGeom prst="leftArrow">
            <a:avLst>
              <a:gd name="adj1" fmla="val 50000"/>
              <a:gd name="adj2" fmla="val 499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7778880" y="32036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Стрелка вправо 16"/>
          <p:cNvSpPr/>
          <p:nvPr/>
        </p:nvSpPr>
        <p:spPr>
          <a:xfrm>
            <a:off x="6207120" y="34894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7"/>
          <p:cNvSpPr/>
          <p:nvPr/>
        </p:nvSpPr>
        <p:spPr>
          <a:xfrm>
            <a:off x="7278840" y="3274920"/>
            <a:ext cx="1357200" cy="857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5349960" y="32036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8640" y="57261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57" name="" descr=""/>
            <p:cNvPicPr/>
            <p:nvPr/>
          </p:nvPicPr>
          <p:blipFill>
            <a:blip r:embed="rId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485-98BD-4E95-9612-B7C291C15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Обратная связь по</a:t>
            </a:r>
            <a:r>
              <a:rPr b="0" lang="en-US" sz="3200" spc="-1" strike="noStrike">
                <a:solidFill>
                  <a:srgbClr val="b292ca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наблюдениям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блюдения (данные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u = U(y) </a:t>
            </a:r>
            <a:r>
              <a:rPr b="0" i="1" lang="ru-RU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81E-D874-4673-B663-429B4F5ED1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0"/>
            <a:ext cx="72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Разработка приложений для мобильных интеллектуальных систем на платформе Intel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981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4880" y="148428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грамма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2205000"/>
            <a:ext cx="83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строенных систем) к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c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интеллектуальным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ультиагентные технолог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азработка мультиагентных сист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ультиагентное управ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Система управления БПЛА груп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Особенности авторского права и патентования разработок встроенных сист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508464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www.math.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spbu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4"/>
              </a:rPr>
              <a:t>ru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/user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gran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8"/>
              </a:rPr>
              <a:t>Atom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9"/>
              </a:rPr>
              <a:t>3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10"/>
              </a:rPr>
              <a:t>2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11"/>
              </a:rPr>
              <a:t>/index.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12"/>
              </a:rPr>
              <a:t>ht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90" name="" descr=""/>
            <p:cNvPicPr/>
            <p:nvPr/>
          </p:nvPicPr>
          <p:blipFill>
            <a:blip r:embed="rId13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674-8250-4E68-BC48-F99DEF621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68" name="Текст 1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100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AD4-9B05-46C4-8E3B-27E700D8C6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2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5306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81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E1D-7204-44CF-8BC3-5A7589D683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Наблюдения с помехам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85840" y="1989000"/>
            <a:ext cx="8229600" cy="25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гна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блюдения (данные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шибки (помех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y = f + v </a:t>
            </a:r>
            <a:r>
              <a:rPr b="0" i="1" lang="ru-RU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156360" y="3645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4"/>
          <p:cNvSpPr/>
          <p:nvPr/>
        </p:nvSpPr>
        <p:spPr>
          <a:xfrm>
            <a:off x="5656320" y="3716280"/>
            <a:ext cx="1357200" cy="85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8085240" y="4930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8"/>
          <p:cNvSpPr/>
          <p:nvPr/>
        </p:nvSpPr>
        <p:spPr>
          <a:xfrm>
            <a:off x="7585200" y="5002200"/>
            <a:ext cx="1357200" cy="85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4227480" y="49309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10"/>
          <p:cNvSpPr/>
          <p:nvPr/>
        </p:nvSpPr>
        <p:spPr>
          <a:xfrm>
            <a:off x="3727440" y="5002200"/>
            <a:ext cx="1357200" cy="85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Блок-схема: ИЛИ 11"/>
          <p:cNvSpPr/>
          <p:nvPr/>
        </p:nvSpPr>
        <p:spPr>
          <a:xfrm>
            <a:off x="6013440" y="5145120"/>
            <a:ext cx="612720" cy="612720"/>
          </a:xfrm>
          <a:prstGeom prst="flowChartOr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трелка вправо 12"/>
          <p:cNvSpPr/>
          <p:nvPr/>
        </p:nvSpPr>
        <p:spPr>
          <a:xfrm>
            <a:off x="5084640" y="5216400"/>
            <a:ext cx="928800" cy="484200"/>
          </a:xfrm>
          <a:prstGeom prst="rightArrow">
            <a:avLst>
              <a:gd name="adj1" fmla="val 50000"/>
              <a:gd name="adj2" fmla="val 5005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трелка вправо 13"/>
          <p:cNvSpPr/>
          <p:nvPr/>
        </p:nvSpPr>
        <p:spPr>
          <a:xfrm>
            <a:off x="6656400" y="5216400"/>
            <a:ext cx="928800" cy="484200"/>
          </a:xfrm>
          <a:prstGeom prst="rightArrow">
            <a:avLst>
              <a:gd name="adj1" fmla="val 50000"/>
              <a:gd name="adj2" fmla="val 5005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трелка вниз 14"/>
          <p:cNvSpPr/>
          <p:nvPr/>
        </p:nvSpPr>
        <p:spPr>
          <a:xfrm>
            <a:off x="6084720" y="4573440"/>
            <a:ext cx="484200" cy="571680"/>
          </a:xfrm>
          <a:prstGeom prst="downArrow">
            <a:avLst>
              <a:gd name="adj1" fmla="val 50000"/>
              <a:gd name="adj2" fmla="val 5005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042-25D7-4E43-83C0-48A1301EFF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Типы помех и усреднение наблюдений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85840" y="1989000"/>
            <a:ext cx="8229600" cy="25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49760" indent="-149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y = f + v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ех н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ехи мал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ехи малы с течением време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ехи гауссовск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ехи произволь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49760" indent="-149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8D4-7E9E-4591-9419-2B98B93CE8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Стрелка вправо 11"/>
          <p:cNvSpPr/>
          <p:nvPr/>
        </p:nvSpPr>
        <p:spPr>
          <a:xfrm flipH="1">
            <a:off x="5000760" y="4637160"/>
            <a:ext cx="2071440" cy="428400"/>
          </a:xfrm>
          <a:prstGeom prst="rightArrow">
            <a:avLst>
              <a:gd name="adj1" fmla="val 50000"/>
              <a:gd name="adj2" fmla="val 50009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6715080" y="2708280"/>
            <a:ext cx="1457280" cy="23907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6143760" y="7794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5643720" y="851040"/>
            <a:ext cx="1357200" cy="857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72280" y="20653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7572240" y="2136600"/>
            <a:ext cx="1357560" cy="857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4214880" y="20653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8"/>
          <p:cNvSpPr/>
          <p:nvPr/>
        </p:nvSpPr>
        <p:spPr>
          <a:xfrm>
            <a:off x="3714840" y="2136600"/>
            <a:ext cx="1357200" cy="857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Блок-схема: ИЛИ 9"/>
          <p:cNvSpPr/>
          <p:nvPr/>
        </p:nvSpPr>
        <p:spPr>
          <a:xfrm>
            <a:off x="6000840" y="2279520"/>
            <a:ext cx="612720" cy="613080"/>
          </a:xfrm>
          <a:prstGeom prst="flowChartOr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трелка вправо 10"/>
          <p:cNvSpPr/>
          <p:nvPr/>
        </p:nvSpPr>
        <p:spPr>
          <a:xfrm>
            <a:off x="2786040" y="2351160"/>
            <a:ext cx="928800" cy="484200"/>
          </a:xfrm>
          <a:prstGeom prst="rightArrow">
            <a:avLst>
              <a:gd name="adj1" fmla="val 50000"/>
              <a:gd name="adj2" fmla="val 5005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Стрелка вниз 12"/>
          <p:cNvSpPr/>
          <p:nvPr/>
        </p:nvSpPr>
        <p:spPr>
          <a:xfrm>
            <a:off x="6072120" y="1708200"/>
            <a:ext cx="484200" cy="571320"/>
          </a:xfrm>
          <a:prstGeom prst="downArrow">
            <a:avLst>
              <a:gd name="adj1" fmla="val 50000"/>
              <a:gd name="adj2" fmla="val 5002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8960" y="1420920"/>
            <a:ext cx="1096200" cy="65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Стрелка вправо 14"/>
          <p:cNvSpPr/>
          <p:nvPr/>
        </p:nvSpPr>
        <p:spPr>
          <a:xfrm>
            <a:off x="5072040" y="2351160"/>
            <a:ext cx="928800" cy="484200"/>
          </a:xfrm>
          <a:prstGeom prst="rightArrow">
            <a:avLst>
              <a:gd name="adj1" fmla="val 50000"/>
              <a:gd name="adj2" fmla="val 50051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9"/>
          <p:cNvSpPr/>
          <p:nvPr/>
        </p:nvSpPr>
        <p:spPr>
          <a:xfrm>
            <a:off x="1908000" y="206064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2"/>
          <a:stretch/>
        </p:blipFill>
        <p:spPr>
          <a:xfrm>
            <a:off x="214200" y="1994040"/>
            <a:ext cx="1000080" cy="340020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21"/>
          <p:cNvSpPr/>
          <p:nvPr/>
        </p:nvSpPr>
        <p:spPr>
          <a:xfrm>
            <a:off x="1857240" y="4280040"/>
            <a:ext cx="307188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22"/>
          <p:cNvSpPr/>
          <p:nvPr/>
        </p:nvSpPr>
        <p:spPr>
          <a:xfrm>
            <a:off x="2357280" y="4422600"/>
            <a:ext cx="21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u = U(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Стрелка вправо 24"/>
          <p:cNvSpPr/>
          <p:nvPr/>
        </p:nvSpPr>
        <p:spPr>
          <a:xfrm>
            <a:off x="6643800" y="2351160"/>
            <a:ext cx="928440" cy="484200"/>
          </a:xfrm>
          <a:prstGeom prst="rightArrow">
            <a:avLst>
              <a:gd name="adj1" fmla="val 50000"/>
              <a:gd name="adj2" fmla="val 50032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3"/>
          <a:stretch/>
        </p:blipFill>
        <p:spPr>
          <a:xfrm>
            <a:off x="214200" y="3565440"/>
            <a:ext cx="1609920" cy="20671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4"/>
          <a:stretch/>
        </p:blipFill>
        <p:spPr>
          <a:xfrm>
            <a:off x="6929280" y="2565360"/>
            <a:ext cx="136800" cy="2142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34" name="" descr=""/>
            <p:cNvPicPr/>
            <p:nvPr/>
          </p:nvPicPr>
          <p:blipFill>
            <a:blip r:embed="rId5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6EE-FCA2-4BC4-8F0F-C65BB60C79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5"/>
          <p:cNvSpPr/>
          <p:nvPr/>
        </p:nvSpPr>
        <p:spPr>
          <a:xfrm>
            <a:off x="1187280" y="1773360"/>
            <a:ext cx="795672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брид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синхр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ер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льтиаг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охас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727280" y="476280"/>
            <a:ext cx="74167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  <a:ea typeface="Arial"/>
              </a:rPr>
              <a:t>Характерные черты новых вычислительных устройст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033-2008-4A34-81BD-13AEE8E803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9000" y="280800"/>
            <a:ext cx="646452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Природа стохастичност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1424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предел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80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менты переключе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80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ия при переключения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80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Задание Программы, Целе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.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0A9-C27E-41BF-89C4-28A2A8D0CC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320" y="426960"/>
            <a:ext cx="77562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тохастичность (στοχάζομαι)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333360"/>
            <a:ext cx="813780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90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90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0800" indent="-190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целиться, мети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ex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τινος Xen., Isocr., Plat., Arst. — целиться во что (в кого)-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0" indent="-190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иметь в виду, стрем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ex. (τινος Plat., Arst. и πρός τι Plat.)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κριτῶν τῶν κρατίστων Xen. — стремиться к тому, чтобы судьями были самые влиятельные люд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0" indent="-190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применяться, приспособля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ex. (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τοῦ συμβουλευομένου Plat.)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τῆς τοῦ δήμου βουλήσεως Polyb. — применяться к воле на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0800" indent="-190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умозаключать, судить, догадываться, разгадыв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ex. (τινος Isocr., Plat. и τι Xen.)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τὰ συμφέροντα Xen. — догадываться о том, что требуется;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ἔκ и διά τινος Polyb. — заключать на основании чего-л.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τῷ στοχάζεσθαι Plat. — путем догад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A17-38E7-4E05-B53E-C343EDD659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88508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Стохастичность и вычисле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«Кто нам мешает, тот нам поможет!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63360" y="-831960"/>
            <a:ext cx="2286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63360" y="-831960"/>
            <a:ext cx="22860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http://t0.gstatic.com/images?q=tbn:ANd9GcSF8LeuH7nWN517BzOG6YV-rZ5pGpplWa5dLbKnFVF89b0YxaPGGQ"/>
          <p:cNvPicPr/>
          <p:nvPr/>
        </p:nvPicPr>
        <p:blipFill>
          <a:blip r:embed="rId1"/>
          <a:stretch/>
        </p:blipFill>
        <p:spPr>
          <a:xfrm>
            <a:off x="2556000" y="2565360"/>
            <a:ext cx="3959280" cy="24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1116000" y="501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тохастичность является основой само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F5F-4BAE-4E50-9B68-DF2A1BE10F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574" name="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33360"/>
            <a:ext cx="72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Структура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8000" y="765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30240" y="206064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кция или Лаборатор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0920" y="2997360"/>
            <a:ext cx="54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013-F066-4C10-8A42-D8EE271DE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2602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Лабораторные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83664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80" y="16160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лабораторной рабо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133720"/>
            <a:ext cx="82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лаборатор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для выполн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боратор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ые к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для самостоятельной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BC5-46D5-4370-A412-9DB592AB4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3336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От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embedded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к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3280" y="90792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4320" y="1197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кция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6200" y="1773360"/>
            <a:ext cx="8497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 от простых встроенных систем к интеллектуаль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бернетическая револю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, сигналы, данные, знания и управл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BFE-2C1A-44DE-9CF3-2A5628DCB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Сдвиги в технологиях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XXI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в.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2640" y="5445000"/>
            <a:ext cx="86313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пень сложности в экономике и обществе рас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501480" y="1916280"/>
            <a:ext cx="1756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7120" y="234792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Урбан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Индустри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Технологии массов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5280" indent="-215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у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3120" y="4005360"/>
            <a:ext cx="194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Глобализация обще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Экономика зн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Цифровые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65120" y="3500280"/>
            <a:ext cx="287640" cy="505080"/>
          </a:xfrm>
          <a:prstGeom prst="downArrow">
            <a:avLst>
              <a:gd name="adj1" fmla="val 50000"/>
              <a:gd name="adj2" fmla="val 43899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01840" y="1773360"/>
            <a:ext cx="175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люч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89120" y="2708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01840" y="4076640"/>
            <a:ext cx="194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96200" indent="-19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Знания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200" indent="-19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21120" y="350028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29120" y="1773360"/>
            <a:ext cx="175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пр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49840" y="350028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86560" y="1916280"/>
            <a:ext cx="175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26200" y="270828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Региональ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41840" y="4221000"/>
            <a:ext cx="194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Глобальна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34200" y="350028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97840" y="1773360"/>
            <a:ext cx="175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54920" y="2708280"/>
            <a:ext cx="20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Экономия пр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масштабирован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26200" y="4221000"/>
            <a:ext cx="194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Адаптив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18560" y="350028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45120" y="2708280"/>
            <a:ext cx="122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4148280"/>
            <a:ext cx="1944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96200" indent="-19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Цифровы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6200" indent="-196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се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396-E918-4A03-A3EE-33A68B00B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Цифровые технологии в сравнении с механическими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43600" cy="3573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CF7-2523-4955-9365-991203D843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Следствия</a:t>
            </a:r>
            <a:r>
              <a:rPr b="0" lang="en-US" sz="3200" spc="-1" strike="noStrike">
                <a:solidFill>
                  <a:srgbClr val="b292ca"/>
                </a:solidFill>
                <a:latin typeface="Cambria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роста сложности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ля живущих и работающих в сложных условиях частых непредсказуемых разрушительных собы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рошо структурированные общества и бизнесы не могут реагировать быстро на непредвиденные собы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определенности генерируют трево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определенности дают возмож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D79-0B30-4066-9D89-660A92392A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Задачи</a:t>
            </a:r>
            <a:r>
              <a:rPr b="0" lang="en-US" sz="2800" spc="-1" strike="noStrike">
                <a:solidFill>
                  <a:srgbClr val="b292ca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кибернетики на ближайшие 50 ле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лад Мюррея (Сидней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C-200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чески  реконфигурируемое интеллектуальное управл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инхронная теория управл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через Интерн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программирование системы управления бактери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футбольной команды роботов, которая выиграет у победителя кубка мира среди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2E0-3D81-4647-8674-0449B82C9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Oleg</cp:lastModifiedBy>
  <dcterms:modified xsi:type="dcterms:W3CDTF">2012-12-30T15:39:42Z</dcterms:modified>
  <cp:revision>495</cp:revision>
  <dc:subject/>
  <dc:title>Training services</dc:title>
</cp:coreProperties>
</file>