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80DC-D4C1-4924-8CA5-392F44D4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30F-343A-482D-9D63-FD987912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0CD7-CC23-4E96-828A-23C385782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A20E-B3B5-46A3-99D0-4049342A9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1376-17C0-492B-8AFD-8668341FF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0476-B444-485B-9E79-24AC4887E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D2F8-7572-4427-A855-96E34430B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19D9-47F0-4C58-B336-4FF57EBE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118F-0C47-4BD8-808B-E7CDCE10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61920"/>
            <a:ext cx="82296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D8406-AEED-4D94-91AE-675D0CA51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30F02-0726-4B1B-9738-552FB04D6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C70C-FA34-42CB-A072-781E4E07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D3A1-4D1A-41AA-88FC-BC562D42E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9FE0-D453-45C9-820B-01963BBB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9971-311D-4AD3-A2A2-82E35A109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6942E-6CEA-42AD-84B3-14D00FB3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309E6-DF69-4364-AD38-824A3AF44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70F7-F969-4FAE-A23E-05A0FB216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6B47-20CD-4988-8697-CBE104410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E6D1-2786-4220-8896-809563F90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61920"/>
            <a:ext cx="8229600" cy="59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7D77-6484-4E81-8C3A-C3D591CB9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48C-A802-4CED-A518-1012A560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ED7-3611-468D-A200-9DB82A1F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A3D3-027C-4974-9DD3-9B2C048C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77120"/>
            <a:ext cx="213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0E24-38F1-4E05-96CE-A2F0E9FDC4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96723-A316-4AB4-9DAB-5B919AF36DC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324480" cy="16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Технологии программирования.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Monotype Corsiva"/>
              </a:rPr>
              <a:t>Курс на базе </a:t>
            </a:r>
            <a:br>
              <a:rPr sz="2800"/>
            </a:b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Microsoft Solutions Frame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52880" y="4191120"/>
            <a:ext cx="2819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еминар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хождение фазы стабилизации в каждой команд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47600"/>
            <a:ext cx="8229600" cy="10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Содерж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Обсуждение подходов к тестированию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V: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табилизация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Основные задачи фазы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тирование разработанного реш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оритезация и устранение ошибок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дготовка решения к выпус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лотное внедрени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V: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табилизация...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Вехи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лавная веха фазы: Готовность решения утвержден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комендуемые промежуточные вехи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чка конверген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очка достижения нуля ошиб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ерсии-кандида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Контрольное тестирование заверш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Тестирование приемлемости для потребителей заверш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илотное внедрение заверше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Фаза </a:t>
            </a: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IV: </a:t>
            </a:r>
            <a:r>
              <a:rPr b="0" lang="ru-RU" sz="3600" spc="-1" strike="noStrike">
                <a:solidFill>
                  <a:srgbClr val="ffffff"/>
                </a:solidFill>
                <a:latin typeface="Verdana"/>
              </a:rPr>
              <a:t>Стабилизац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Основные результаты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кончательный продукт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Документация выпус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атериалы поддержки реш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езультаты и инструментарий тестир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сходный и исполнимый код прилож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оектная документац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нализ пройденной фаз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Результаты и инструментарий тестировани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Тест 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Тест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озможность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e701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Отчет о пилотном внедрени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539720"/>
            <a:ext cx="86868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Це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Факторы и метрики оценки успешности внедр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Отзыв о пилотном внедрен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щение с пользовательским сообщество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четы о проблемах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зывы конечных пользоват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блюдения проектной групп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чет по собранной статистик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Отзывы проектной групп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зывы по результатам обуч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зывы по результатам развертыва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явленные проблем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ложения по развити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e701"/>
                </a:solidFill>
                <a:latin typeface="Arial"/>
              </a:rPr>
              <a:t>Результаты пилотного внедрения и рекоменд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6192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Домашнее задание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ждая команд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естирует свое реш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M</cp:lastModifiedBy>
  <dcterms:modified xsi:type="dcterms:W3CDTF">2006-12-03T17:25:56Z</dcterms:modified>
  <cp:revision>8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