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3DBF-60E8-4B18-A1B6-96BEC91CA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E62B-39C3-4033-99DF-9B04925E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6111-31CB-47EF-9660-0D9B6A48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1D19-4F56-48B1-8247-81CD51EE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BA19-BF45-45EC-A78E-014AACE41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15D60-CF22-478A-B5AF-48713063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19C9-EEB6-4F99-B942-CD3AAA4EA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1828-DC12-4D7B-AF4E-246D2E7F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370A-34AC-4134-8623-54A17E5D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77760"/>
            <a:ext cx="82296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D9265-C273-4E1C-B4D4-BDAFE6472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2E2F5-19AE-4895-997B-1E1251E4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373-1FF8-495C-A523-6723F5E4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AA31-A8D1-4B45-979A-E1959DF42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8243F-8E8E-422C-85AC-DFB5205B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FA9C-1F57-4C47-8AC2-3CD966EB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4378B-0A51-4FF5-B4E7-A5A7BC15F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99AAF-84A9-4179-9A8C-4DCE2FCB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910B-F5BD-434E-8FCC-B59915F5B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1C53-0DA4-4F74-9C1C-4B9B9D64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96E9-7D17-4CCA-964C-3C28A292E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7760"/>
            <a:ext cx="8229600" cy="621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B2C3-5B82-4E07-905F-9DF50BD2C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AAA0-96BF-4BE2-BCBA-A4D7D202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90DF-CDD4-4090-AA4D-CE6A5D32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C83F-A3E9-4839-BD1A-41202068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E1A55-12A3-4402-8EBC-68635D9874F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67A8-A83D-47CD-84DA-D108E87FC41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инар 6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хождение фазы разработки в каждой кома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уждение типовых проблем при разработк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аждая команда выделяет наиболее проблемные участки для обсу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азработка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Основная задача фа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здание компонентов решен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окументация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граммный ко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азработка..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Вех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ая веха фазы: Разработка завершен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омендуемые промежуточные вех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нцепция подтвержден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лд номер 1 заверш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илд номер N заверш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II: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 Разработк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Результаты фа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сходный и исполняемый код приложе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крипты установки и конфигур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ончательная функциональная спецификац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поддержки 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пецификации и сценарии тес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Спецификации и сценарии тест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Общее опис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Спецификации на входные параметр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Спецификации на выходные дан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Среда тест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Специальные треб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Взаимозависимос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e701"/>
                </a:solidFill>
                <a:latin typeface="Arial"/>
              </a:rPr>
              <a:t>Тес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т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ст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Функциональная спецификац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417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Видение и рам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История прое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Цели дизай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ебования пользов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ные требова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ценарии использова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Исключенные возможности и неподдерживаемые сценар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Предположения и зависим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Проект реш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цептуальны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огически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изический проек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Стратегия безопас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Требования к инстал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Требования к деинсталля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Юридические требо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e701"/>
                </a:solidFill>
                <a:latin typeface="Arial"/>
              </a:rPr>
              <a:t>Рис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776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ая коман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ет прототип прило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рабатывает необходимые компоненты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Заполняет шаблон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2-03T17:25:01Z</dcterms:modified>
  <cp:revision>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