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B9DD-053C-4061-A9FE-621D495E4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246A-4B73-4AB9-81F2-B233AA88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5772-E5FC-45AD-80A4-4B90EC920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2449-F731-4F36-BEB0-90E1E1F70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6005B-9C38-4251-A933-913DCD099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25C8B-903A-4879-AD52-403A59612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858-BFCC-4AF5-B0BA-03F2FB2F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598B9-2C9C-4D3D-A93E-68CC623DC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0850D-D032-47D1-A07B-7BE38B269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6080"/>
            <a:ext cx="82296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5396-3527-4F39-8D86-6F3B660D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E008E-084A-41E4-A0EE-F0664E7F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C3D9-8D03-4372-83E5-61F467BF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D0C9C-1F85-49A9-A8DE-A6995E38E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9C54-E00C-452E-8F0C-F0B2A65B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85E1-03D3-4FD4-83C7-B96F1CB5F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0F06-C45E-47B7-A37B-D0743CD3D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30095-C0E3-446E-B704-B6D3644F3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40E-1FF5-4D87-B8E7-03801AE0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23A-FE23-41EB-BC19-F8F54B9D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0658-B4B7-48B9-AAF0-99F1D545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6080"/>
            <a:ext cx="82296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DC92-1566-4A00-9DAA-05611ADE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68A-0095-429A-9E60-0C48A5DC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4280-62AE-44ED-BE65-F2232245B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D039-887E-4E86-9A3F-CACEEA84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4C8EF-B47A-4CD9-88FD-0DF82B25D0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6D6D-DABD-48AA-9EBD-97334BBA87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ина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хождение фазы внедрения в каждой кома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580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аза внедрения. Документ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бсуждение проблем внедр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дача разработанных продуктов заказчику (в роли заказчика преподаватель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: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Внедрение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Основные задачи фаз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недрение технологий и компонент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табилизация внедренного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ередача работ персоналу поддержки и сопровожд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олучение со стороны заказчика окончательного одобрения результатами проект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лиз выполненной работы и удовлетворенности заказчи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: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Внедрение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Вех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лавная веха фазы: Внедрение завершен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комендуемые промежуточные вех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ючевые компоненты разверну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ие на местах заверше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недренное решение стабилизировано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V: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 Внедрение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Основные результат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ционные системы эксплуатации и поддерж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цедуры и процессы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азы знаний, отчеты, журналы протокол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ерсии проектных документов, массивы данных и программный код, разработанные во время проек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тчет о завершении проект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кончательные версии всех проектных документо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казатели удовлетворенности заказчика и потребител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писание последующих шаг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Внедряем разработанные систем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 роли заказчика – преподаватель и представители команд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цениваем разработанные ре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цениваем прилагаемую документац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Отчет о завершении проект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Реализация концеп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Изменения, повлиявшие на концепц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 в концеп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 в коман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 в процессах у заказч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 в процессе работы проек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 в плана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 в спецификация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зменения в графи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Дальнейшие шаги: взгляд на продолжение проекта, следующую верси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608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Постпроектный анализ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Ресурс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Управление проектом/Календарное план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Проектирование/Спецификации/Разработ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Тест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Коммуник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Команда/Организ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Инструмен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Приложение: Руководство по успешному проведению и анализу постпроектного митинг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Monotype Corsiva"/>
              </a:rPr>
              <a:t>Счастливого пути!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1-10T09:16:11Z</dcterms:modified>
  <cp:revision>9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