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3C4-3C24-40F0-8735-5227AFAD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296-AEE7-4ABD-9912-C6E8C71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4B-0158-4573-83C7-33ACBD35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B21-63E5-4BC0-A9F2-1327C5EA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054-22CD-4D40-B92C-6BAD288A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7298-6ACC-4391-A64A-416A37E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26A-F713-4B90-BC10-6E9DDE9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66C-BF58-483F-A86C-5DECFA2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94D-2F35-4BF9-B6A6-D59E9734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8453-A1B2-4CF8-8D9D-354EA214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5E5B-987E-4FD9-B7E5-330F024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EEB-4B2A-4DCB-8414-56A47A7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F647-B494-4CB0-BB4D-20944B9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3335-C027-45A1-9564-F62EAC7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2098-30F5-4766-8847-9893EB6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0030-105E-4FA5-94C9-83F77428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C194-947A-4148-BD49-755FB60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D18-2ADC-46AF-B536-CF1A5BDC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E31-69CB-443B-8DEB-25D7D09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F90-28B7-4D97-8471-26D282C2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FB3-A5AC-46E0-9AA4-8955F15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899-2150-42D5-B00C-C672BEF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2DD-9D32-4E29-9B59-7888811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78A-7D1B-442E-A304-CE51F62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2A71-64B9-48A6-AEDA-9E4F5B2DA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8FC5-0EEB-4321-86BC-7D6296680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5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хождение фазы планирования в каждой кома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ая коман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атывает дизайн и архитектуру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ет функциональную специфик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атывает планы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атывает календарный график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ирование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Основные задачи фаз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 документирование проектных треб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 функциональной специф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дизай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 рабочих пла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проектных затрат и сроков разработки различных составляющих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ирование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Вехи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веха фазы: Планы проекта утвержде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уемые промежуточные вех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ификация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ая версия функциональной спецификации соз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ая версия сводного плана проекта соз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ая версия сводного календарного графика проекта соз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ы разработки и тестирования развер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Результаты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н управления рис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ый план и сводный календарный график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ональная специфик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лан управления рис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Список главных рис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Планирование меропри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беж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отвра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ягчение послед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Планирование управления рис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дный план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дный календарный график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Общее 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разрабо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тес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коммуник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поддержки пользова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разверты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План бюдж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ункциональная специфик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Видение и рам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История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Цели диза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 пользов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ные треб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рии 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Исключенные возможности и неподдерживаемые сцена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едположения и завис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оект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цептуаль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и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Стратегия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Требования к инстал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Требования к деинстал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Юридические треб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Ри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чить работу по фазе «Планирование». Заполнить шабл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10T08:19:22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