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C8C-BA4A-4670-851B-34AAEC45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C62-C503-489F-8114-5609BDD0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25A-1D8E-40A9-B43C-F4414410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BD8-9544-4CF1-AB09-5C733226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D93F-350B-4EE7-90F9-033B67DD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BC97-F72E-4A28-B4B8-539D1837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96E4-5FAD-4B89-AB23-7DDB7513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8B0D-20EA-4C65-9785-7157EB31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F5DC-7A5F-437D-93C4-C5D1A671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05840"/>
            <a:ext cx="822960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BEA7-00D7-4154-AC06-065E8700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23CD-2930-49F1-971F-3E65030B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17C-524B-4F03-AE25-99575BA2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965A-9ACF-4C1C-86A0-99B1D67C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045D-8401-46C3-A9B6-3938F99F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38F5-C634-49C9-B43E-A4D7F851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39BD-BB87-4E4E-A0A2-639C06D7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CDA4-A562-4B54-83A9-C54803B9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712-B318-4153-B9B8-A3BBAB57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3A6-3092-4E27-A4F5-6C05AD09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E1F-1B7A-4C41-899F-A11F6045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5840"/>
            <a:ext cx="822960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709-675B-4524-9790-D6A24FB0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602-061B-4614-BC1D-2ECFE740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FD7-79AD-4568-A556-166782BE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13B-A91D-498E-8D77-11EA8CBE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C3ED-7547-4FC3-ADA9-90894C369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5D73-9A03-418E-ACC0-A062B6398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ехнологии программирования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урс на базе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Microsoft Solutions Frame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880" y="419112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ина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хождение фазы выработки концепции в каждой коман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оли в коман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Переходим к распределению рол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ная групп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F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анда рав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заинтересованы в создании качественного реш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аботка концепции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Основные задачи фаз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ядра проектной груп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видения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ка документа общего описания и рамок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ка документа оценки рисков и представление главных рисков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вление и анализ бизнес-требов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аботка концеп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Вехи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ая веха фазы: Концепция утвержд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омендуемые промежуточные вех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дро проектной группы сформирова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новой вариант концепции проекта составл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Результаты фаз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цепция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рис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а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нцепция проек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5000"/>
              </a:lnSpc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e701"/>
                </a:solidFill>
                <a:latin typeface="Arial"/>
              </a:rPr>
              <a:t>Необходимость проек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боснование необходим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идение проек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нализ выг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e701"/>
                </a:solidFill>
                <a:latin typeface="Arial"/>
              </a:rPr>
              <a:t>Концепция реш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Цели и Задач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едположения и Огранич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нализ использ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Треб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e701"/>
                </a:solidFill>
                <a:latin typeface="Arial"/>
              </a:rPr>
              <a:t>Рам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Функциональность реш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а рамками реш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ритерии одобрения реш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e701"/>
                </a:solidFill>
                <a:latin typeface="Arial"/>
              </a:rPr>
              <a:t>Стратегии дизайна реш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тратегия архитектурного дизай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тратегия технологического дизай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ценка рис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Возможные ри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Классификация рис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Анализ и приоритезация рис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труктура проек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Цели и Зада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Предположения и Ограни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Рамки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рица компромиссов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хи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ты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-график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Роли и ответств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ния, умения и навы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а кома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Протоколы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рис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конфигурац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изменен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внедрен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ижение качества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чая среда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ончить работу по фазе «Выработка концепции». Заполнить шабл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еделение задач между команд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ако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еделение ролей в команд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ая коман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ует видение про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деляет и выполняет оценку рис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ляет и анализирует бизнес-треб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 структуру про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атывает концепцию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манды и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инцип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бодный выбор, за исключени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команда – 1 зад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задача – 1 коман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SF – Microsoft Solutions Fra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e701"/>
                </a:solidFill>
                <a:latin typeface="Times New Roman"/>
              </a:rPr>
              <a:t>MSF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методология разработки программного обеспечения от компании Microsoft, опирающаяся на практический опыт компании и описывающая управление людьми и управление процессами в ходе разработки реш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еще мы знаем 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F 3.0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F 4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направления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F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ile Software Development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ид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и (процессов, проектной групп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 дисциплины (управление проектами, рисками, подготовк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SF for Agile Software Development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атриваем именно эту ветв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чем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ве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илучшим образом подходит для небольших и средних про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SF for Agile Software Develop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ответа вспомним основные принципы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ile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строе создание прототипа сист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этапное внесение функциональных изме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внесения модификаций в связи с появлением новых требований бизне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роткие интервалы между выпусками релизов сист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сное сотрудничество клиентов и разработч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проектной группы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SF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SF for Agile Software Development выделяет 7 ролевых групп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ение программ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итектура проду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т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ение выпус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влетворение потреб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ение продукт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дель проектной группы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SF for Agile Software Development выделяе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олей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неджер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ите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лиз-менедж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знес-аналит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</cp:lastModifiedBy>
  <dcterms:modified xsi:type="dcterms:W3CDTF">2006-11-10T08:15:23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