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5CA-678E-40B0-94BA-CABA7082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502-4FC8-4A70-B5C9-9D5557A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C89-92F5-4FBF-A60A-75FE29BB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BD4-94BB-4B94-9429-A3080AA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0D6A-5735-46AC-8B4D-8727E373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9661-5D12-4D69-9D16-A9AFF3D2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3525-652E-4060-A9EB-F6D4F847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013-DB2B-465F-8F02-ED40BBC5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5865-6ED4-4DF0-81F8-AAA5411C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BCB2-3255-4E2E-8357-3E90EA3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AF82-7E7E-4015-AD29-10470C3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A3A-0C75-40ED-8DA8-0D19424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593B-FA6E-4CE9-8E7A-FCADFD8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CB0-31CA-4D3D-8AE9-9B34794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3A69-01B7-4E37-A3B6-C3C8ADE0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C157-77A7-4533-9B18-1F9A1F24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82A2-AA37-4136-B68E-7E5132B9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42D-0336-4F37-BBE3-D3BD688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997-250E-40E7-92D5-59A7262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A5E-E658-4DF0-B422-AC3B79C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665-B24D-4BD3-AA15-03946E9C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F48-2F7A-4F37-AC8E-94FE1F9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DE2-AD38-49BA-8F4B-1073F90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82E-02F7-4F6A-B3F9-E3B91A3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8145-FDE7-48A9-8EAC-822E08DBE1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F820-7703-493E-8883-40AE7A8298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минар 1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тор принципов объектно-ориентированного подх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OA + OOD +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bject-oriented analysis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ктно-ориентированный анали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 desig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ъектно-ориентированное проект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 programming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ъектно-ориентированное программ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нципы объектного подх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Абстрагировани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ляем главное, выявляем виды абстр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нкапсуляци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ываем детали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ерархи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ерархия помогает разбить задачу на уровни и постепенно ее реш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Агрегация и наследовани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стракции можно создавать на основе имею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Полиморфизм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орфизм позволяет иметь естественные имена и выполнять действия, релевантные ситуации, разбираясь на этапе работы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синтаксис ООП в язык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+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овать классы для представления координатной плоскости и фигур на плоск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овать тестовое приложение. Предусмотреть движение фиг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752480"/>
            <a:ext cx="0" cy="4419720"/>
          </a:xfrm>
          <a:prstGeom prst="line">
            <a:avLst/>
          </a:prstGeom>
          <a:ln w="57240">
            <a:solidFill>
              <a:srgbClr val="00b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19920"/>
            <a:ext cx="7238880" cy="0"/>
          </a:xfrm>
          <a:prstGeom prst="line">
            <a:avLst/>
          </a:prstGeom>
          <a:ln w="5724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495680"/>
            <a:ext cx="1447920" cy="5335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362320"/>
            <a:ext cx="533520" cy="38088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743200"/>
            <a:ext cx="457200" cy="1752480"/>
          </a:xfrm>
          <a:prstGeom prst="ellipse">
            <a:avLst/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743200"/>
            <a:ext cx="761760" cy="17524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64400">
            <a:off x="2438280" y="2666880"/>
            <a:ext cx="1295640" cy="16002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467600">
            <a:off x="4419720" y="4343040"/>
            <a:ext cx="609480" cy="990720"/>
          </a:xfrm>
          <a:prstGeom prst="triangle">
            <a:avLst>
              <a:gd name="adj" fmla="val 1960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0440" y="1319040"/>
            <a:ext cx="4776840" cy="4486320"/>
          </a:xfrm>
          <a:custGeom>
            <a:avLst/>
            <a:gdLst/>
            <a:ahLst/>
            <a:rect l="l" t="t" r="r" b="b"/>
            <a:pathLst>
              <a:path w="3325" h="2826">
                <a:moveTo>
                  <a:pt x="427" y="551"/>
                </a:moveTo>
                <a:cubicBezTo>
                  <a:pt x="388" y="590"/>
                  <a:pt x="361" y="640"/>
                  <a:pt x="331" y="686"/>
                </a:cubicBezTo>
                <a:cubicBezTo>
                  <a:pt x="320" y="703"/>
                  <a:pt x="303" y="717"/>
                  <a:pt x="292" y="734"/>
                </a:cubicBezTo>
                <a:cubicBezTo>
                  <a:pt x="289" y="744"/>
                  <a:pt x="289" y="755"/>
                  <a:pt x="283" y="763"/>
                </a:cubicBezTo>
                <a:cubicBezTo>
                  <a:pt x="270" y="781"/>
                  <a:pt x="235" y="811"/>
                  <a:pt x="235" y="811"/>
                </a:cubicBezTo>
                <a:cubicBezTo>
                  <a:pt x="224" y="842"/>
                  <a:pt x="206" y="866"/>
                  <a:pt x="196" y="897"/>
                </a:cubicBezTo>
                <a:cubicBezTo>
                  <a:pt x="186" y="926"/>
                  <a:pt x="184" y="958"/>
                  <a:pt x="167" y="983"/>
                </a:cubicBezTo>
                <a:cubicBezTo>
                  <a:pt x="154" y="1002"/>
                  <a:pt x="142" y="1022"/>
                  <a:pt x="129" y="1041"/>
                </a:cubicBezTo>
                <a:cubicBezTo>
                  <a:pt x="123" y="1051"/>
                  <a:pt x="110" y="1070"/>
                  <a:pt x="110" y="1070"/>
                </a:cubicBezTo>
                <a:cubicBezTo>
                  <a:pt x="56" y="1397"/>
                  <a:pt x="0" y="1760"/>
                  <a:pt x="110" y="2078"/>
                </a:cubicBezTo>
                <a:cubicBezTo>
                  <a:pt x="127" y="2203"/>
                  <a:pt x="170" y="2378"/>
                  <a:pt x="283" y="2452"/>
                </a:cubicBezTo>
                <a:cubicBezTo>
                  <a:pt x="298" y="2502"/>
                  <a:pt x="339" y="2533"/>
                  <a:pt x="388" y="2548"/>
                </a:cubicBezTo>
                <a:cubicBezTo>
                  <a:pt x="428" y="2575"/>
                  <a:pt x="470" y="2603"/>
                  <a:pt x="513" y="2625"/>
                </a:cubicBezTo>
                <a:cubicBezTo>
                  <a:pt x="534" y="2636"/>
                  <a:pt x="617" y="2653"/>
                  <a:pt x="619" y="2654"/>
                </a:cubicBezTo>
                <a:cubicBezTo>
                  <a:pt x="723" y="2687"/>
                  <a:pt x="826" y="2694"/>
                  <a:pt x="935" y="2702"/>
                </a:cubicBezTo>
                <a:cubicBezTo>
                  <a:pt x="1575" y="2801"/>
                  <a:pt x="2246" y="2826"/>
                  <a:pt x="2865" y="2663"/>
                </a:cubicBezTo>
                <a:cubicBezTo>
                  <a:pt x="2977" y="2590"/>
                  <a:pt x="3108" y="2522"/>
                  <a:pt x="3182" y="2404"/>
                </a:cubicBezTo>
                <a:cubicBezTo>
                  <a:pt x="3208" y="2363"/>
                  <a:pt x="3217" y="2313"/>
                  <a:pt x="3239" y="2270"/>
                </a:cubicBezTo>
                <a:cubicBezTo>
                  <a:pt x="3255" y="2192"/>
                  <a:pt x="3264" y="2105"/>
                  <a:pt x="3287" y="2030"/>
                </a:cubicBezTo>
                <a:cubicBezTo>
                  <a:pt x="3269" y="1463"/>
                  <a:pt x="3325" y="1534"/>
                  <a:pt x="3191" y="1185"/>
                </a:cubicBezTo>
                <a:cubicBezTo>
                  <a:pt x="3159" y="1102"/>
                  <a:pt x="3131" y="1019"/>
                  <a:pt x="3067" y="955"/>
                </a:cubicBezTo>
                <a:cubicBezTo>
                  <a:pt x="3034" y="861"/>
                  <a:pt x="3090" y="1014"/>
                  <a:pt x="3028" y="887"/>
                </a:cubicBezTo>
                <a:cubicBezTo>
                  <a:pt x="3022" y="875"/>
                  <a:pt x="3025" y="860"/>
                  <a:pt x="3019" y="849"/>
                </a:cubicBezTo>
                <a:cubicBezTo>
                  <a:pt x="3012" y="837"/>
                  <a:pt x="2999" y="830"/>
                  <a:pt x="2990" y="820"/>
                </a:cubicBezTo>
                <a:cubicBezTo>
                  <a:pt x="2972" y="799"/>
                  <a:pt x="2960" y="773"/>
                  <a:pt x="2942" y="753"/>
                </a:cubicBezTo>
                <a:cubicBezTo>
                  <a:pt x="2918" y="726"/>
                  <a:pt x="2895" y="696"/>
                  <a:pt x="2865" y="676"/>
                </a:cubicBezTo>
                <a:cubicBezTo>
                  <a:pt x="2846" y="663"/>
                  <a:pt x="2807" y="638"/>
                  <a:pt x="2807" y="638"/>
                </a:cubicBezTo>
                <a:cubicBezTo>
                  <a:pt x="2780" y="596"/>
                  <a:pt x="2721" y="553"/>
                  <a:pt x="2673" y="542"/>
                </a:cubicBezTo>
                <a:cubicBezTo>
                  <a:pt x="2442" y="387"/>
                  <a:pt x="2151" y="387"/>
                  <a:pt x="1886" y="340"/>
                </a:cubicBezTo>
                <a:cubicBezTo>
                  <a:pt x="1562" y="342"/>
                  <a:pt x="701" y="0"/>
                  <a:pt x="407" y="427"/>
                </a:cubicBezTo>
                <a:cubicBezTo>
                  <a:pt x="376" y="525"/>
                  <a:pt x="377" y="467"/>
                  <a:pt x="388" y="609"/>
                </a:cubicBezTo>
                <a:cubicBezTo>
                  <a:pt x="385" y="622"/>
                  <a:pt x="384" y="635"/>
                  <a:pt x="379" y="647"/>
                </a:cubicBezTo>
                <a:cubicBezTo>
                  <a:pt x="374" y="658"/>
                  <a:pt x="359" y="676"/>
                  <a:pt x="359" y="67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809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дуль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Структур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Arial"/>
              </a:rPr>
              <a:t>Модульное программ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жные задачи порождают сложные программные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сложные зада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то не те задачи, которые не может решить конкретный человек (коллектив). Задачи сложны сами по себе по своей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бороться со сложность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ПО по сути проблем похожа на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создания ПО имеет много аналогий с производственным процессом (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удостроен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любом производстве есть способы преодоления слож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хнолог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Технология программир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овокупность методов, приемов и средств для сокращения стоимости и повышения качества разработки программны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вестные технологии программ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руктурное программ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ма о базисных конструк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дин вход и один вы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безусловным переходам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ераторы ЯП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одульное программ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биение задачи на подзадачи до тех пор, пока они не станут прост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ход к коллективной разработ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программы, модули ЯП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ческие основы языков программирования высокого уров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жность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и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ое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ульное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Объект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и алгоритмическая декомпозиция. Алгоритмы, классы и объ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Проек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ОО Программ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Принципы объектного под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ъектный подход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енных технологий стало недостаточно вследствие роста сложности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бъектно-ориентированная технолог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ектный подх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ктная декомпозиция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отличия от алгоритмическ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ктная модель (классы + объект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09T09:16:01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