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BB62-4CC0-4B20-AC93-689FEC1BE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5BE1-E135-4E73-B44B-3BA4217B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E751-995D-40CB-8093-6259F3BF1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ABA5-A9E1-4958-A332-491AC991A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2019-CB99-49CF-ADDE-D6A400130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5C88-23FC-469E-B5C1-D9E08E4D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DBD4-E159-468F-B732-2C4B5188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85AD-685C-4DFD-81EC-1CB2E911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E085-A93B-49C0-A0D7-1E329BA2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9139-5111-41C0-8199-66C53D13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76D7-6245-4940-A950-CC1D2E8F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803D-AB20-49CD-BF2A-1A81F40F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6119-4BEA-49E3-A5A5-064AF0AD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6308-76C1-4805-A049-7FE497E1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D08B-9836-482E-AD4C-187B765D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EC78-21E9-473A-A49C-1945AEEA4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E6C7-7E17-4B49-A46A-3AC7F963D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94F0-2288-4BFE-A090-36979179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DA89-4199-407D-A720-29E89E93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710F-3041-48F5-8300-3AB204B5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077E-6973-4E92-A7A2-B1DA42F2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D0C2-98DB-447D-98C3-1FABC4F4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70E0-CD28-40FD-9958-6DD1BD68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F979-CA6F-42E7-9948-645B72B1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9D88-9398-4725-BA9A-8B84CC8290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2448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FE38-4A19-464B-8AC9-F14EF4F598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2448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Технологии программирования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Курс на базе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Monotype Corsiva"/>
              </a:rPr>
              <a:t>Microsoft Solutions Framewo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952880" y="4191120"/>
            <a:ext cx="2819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еминар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.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Знакомство с построением диаграмм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ариантов использован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Диаграмма вариантов использовани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35000" y="1441440"/>
          <a:ext cx="8748720" cy="500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5000" y="1441440"/>
                    <a:ext cx="8748720" cy="50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Пример 1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Транслятор выражений..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остановка задач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обходимо реализовать систему, позволяющую вводить арифметические выражения в строковом виде и вычислять их знач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Пример 1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Транслятор выражений..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1376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ализ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701"/>
                </a:solidFill>
                <a:latin typeface="Arial"/>
              </a:rPr>
              <a:t>Вхо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трока – арифметическое выра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пустим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ерац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+, -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еранды – вещественные числа в форм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-]&lt;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фр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gt;[.&lt;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фр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gt;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701"/>
                </a:solidFill>
                <a:latin typeface="Arial"/>
              </a:rPr>
              <a:t>Выхо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результ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обходимо обрабатывать ошиб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обходимо сохранять выражения в файл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обходимо предусмотреть сохранение выражений в промежуточном формате для ускоренного вычисл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Пример 1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Транслятор выражени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таем в команда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делим актер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делим варианты использ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троим диаграмм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 rot="20517000">
            <a:off x="3809880" y="3429000"/>
            <a:ext cx="19051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High Tower Text"/>
              </a:rPr>
              <a:t>?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плата зарплаты через банкомат.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остановка задач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обходимо реализовать систему, позволяющую выплачивать людям зарплату через банкома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плата зарплаты через банкомат.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1376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ализ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ть банковский счет, на который начисляется зарпла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ловек подходит к банкомату, вставляет карту. Возможные действ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просить остаток на счет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просить снять определенную сумму дене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обходимо предусмотреть механизм авторизации. Неправильный ввод пароля не более 2 ра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обходимо предусмотреть механизм защиты от сбое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плата зарплаты через банкома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таем в команда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делим актер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делим варианты использ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троим диаграмм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 rot="20517000">
            <a:off x="3809880" y="3429000"/>
            <a:ext cx="19051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High Tower Text"/>
              </a:rPr>
              <a:t>?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Домашнее задание..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писать сценарии вариантов использования в рассмотренных задач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724280" y="2133720"/>
          <a:ext cx="1828800" cy="93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2133720"/>
                    <a:ext cx="182880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987560" y="1676520"/>
          <a:ext cx="614520" cy="1868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7560" y="1676520"/>
                    <a:ext cx="614520" cy="18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2590920" y="2438280"/>
          <a:ext cx="1752480" cy="176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90920" y="2438280"/>
                    <a:ext cx="1752480" cy="1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4267080" y="3581280"/>
            <a:ext cx="2971800" cy="2438640"/>
          </a:xfrm>
          <a:prstGeom prst="rect">
            <a:avLst/>
          </a:prstGeom>
          <a:solidFill>
            <a:srgbClr val="fffbd9"/>
          </a:solidFill>
          <a:ln w="1908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392720" y="3646440"/>
          <a:ext cx="2743200" cy="2308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392720" y="3646440"/>
                    <a:ext cx="2743200" cy="23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Содержание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биение группы на коман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fied Modeling Language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M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ктеры и варианты использования 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аграмма вариантов использо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деление актеров и вариантов использо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транслятор выраж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ыдача зарплаты через банком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76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Разбиение группы на команд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Monotype Corsiva"/>
              </a:rPr>
              <a:t>Разбиваемся на команды по 5-6 человек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905120" y="2567160"/>
            <a:ext cx="541008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UML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визуального моделирования нужна специальная нотация ил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язы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UML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unified modeling language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 </a:t>
            </a:r>
            <a:r>
              <a:rPr b="1" lang="ru-RU" sz="2000" spc="-1" strike="noStrike">
                <a:solidFill>
                  <a:srgbClr val="99ff33"/>
                </a:solidFill>
                <a:latin typeface="Arial"/>
              </a:rPr>
              <a:t>язык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изуализаци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ецифицирования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струировани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кументир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лементов программных сист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M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зык общего назначения, предназначенный для объектного моделиро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Модели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UML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ML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воляет описывать систему следующими </a:t>
            </a:r>
            <a:r>
              <a:rPr b="1" lang="ru-RU" sz="2400" spc="-1" strike="noStrike">
                <a:solidFill>
                  <a:srgbClr val="99ff33"/>
                </a:solidFill>
                <a:latin typeface="Arial"/>
              </a:rPr>
              <a:t>моделям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533520" algn="just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одель функционир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 описывается функциональность системы с точки зрения пользовате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533520" algn="just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ъектная мод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 выглядит проект системы с точки зрения объектного подх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533520" algn="just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инамическая мод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 взаимодействуют друг с другом компоненты системы в динамике, с течением времени. Какие процессы происходят в систем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Диаграммы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UML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Диаграмм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ML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редназначены для визуального отображения </a:t>
            </a:r>
            <a:r>
              <a:rPr b="1" lang="ru-RU" sz="2800" spc="-1" strike="noStrike">
                <a:solidFill>
                  <a:srgbClr val="99ff33"/>
                </a:solidFill>
                <a:latin typeface="Arial"/>
              </a:rPr>
              <a:t>моделе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их компонен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ML 2.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f52727"/>
                </a:solidFill>
                <a:latin typeface="Arial"/>
              </a:rPr>
              <a:t>1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ипов диаграм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уктурные диаграммы (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аграммы поведения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аграммы взаимодействия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Понятия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UML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44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Для описания структуры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е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трибу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лас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онен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терфей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ъек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ке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Для описания поведения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йств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быт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обще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ерац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стоя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риант использован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Для описания связей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грегац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оциац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озиц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висимост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следова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екоторые другие понятия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ереотип, Кратность, Ро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9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Актеры и Варианты использования в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UM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123720" y="2133720"/>
            <a:ext cx="57913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ктер в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M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ловек, машина  или программа, воздействует на систему, является внешним по отношению к н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80880" y="4724280"/>
          <a:ext cx="2590920" cy="132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724280"/>
                    <a:ext cx="2590920" cy="13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231920" y="1676520"/>
          <a:ext cx="901800" cy="2743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31920" y="1676520"/>
                    <a:ext cx="9018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3124080" y="4648320"/>
            <a:ext cx="57913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ариант использования в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M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исание последовательности действий – (часто с вариантами – сценариями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Связь актеров и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вариантов использовани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533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ктеры и варианты использования общаются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посредством посылки сообщ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533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общения могут идти в обе сторо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533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релка показывает инициатора общения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(актер на рисунке) и может быть опуще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076720" y="4022640"/>
          <a:ext cx="3733920" cy="190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4022640"/>
                    <a:ext cx="3733920" cy="19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581040" y="3641760"/>
          <a:ext cx="901800" cy="2743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1040" y="3641760"/>
                    <a:ext cx="9018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1336680" y="4784760"/>
          <a:ext cx="3657600" cy="366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36680" y="4784760"/>
                    <a:ext cx="365760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M</cp:lastModifiedBy>
  <dcterms:modified xsi:type="dcterms:W3CDTF">2006-11-09T09:56:58Z</dcterms:modified>
  <cp:revision>9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