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A50-CFD1-4E13-AC80-540EE5EB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AAD-0DC3-43D2-9658-A0116F8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1BB-7C40-4842-B096-5F90552A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375-A4EE-471E-837C-7E0626CF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F146-482C-4B2E-B688-A3B82878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C85A-B2CD-46E1-A02E-9B1A888C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9B92-F8CC-4A11-B396-6B0CD227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364F-1DF7-42C5-835F-90D5832E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7BBD-D19C-474B-8968-AB507756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4724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BB26-47CC-483A-8702-54CC0AB6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3210-05C8-4F18-A1F9-16A56CFE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781-8674-4583-BA7C-6FC37A69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F3A1-CDB9-4BFE-9065-8FABACA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FC3A-023E-40EC-B38E-60D0CA9D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63DF-EACF-4627-BDCC-D451351D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F70C-D58B-46CE-A56A-7013858D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92A5-ACF0-48C4-B2AA-A90E3046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790-E3D7-43CE-BC61-42B680CA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483-75BD-4F93-8B17-89D07FBB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373-F7E1-4E2B-B8E7-075A4CEB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724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5A6-7C5E-4D1F-818F-2C9B9F52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606-1A1E-49AF-8D3D-F73A8DDD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E423-8370-49BF-A702-05F3E204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D62-2271-4DEB-9106-8595DFB3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35CE-D3FF-4078-BB66-FBB448318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4D7E-BBD6-4CDE-9038-6B1728C35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ехнологии программирования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урс на базе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Microsoft Solutions Frame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880" y="419112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минар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накомство с построением диаграмм классов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истема взаимодействия коман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ство фирмы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nes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” пришло к выводу, что производительность труда ее сотрудников не достаточно полно соответствует громкому имени компа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езультате проведенных исследований была выявлена основная причина – недостаточная эффективность обмена информацией между сотрудни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решения руководство видит внедрение единого средства электронной коммуник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делу разработчиков компании поручено создать систему, включающую в себя почтовый инструмент и инструмент для обмена мгновенными сообщ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чет работы персон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мпании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ic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” были проведены исследования, в результате которых компания поняла, что теряет достаточно много средств из-за не всегда равномерного распределения зарпла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оме денежных потерь есть и недовольство персонала, которое вызвано тем, что те, кто много работают, и  те, кто мало, получают одинаковые зарпл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ания решила изменить данную ситуацию. Вашей компании предложили выработать решение описанной пробл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истема бронирования билетов для авиакомпан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200" y="1463760"/>
            <a:ext cx="89172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 рынок вышла новая авиакомпания «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lobalAvia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». Менеджеры компании решили заказать у вашей фирмы разработку системы бронирования билет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заказе фирма поставила ряд условий, которые обязательно должны быть выполнен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первой версии системы они хотят видеть две части. В первой требуется заносить необходимую информацию. Со второй частью будут работать покупатели биле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формулировании требований менеджеры упомянули, что рейсы у них спланированы так, что до пункта назначения можно долететь с пересадками за разное время и с разным комфорт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дно из требований заключалось в том, что бы система помогала покупать билеты в зависимости от требований пользовате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истема управления проект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компании 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erSoft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” возникла потребность автоматизировать управление проектами. В силу того, что компания существует на рынке разработки ПО недавно и не обладает достаточным количеством свободных финансовых средств, было принято решение не покупать системы управления проектами тип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crosoft Project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стоимость коробочной версии от $600), а разработать собственное простое реш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истема управления проектами должна иметь единую базу проектов, подключаться к которой могут менеджеры и исполнител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держимое базы составляет информация о ведущихся в компании проекта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истема контроля и распределения ресур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 for yo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” профессионально занимается подготовкой и проведением презентаций для фир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фирме за последние несколько кварталов сильно увеличился объем заказов. В результате постоянно стали наблюдаться ситуации, когда презентации задерживались из-за нехватки каких-либо ресурсов (аудиторий, проекторов, досок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фирме были проведены исследования и было установлено, что ситуация сильно улучшится, если у фирмы появится электронная система распределения ресурсов, а не бумажная как это было ра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анализировать постановку выбранной зада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метить перечень вопросов по сути задачи и требуемой функциона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ход от диаграмм вариантов использования к диаграммам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вучивание кратких постановок зада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ереход от диаграмм вариантов использования к диаграммам клас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аграмма вариантов использова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Актеры + Варианты исполь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использова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ценарий (диаграмма действ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основе результатов анализа формируем список классов, основные поля и мето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ем, как классы связаны между соб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анслятор выраже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ем в команда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им диаграмму клас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 rot="20517000">
            <a:off x="3809880" y="3429000"/>
            <a:ext cx="1905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igh Tower Text"/>
              </a:rPr>
              <a:t>?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лата зарплаты через банком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ем в команда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им диаграмму клас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20517000">
            <a:off x="3809880" y="3429000"/>
            <a:ext cx="1905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igh Tower Text"/>
              </a:rPr>
              <a:t>?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раткие постановки зада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e701"/>
                </a:solidFill>
                <a:latin typeface="Arial"/>
              </a:rPr>
              <a:t>Работаем в командах</a:t>
            </a:r>
            <a:r>
              <a:rPr b="1" i="1" lang="en-US" sz="3200" spc="-1" strike="noStrike">
                <a:solidFill>
                  <a:srgbClr val="ffe701"/>
                </a:solidFill>
                <a:latin typeface="Arial"/>
              </a:rPr>
              <a:t>: </a:t>
            </a:r>
            <a:br>
              <a:rPr sz="3200"/>
            </a:br>
            <a:r>
              <a:rPr b="1" i="1" lang="ru-RU" sz="3200" spc="-1" strike="noStrike">
                <a:solidFill>
                  <a:srgbClr val="ffe701"/>
                </a:solidFill>
                <a:latin typeface="Arial"/>
              </a:rPr>
              <a:t>выбираем для себя зада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 rot="20727000">
            <a:off x="3809880" y="3047760"/>
            <a:ext cx="1905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igh Tower Text"/>
              </a:rPr>
              <a:t>!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стема обработки метеоинформаци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2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рма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Mete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” желает заказать у вас систему обработки метеоинформации, состоящую из двух ча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ая предназначена для создания и редактирования карт мест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ая для нанесения на карты движения воздушных масс и циклон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сс движения должен задаваться форму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целом система должна давать возможность благодаря анимации получить наглядное представление об изменении метеоусловий на несколько дней впер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дактор математических форму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200" y="1447560"/>
            <a:ext cx="888552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рма «OurResearch» занимается написанием математических программ по заказ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в фирме часто приходится писать отчеты заказчи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написании отчетов заказчик хочет видеть в отчетах математические формулы в классическом ви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Вашей фирмы  компания решила заказать удобное средство для перевода и написания математических выражений в разные форматы представ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ем, если в редакторе присутствует ряд взаимосвязанных формул, то фирма хочет видеть адекватный к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42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известно, что фирма часто использует C/C++, Pascal и Fortr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Web-сервис (на основе сокетов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520" y="1599840"/>
            <a:ext cx="87789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обходимо реализовать на стороне сервера хранилище, в которое можно помещать алгоритмы в некотором стандартном виде, а потом исполнять их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ля простоты алгоритмы могут представлять собой математические формул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 алгоритмах должны быть заявлены следующие данны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ходные данны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ходные данны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од алгоритм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оступ к алгоритмам должен быть ограничен на основе разделения прав по роля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</cp:lastModifiedBy>
  <dcterms:modified xsi:type="dcterms:W3CDTF">2006-11-09T10:29:02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